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6.gif" ContentType="image/gif"/>
  <Override PartName="/ppt/media/image2.wmf" ContentType="image/x-wmf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D23-4198-46F9-A4C7-5C0F460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F41-2575-4322-9F88-E48ADF04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199-34AB-4CDF-A2D8-65A86432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D7D-FC50-48A3-A489-80C07801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631-DB61-46C5-8519-26803EB3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CC5-086B-4792-BF81-CBA1805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FED-8770-4046-A47E-0C5B103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D2B-FFBC-44EF-B121-EB328B4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AC3-1A14-4661-892C-42BA54F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B25-2A56-4D27-96CF-B6BAEAC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B1E-864D-4DF5-8923-91D586A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D21-A9E3-4F8E-AB46-5FF5462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44E-79A8-468D-926E-3E5BC7AC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301,25,&#24187;&#28783;&#29255; 25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84560"/>
            <a:ext cx="914400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87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课 　抗日战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26028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宋体"/>
              </a:rPr>
              <a:t>第四单元  近代中国反侵略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1000"/>
                    </a:srgbClr>
                  </a:outerShdw>
                </a:effectLst>
                <a:latin typeface="宋体"/>
              </a:rPr>
              <a:t>求民主的潮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1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7280" y="4437000"/>
            <a:ext cx="51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95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937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“卢沟桥事变”日本全面侵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546200"/>
            <a:ext cx="2588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*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1981080"/>
            <a:ext cx="6477120" cy="449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84720" y="90792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bbe0e3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6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局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6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459640" y="6159600"/>
            <a:ext cx="398520" cy="36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50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黑体"/>
              </a:rPr>
              <a:t>日本全面侵华的标志全民族抗战的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8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本侵华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81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93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年７月７日，日本陆军参谋本部制定了《在华北行使兵力时对华战争指导纲要》，日本政府决定动员４０万兵力，妄图用武力三月亡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50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军的滔天罪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640" y="175248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南京大屠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39320" y="2209680"/>
            <a:ext cx="1399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潘家峪惨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8480" y="2590920"/>
            <a:ext cx="789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七三一部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19780" b="11972"/>
          <a:stretch/>
        </p:blipFill>
        <p:spPr>
          <a:xfrm>
            <a:off x="2666880" y="1828800"/>
            <a:ext cx="330048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590920" y="1143000"/>
            <a:ext cx="3384360" cy="703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屠杀中国百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00" y="189000"/>
            <a:ext cx="10947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5257800"/>
            <a:ext cx="1981440" cy="1447920"/>
          </a:xfrm>
          <a:custGeom>
            <a:avLst/>
            <a:gdLst>
              <a:gd name="textAreaLeft" fmla="*/ 90360 w 1981440"/>
              <a:gd name="textAreaRight" fmla="*/ 1891080 w 198144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29557" h="21600">
                <a:moveTo>
                  <a:pt x="0" y="0"/>
                </a:moveTo>
                <a:lnTo>
                  <a:pt x="29557" y="0"/>
                </a:lnTo>
                <a:lnTo>
                  <a:pt x="29557" y="21600"/>
                </a:lnTo>
                <a:lnTo>
                  <a:pt x="0" y="21600"/>
                </a:lnTo>
                <a:close/>
              </a:path>
              <a:path fill="lightenLess" w="29557" h="21600">
                <a:moveTo>
                  <a:pt x="0" y="0"/>
                </a:moveTo>
                <a:lnTo>
                  <a:pt x="29557" y="0"/>
                </a:lnTo>
                <a:lnTo>
                  <a:pt x="28207" y="1350"/>
                </a:lnTo>
                <a:lnTo>
                  <a:pt x="1350" y="1350"/>
                </a:lnTo>
                <a:close/>
              </a:path>
              <a:path fill="darken" w="29557" h="21600">
                <a:moveTo>
                  <a:pt x="29557" y="0"/>
                </a:moveTo>
                <a:lnTo>
                  <a:pt x="29557" y="21600"/>
                </a:lnTo>
                <a:lnTo>
                  <a:pt x="28207" y="20250"/>
                </a:lnTo>
                <a:lnTo>
                  <a:pt x="28207" y="1350"/>
                </a:lnTo>
                <a:close/>
              </a:path>
              <a:path fill="darkenLess" w="29557" h="21600">
                <a:moveTo>
                  <a:pt x="2955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207" y="20250"/>
                </a:lnTo>
                <a:close/>
              </a:path>
              <a:path fill="lighten" w="2955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9557" h="21600">
                <a:moveTo>
                  <a:pt x="7735" y="7283"/>
                </a:moveTo>
                <a:lnTo>
                  <a:pt x="8654" y="7283"/>
                </a:lnTo>
                <a:lnTo>
                  <a:pt x="9039" y="7650"/>
                </a:lnTo>
                <a:lnTo>
                  <a:pt x="18296" y="7650"/>
                </a:lnTo>
                <a:lnTo>
                  <a:pt x="18856" y="8210"/>
                </a:lnTo>
                <a:lnTo>
                  <a:pt x="18856" y="8761"/>
                </a:lnTo>
                <a:lnTo>
                  <a:pt x="20711" y="8761"/>
                </a:lnTo>
                <a:lnTo>
                  <a:pt x="21079" y="8210"/>
                </a:lnTo>
                <a:lnTo>
                  <a:pt x="21822" y="8210"/>
                </a:lnTo>
                <a:lnTo>
                  <a:pt x="21822" y="13390"/>
                </a:lnTo>
                <a:lnTo>
                  <a:pt x="21079" y="13390"/>
                </a:lnTo>
                <a:lnTo>
                  <a:pt x="20711" y="12839"/>
                </a:lnTo>
                <a:lnTo>
                  <a:pt x="18856" y="12839"/>
                </a:lnTo>
                <a:lnTo>
                  <a:pt x="18856" y="14125"/>
                </a:lnTo>
                <a:lnTo>
                  <a:pt x="9222" y="14125"/>
                </a:lnTo>
                <a:lnTo>
                  <a:pt x="9222" y="9873"/>
                </a:lnTo>
                <a:lnTo>
                  <a:pt x="9039" y="9873"/>
                </a:lnTo>
                <a:lnTo>
                  <a:pt x="8654" y="10240"/>
                </a:lnTo>
                <a:lnTo>
                  <a:pt x="7735" y="10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586800" y="18900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01080" cy="424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62064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军制造潘家峪惨案，死难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2834" t="1233" r="2137" b="1233"/>
          <a:stretch/>
        </p:blipFill>
        <p:spPr>
          <a:xfrm>
            <a:off x="1467000" y="0"/>
            <a:ext cx="59133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32000" y="692280"/>
            <a:ext cx="3745080" cy="267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2852640"/>
            <a:ext cx="381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3357720"/>
            <a:ext cx="3745080" cy="1556280"/>
          </a:xfrm>
          <a:prstGeom prst="rect">
            <a:avLst/>
          </a:prstGeom>
          <a:solidFill>
            <a:srgbClr val="dddddd">
              <a:alpha val="6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图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被日本遗留在齐齐哈尔的化学武器——芥子气中毒致死的河南民工李贵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586800" y="189000"/>
            <a:ext cx="2009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暴行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之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3520" y="115920"/>
            <a:ext cx="1642680" cy="65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制细菌和化学武器，用活人进行实验在二十多个省实施细菌战和毒气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49360"/>
            <a:ext cx="0" cy="2808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854920" y="656892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5867280" y="0"/>
            <a:ext cx="3276720" cy="3618000"/>
            <a:chOff x="5867280" y="0"/>
            <a:chExt cx="3276720" cy="36180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5867280" y="264960"/>
              <a:ext cx="327672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6705360" y="0"/>
              <a:ext cx="213696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奴化教育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971800" y="1066680"/>
            <a:ext cx="2971800" cy="3200400"/>
            <a:chOff x="2971800" y="1066680"/>
            <a:chExt cx="2971800" cy="320040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971800" y="1676160"/>
              <a:ext cx="2971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3352680" y="106668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经济掠夺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0" y="1828800"/>
            <a:ext cx="2971800" cy="3465360"/>
            <a:chOff x="0" y="1828800"/>
            <a:chExt cx="2971800" cy="3465360"/>
          </a:xfrm>
        </p:grpSpPr>
        <p:sp>
          <p:nvSpPr>
            <p:cNvPr id="122" name=""/>
            <p:cNvSpPr txBox="1"/>
            <p:nvPr/>
          </p:nvSpPr>
          <p:spPr>
            <a:xfrm>
              <a:off x="380880" y="182880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大肆屠杀</a:t>
              </a:r>
              <a:endPara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0" y="2475000"/>
              <a:ext cx="2971800" cy="28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819520" y="1981080"/>
            <a:ext cx="63244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全民族的抗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亡国灭种的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日矛盾上升为主要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429000"/>
            <a:ext cx="748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00"/>
                  </a:solidFill>
                  <a:beve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中华民族到了最危险的时候</a:t>
            </a:r>
            <a:endParaRPr b="1" lang="en-US" sz="4400" spc="1" strike="noStrike">
              <a:ln w="12600">
                <a:solidFill>
                  <a:srgbClr val="ff0000"/>
                </a:solidFill>
                <a:bevel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5105520"/>
            <a:ext cx="76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0000"/>
                  </a:solidFill>
                  <a:beve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每个人被迫发出最后的吼声</a:t>
            </a:r>
            <a:endParaRPr b="1" lang="en-US" sz="4400" spc="1" strike="noStrike">
              <a:ln w="12600">
                <a:solidFill>
                  <a:srgbClr val="ff0000"/>
                </a:solidFill>
                <a:bevel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34160" y="2286000"/>
            <a:ext cx="308124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79280" y="2565360"/>
            <a:ext cx="5578560" cy="1871640"/>
            <a:chOff x="179280" y="2565360"/>
            <a:chExt cx="5578560" cy="1871640"/>
          </a:xfrm>
        </p:grpSpPr>
        <p:sp>
          <p:nvSpPr>
            <p:cNvPr id="132" name=""/>
            <p:cNvSpPr/>
            <p:nvPr/>
          </p:nvSpPr>
          <p:spPr>
            <a:xfrm>
              <a:off x="179280" y="2565360"/>
              <a:ext cx="5578560" cy="1871640"/>
            </a:xfrm>
            <a:prstGeom prst="cloudCallout">
              <a:avLst>
                <a:gd name="adj1" fmla="val 52449"/>
                <a:gd name="adj2" fmla="val 63314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c0c0c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080" y="2959200"/>
              <a:ext cx="4592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我听到这个消息，感动得几乎要下泪”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04920" y="380880"/>
            <a:ext cx="87058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以第二次国共合作为基础的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抗日民族统一战线形成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630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37---194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全民族抗战时期的主要军事斗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105520"/>
            <a:ext cx="1657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</a:rPr>
              <a:t>百团大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422280" y="2276640"/>
            <a:ext cx="103356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战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协同作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2276640"/>
            <a:ext cx="144360" cy="30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民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1280" y="5105520"/>
            <a:ext cx="72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产党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敌后战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下半年发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227664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54864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12000" y="227808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230560"/>
            <a:ext cx="24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9440" y="1341360"/>
            <a:ext cx="186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淞沪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184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太原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438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徐州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9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武汉会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59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03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1763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22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0720" y="2844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60720" y="3348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137808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破了日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灭亡中国的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916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得了抗战以来的首次大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249228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得了抗战以来的最大胜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997360"/>
            <a:ext cx="36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日战争进入到相持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6720" y="2276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292428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190512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平型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91640" y="253044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台儿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3789360"/>
            <a:ext cx="208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</a:rPr>
              <a:t>远征缅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789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国际战场的开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170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面战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1522440"/>
            <a:ext cx="289080" cy="1873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3341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2708280"/>
            <a:ext cx="287280" cy="2162160"/>
          </a:xfrm>
          <a:prstGeom prst="upDownArrow">
            <a:avLst>
              <a:gd name="adj1" fmla="val 50000"/>
              <a:gd name="adj2" fmla="val 15052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1480" y="2997360"/>
            <a:ext cx="911880" cy="144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相互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06560" y="2997360"/>
            <a:ext cx="911880" cy="144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相互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6421320"/>
            <a:ext cx="469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228600"/>
            <a:ext cx="7777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三、抗日战争的伟大胜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871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日本被迫宣布无条件投降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5909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　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1945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年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9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日本侵华军总司令冈村宁茨向中国战区陆军总司令何应钦递呈降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程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9636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列举侵华日军的罪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简述中国军民抗日斗争的主要史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理解全民族团结抗战的重要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探讨抗日战争胜利在中国反抗侵略斗争的历史地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抗战爆发时中日力量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工业总产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生铁产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.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钢产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石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军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亿美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产飞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产坦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1143000"/>
            <a:ext cx="861048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抗战胜利的原因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说一说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3808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抗日战争胜利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523880"/>
            <a:ext cx="85694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国共合作，抗日民族统一战线建立，中国实行了全民族抗战（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根本原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国际反法西斯联盟的有力支持和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日本发动的是侵略的、非正义的法西斯战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45000" t="24671" r="23001" b="43338"/>
          <a:stretch/>
        </p:blipFill>
        <p:spPr>
          <a:xfrm>
            <a:off x="4390920" y="3527280"/>
            <a:ext cx="457848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79280" y="71280"/>
            <a:ext cx="4027320" cy="3438360"/>
            <a:chOff x="179280" y="71280"/>
            <a:chExt cx="4027320" cy="343836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179280" y="71280"/>
              <a:ext cx="402732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5640" y="3141360"/>
              <a:ext cx="31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中英《南京条约》签字仪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894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3546360"/>
            <a:ext cx="4427640" cy="3311640"/>
            <a:chOff x="0" y="3546360"/>
            <a:chExt cx="4427640" cy="3311640"/>
          </a:xfrm>
        </p:grpSpPr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0" y="3546360"/>
              <a:ext cx="442764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0" y="623700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《辛丑条约》签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00000" y="2997360"/>
            <a:ext cx="777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所给图片思考：抗日战争的胜利在国内和国际上有何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32000" y="0"/>
            <a:ext cx="208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扬眉吐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69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抗日战争胜利的意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国际、国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43828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）就国内而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黑体"/>
                <a:ea typeface="黑体"/>
              </a:rPr>
              <a:t>①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是中国人民一百多年来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第一次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取得反对外来侵略斗争的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完全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胜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黑体"/>
                <a:ea typeface="黑体"/>
              </a:rPr>
              <a:t>②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大大增强了全国人民的民族自尊心和自信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1600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5638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如没有中国，假如中国被打垮了，你想有多少个师团的日本兵，可以调到其他方面来作战，他们可以马上打下澳洲，打下印度…… ”—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罗斯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中美英三国首脑蒋介石、罗斯福、丘吉尔于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日在开罗发表宣言，宣示了协同对日作战的宗旨，承诺了处置日本侵略者的安排。这就是有名的《开罗宣言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867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抗日战争胜利的意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国际、国内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133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）就国际而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①是世界反法西斯战争的重要组成部分，为世界反法西斯战争的胜利做出巨大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②提高了中国的国际地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的中国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0600" y="1247760"/>
            <a:ext cx="4762800" cy="4362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162920" y="5410080"/>
            <a:ext cx="1523880" cy="685800"/>
          </a:xfrm>
          <a:custGeom>
            <a:avLst/>
            <a:gdLst>
              <a:gd name="textAreaLeft" fmla="*/ 42840 w 1523880"/>
              <a:gd name="textAreaRight" fmla="*/ 1481040 w 152388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632" y="1350"/>
                </a:lnTo>
                <a:lnTo>
                  <a:pt x="1350" y="13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632" y="20250"/>
                </a:lnTo>
                <a:lnTo>
                  <a:pt x="46632" y="13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632" y="202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982" h="21600">
                <a:moveTo>
                  <a:pt x="16947" y="7283"/>
                </a:moveTo>
                <a:lnTo>
                  <a:pt x="17866" y="7283"/>
                </a:lnTo>
                <a:lnTo>
                  <a:pt x="18251" y="7650"/>
                </a:lnTo>
                <a:lnTo>
                  <a:pt x="27509" y="7650"/>
                </a:lnTo>
                <a:lnTo>
                  <a:pt x="28069" y="8210"/>
                </a:lnTo>
                <a:lnTo>
                  <a:pt x="28069" y="8761"/>
                </a:lnTo>
                <a:lnTo>
                  <a:pt x="29924" y="8761"/>
                </a:lnTo>
                <a:lnTo>
                  <a:pt x="30291" y="8210"/>
                </a:lnTo>
                <a:lnTo>
                  <a:pt x="31035" y="8210"/>
                </a:lnTo>
                <a:lnTo>
                  <a:pt x="31035" y="13390"/>
                </a:lnTo>
                <a:lnTo>
                  <a:pt x="30291" y="13390"/>
                </a:lnTo>
                <a:lnTo>
                  <a:pt x="29924" y="12839"/>
                </a:lnTo>
                <a:lnTo>
                  <a:pt x="28069" y="12839"/>
                </a:lnTo>
                <a:lnTo>
                  <a:pt x="28069" y="14125"/>
                </a:lnTo>
                <a:lnTo>
                  <a:pt x="18435" y="14125"/>
                </a:lnTo>
                <a:lnTo>
                  <a:pt x="18435" y="9873"/>
                </a:lnTo>
                <a:lnTo>
                  <a:pt x="18251" y="9873"/>
                </a:lnTo>
                <a:lnTo>
                  <a:pt x="17866" y="10240"/>
                </a:lnTo>
                <a:lnTo>
                  <a:pt x="16947" y="10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66600" y="-66600"/>
            <a:ext cx="9210600" cy="6848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189000"/>
            <a:ext cx="170820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438280" y="-66600"/>
            <a:ext cx="5386680" cy="2898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2852640"/>
            <a:ext cx="705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姚子清营长率五百健儿死守宝山县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52280" y="3429000"/>
            <a:ext cx="1752840" cy="2362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981080" y="3429000"/>
            <a:ext cx="5184720" cy="2449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6095880"/>
            <a:ext cx="525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谢晋元率坚守四行仓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305920" y="6248520"/>
            <a:ext cx="469800" cy="436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6172200"/>
            <a:ext cx="1447560" cy="609480"/>
          </a:xfrm>
          <a:custGeom>
            <a:avLst/>
            <a:gdLst>
              <a:gd name="textAreaLeft" fmla="*/ 37800 w 1447560"/>
              <a:gd name="textAreaRight" fmla="*/ 1409760 w 144756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934" y="1350"/>
                </a:lnTo>
                <a:lnTo>
                  <a:pt x="1350" y="135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934" y="20250"/>
                </a:lnTo>
                <a:lnTo>
                  <a:pt x="49934" y="135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934" y="2025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1284" h="21600">
                <a:moveTo>
                  <a:pt x="18598" y="10800"/>
                </a:moveTo>
                <a:lnTo>
                  <a:pt x="32686" y="3756"/>
                </a:lnTo>
                <a:lnTo>
                  <a:pt x="32686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团大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军队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主动出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军的一次大规模战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32560"/>
            <a:ext cx="237492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下半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88360" y="6021360"/>
            <a:ext cx="469800" cy="436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086600" y="6324480"/>
            <a:ext cx="1676520" cy="609840"/>
          </a:xfrm>
          <a:custGeom>
            <a:avLst/>
            <a:gdLst>
              <a:gd name="textAreaLeft" fmla="*/ 37800 w 1676520"/>
              <a:gd name="textAreaRight" fmla="*/ 1638720 w 16765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8009" y="1350"/>
                </a:lnTo>
                <a:lnTo>
                  <a:pt x="1350" y="135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8009" y="20250"/>
                </a:lnTo>
                <a:lnTo>
                  <a:pt x="58009" y="135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8009" y="2025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359" h="21600">
                <a:moveTo>
                  <a:pt x="22636" y="10800"/>
                </a:moveTo>
                <a:lnTo>
                  <a:pt x="36723" y="3756"/>
                </a:lnTo>
                <a:lnTo>
                  <a:pt x="36723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75248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从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日至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月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日的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个半月中，我敌后军民共进行大小战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千八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计毙伤日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万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，伪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；俘日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百八十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、伪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万八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人；破坏铁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九百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里、公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千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里；破坏桥梁、车站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百五十八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处；并缴获了大批武器和军用物资。从歼敌（日军）数字看，八路军独自发起的百团大战不亚于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1939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蒋介石部署全国十个战区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7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个师发起的对日冬季攻势的战果，如果加入歼灭伪军数字，八路军的战果还高于国军全军在冬季攻势的歼敌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1371600"/>
            <a:ext cx="5181480" cy="160020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百团大战真是令人兴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像这样的战斗是否还可以组织一两次？”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                                    —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毛泽东贺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886200"/>
            <a:ext cx="5105160" cy="167652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八路军断然出击，予敌甚大打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特电嘉奖”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                —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蒋介石贺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知识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日本发动侵华战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、步骤、罪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全民族的抗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抗日战争的胜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因、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743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71640" y="1628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中国远征军入缅作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676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国外战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371628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3789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80880"/>
            <a:ext cx="73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著特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面战场和敌后战场并存，国内战场和国外战场并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6248520"/>
            <a:ext cx="1350720" cy="549000"/>
          </a:xfrm>
          <a:custGeom>
            <a:avLst/>
            <a:gdLst>
              <a:gd name="textAreaLeft" fmla="*/ 34200 w 1350720"/>
              <a:gd name="textAreaRight" fmla="*/ 1316520 w 1350720"/>
              <a:gd name="textAreaTop" fmla="*/ 34200 h 549000"/>
              <a:gd name="textAreaBottom" fmla="*/ 514800 h 549000"/>
            </a:gdLst>
            <a:ahLst/>
            <a:rect l="textAreaLeft" t="textAreaTop" r="textAreaRight" b="textAreaBottom"/>
            <a:pathLst>
              <a:path w="53122" h="21600">
                <a:moveTo>
                  <a:pt x="0" y="0"/>
                </a:moveTo>
                <a:lnTo>
                  <a:pt x="53122" y="0"/>
                </a:lnTo>
                <a:lnTo>
                  <a:pt x="53122" y="21600"/>
                </a:lnTo>
                <a:lnTo>
                  <a:pt x="0" y="21600"/>
                </a:lnTo>
                <a:close/>
              </a:path>
              <a:path fill="lightenLess" w="53122" h="21600">
                <a:moveTo>
                  <a:pt x="0" y="0"/>
                </a:moveTo>
                <a:lnTo>
                  <a:pt x="53122" y="0"/>
                </a:lnTo>
                <a:lnTo>
                  <a:pt x="51772" y="1350"/>
                </a:lnTo>
                <a:lnTo>
                  <a:pt x="1350" y="1350"/>
                </a:lnTo>
                <a:close/>
              </a:path>
              <a:path fill="darken" w="53122" h="21600">
                <a:moveTo>
                  <a:pt x="53122" y="0"/>
                </a:moveTo>
                <a:lnTo>
                  <a:pt x="53122" y="21600"/>
                </a:lnTo>
                <a:lnTo>
                  <a:pt x="51772" y="20250"/>
                </a:lnTo>
                <a:lnTo>
                  <a:pt x="51772" y="1350"/>
                </a:lnTo>
                <a:close/>
              </a:path>
              <a:path fill="darkenLess" w="53122" h="21600">
                <a:moveTo>
                  <a:pt x="5312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1772" y="20250"/>
                </a:lnTo>
                <a:close/>
              </a:path>
              <a:path fill="lighten" w="5312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3122" h="21600">
                <a:moveTo>
                  <a:pt x="19517" y="10800"/>
                </a:moveTo>
                <a:lnTo>
                  <a:pt x="33605" y="3756"/>
                </a:lnTo>
                <a:lnTo>
                  <a:pt x="33605" y="1784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320" y="2209680"/>
            <a:ext cx="4286160" cy="4038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286000" y="6400800"/>
            <a:ext cx="53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军坦克和炮兵部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524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结合书本及所学知识，思考：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年代的日本为什么要大规模发动侵略中国的战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2200" y="2935440"/>
            <a:ext cx="8713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二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资本主义世界爆发了空前的经济危机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日本经济危机达到了顶点。……日本统治集团为了摆脱严重的政治和经济危机，从各方面加紧侵华战争的准备。……完全听命于军部的广田弘毅组阁，实行全面的法西斯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《高中历史教学参考》（必修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54936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一、一九二七年四月，田中义一任日本内阁首相，他在给日本天皇的秘密奏折中说：“唯欲征服支那，必先征服满蒙，如欲征服世界，必先征服支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《高中历史教学参考》（必修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640" y="23446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大陆政策” 的延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26920" y="5516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经济危机冲击，资本主义发展陷入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92000" y="6021360"/>
            <a:ext cx="78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日本法西斯专政建立，侵略野心膨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1484280"/>
            <a:ext cx="295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3789360"/>
            <a:ext cx="3240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16280"/>
            <a:ext cx="6913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157720"/>
            <a:ext cx="26636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2200" y="4292640"/>
            <a:ext cx="42498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三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欧洲各国忙于应付国内危机，无暇东顾，“九一八”事变前，日本与英美达成秘密谅解，英国支持日本的行动，美国表示“不闻满洲事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84360" y="191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国际：英、美等国推行纵容日本侵略的“绥靖政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852640"/>
            <a:ext cx="842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四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蒋介石在崇仁总指挥部对各级剿共军官发表长篇讲话，中心意思是：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只要剿匪成功，攘外就有把握。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日本的侵略，就是共匪所招致的。……。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愈是非常时期，越要小心谨慎，注重智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1418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国内：国共对峙（内战）局面，提供可乘之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327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981080"/>
            <a:ext cx="8496360" cy="28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根本原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大陆政策到“国策基准”的既定国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直接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本受经济危机冲击，资本主义发展陷入困境，走上了法西斯道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有利条件来说：当时中国处于国共对峙的局面，世界上绥靖之风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52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日本发动侵华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523880"/>
            <a:ext cx="8229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请结合书本及所学知识，思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：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本在这一时期对中国发动过哪些侵略战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304920"/>
            <a:ext cx="259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333360"/>
            <a:ext cx="446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05264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日军攻占沈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后不到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军占领整个东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20500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迫使国民政府投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军袭击上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5772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本扶植清废帝溥仪做傀儡建立的国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1484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九一八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708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二八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3789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建立伪满洲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365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19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日本为侵占华北，蓄意制造了一系列事件，威逼平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8690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华北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445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事发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志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本全面侵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00560" y="617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59500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—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卢沟桥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6028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日本侵华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0:11:14Z</dcterms:created>
  <dc:creator/>
  <dc:description/>
  <dc:language>en-US</dc:language>
  <cp:lastModifiedBy>雍静</cp:lastModifiedBy>
  <dcterms:modified xsi:type="dcterms:W3CDTF">2013-11-07T01:57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