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25.png" ContentType="image/png"/>
  <Override PartName="/ppt/media/image36.png" ContentType="image/png"/>
  <Override PartName="/ppt/media/image42.jpeg" ContentType="image/jpeg"/>
  <Override PartName="/ppt/media/image6.png" ContentType="image/png"/>
  <Override PartName="/ppt/media/image59.jpeg" ContentType="image/jpeg"/>
  <Override PartName="/ppt/media/image2.jpeg" ContentType="image/jpeg"/>
  <Override PartName="/ppt/media/image3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43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62.png" ContentType="image/png"/>
  <Override PartName="/ppt/media/image51.jpeg" ContentType="image/jpeg"/>
  <Override PartName="/ppt/media/image50.jpeg" ContentType="image/jpeg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9.png" ContentType="image/png"/>
  <Override PartName="/ppt/media/image1.jpeg" ContentType="image/jpeg"/>
  <Override PartName="/ppt/media/image21.png" ContentType="image/png"/>
  <Override PartName="/ppt/media/image11.png" ContentType="image/pn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9.png" ContentType="image/png"/>
  <Override PartName="/ppt/media/image29.jpeg" ContentType="image/jpeg"/>
  <Override PartName="/ppt/media/image12.jpeg" ContentType="image/jpeg"/>
  <Override PartName="/ppt/media/image54.jpeg" ContentType="image/jpeg"/>
  <Override PartName="/ppt/media/image52.jpeg" ContentType="image/jpeg"/>
  <Override PartName="/ppt/media/image13.png" ContentType="image/png"/>
  <Override PartName="/ppt/media/image10.gif" ContentType="image/gif"/>
  <Override PartName="/ppt/media/image53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5.png" ContentType="image/png"/>
  <Override PartName="/ppt/media/chimes.wav" ContentType="audio/x-wav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667-1793-42F2-8D5D-0079D269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B49-3E73-4D4E-AEE0-529C740E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574-870F-4079-A61C-7F96206B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23D-E4E5-4AC4-8C1C-A3E59192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1FF2-56C0-44E6-BF31-1E529CAB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105E-7EF0-42F8-B4F5-409A46AB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A67-3CDA-420D-8416-FCFC2ECF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0250-9CC6-40AF-8193-55350679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45A3-3FFA-405D-9F33-057D4265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D362-8F5D-41C4-AB34-B8368E75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D5A-26CA-4D2E-9C1B-98DFD04B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F94-DFEC-4596-AA7B-965A4425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CF11-EA6C-417B-8F5D-03E7F9A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834-310F-454F-B07F-5AF42C1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3782-0F45-4A90-96D9-BAC1D937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F619-AFC3-4D15-8EC4-167E1321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C547-09AD-41A6-A864-6CBA5A30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3805-3CD4-4E17-ADA8-1A42B900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4565-9D90-4F11-A7B3-26C428C0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139D-ED42-4A5E-8834-77897DE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857B-3A30-4004-86C6-5900D78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C6E6-DD36-4D26-AB65-3C3C3C1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419-EE50-4DBF-90E7-4532A50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00FB-C71D-4D92-9C4C-499D4CF6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4480-9BC4-4E32-823A-D3AC2F1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B2D4-C613-4CFF-A3B9-94DF41F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9A48-D3AC-4532-BFBE-9403C48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5F11-1CCC-4C2F-B1A4-A73D2571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5D1D-EB51-4D68-BA97-9CCB11FA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F936-1280-47CD-BE12-8CD65116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5C39-0D13-40C0-895A-44E684D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FA71-8A4E-4580-8A77-A0265870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6F21-A470-44A4-9AE2-DD8BA6D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DAF-25BB-404D-B774-78BACBDA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0244-9B34-48D7-98EC-AA6EF7F6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A361-FABE-439B-8247-EE4E8B38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74B9-EDDF-4B12-B69B-B97E2A29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EA57-F9C3-471E-AF1B-4B9F14C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4666-F675-4935-81A5-8F2939A7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3BAEC-A17E-4051-9C31-22D27621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012CB-E164-47CF-BF53-6AB2B822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7114-4700-4C96-9A4F-A1BC80DF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8B81-9840-4487-B58A-BB7F153F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04C-29AF-40B9-BD6B-70B523B8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D68-2520-42B6-97E3-AF2E02F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4C2-A1F0-4604-9FED-283B545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FC3-D574-4562-8238-B556BF9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631-8A87-4064-9213-DDA1EB3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946-4301-4990-86B3-71F1E0C14D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85BC-F0C3-48A7-90AF-A41B36FF6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D09-14E1-47E8-AB19-07F6AD001A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A443-BE9D-4577-A354-F0CA583836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矩形 1" descr=""/>
          <p:cNvPicPr/>
          <p:nvPr/>
        </p:nvPicPr>
        <p:blipFill>
          <a:blip r:embed="rId2"/>
          <a:stretch/>
        </p:blipFill>
        <p:spPr>
          <a:xfrm>
            <a:off x="-27000" y="225360"/>
            <a:ext cx="8518680" cy="1182600"/>
          </a:xfrm>
          <a:prstGeom prst="rect">
            <a:avLst/>
          </a:prstGeom>
          <a:ln w="0">
            <a:noFill/>
          </a:ln>
        </p:spPr>
      </p:pic>
      <p:pic>
        <p:nvPicPr>
          <p:cNvPr id="171" name="矩形 2" descr=""/>
          <p:cNvPicPr/>
          <p:nvPr/>
        </p:nvPicPr>
        <p:blipFill>
          <a:blip r:embed="rId3"/>
          <a:stretch/>
        </p:blipFill>
        <p:spPr>
          <a:xfrm>
            <a:off x="-284040" y="1676520"/>
            <a:ext cx="9816840" cy="2027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0" y="3441600"/>
            <a:ext cx="8893080" cy="3507120"/>
          </a:xfrm>
          <a:prstGeom prst="rect">
            <a:avLst/>
          </a:prstGeom>
          <a:noFill/>
          <a:ln w="63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复习回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和平共处五项原则的意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列举新中国的外交成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05"/>
          <p:cNvPicPr/>
          <p:nvPr/>
        </p:nvPicPr>
        <p:blipFill>
          <a:blip r:embed="rId1"/>
          <a:stretch/>
        </p:blipFill>
        <p:spPr>
          <a:xfrm>
            <a:off x="611280" y="2133720"/>
            <a:ext cx="5637240" cy="3962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新魏"/>
              </a:rPr>
              <a:t>场景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新魏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，美国总统尼克松乘坐“空军一号”，抵达北京天竺机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微软雅黑"/>
              </a:rPr>
              <a:t>中美建交前的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微软雅黑"/>
              </a:rPr>
              <a:t>中美苏三角关系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AutoShape 3"/>
          <p:cNvSpPr/>
          <p:nvPr/>
        </p:nvSpPr>
        <p:spPr>
          <a:xfrm flipH="1">
            <a:off x="2361600" y="2133720"/>
            <a:ext cx="3429000" cy="2819160"/>
          </a:xfrm>
          <a:prstGeom prst="flowChartExtra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箭头 282"/>
          <p:cNvSpPr/>
          <p:nvPr/>
        </p:nvSpPr>
        <p:spPr>
          <a:xfrm flipV="1">
            <a:off x="1981080" y="2057040"/>
            <a:ext cx="1600200" cy="2590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箭头 283"/>
          <p:cNvSpPr/>
          <p:nvPr/>
        </p:nvSpPr>
        <p:spPr>
          <a:xfrm flipH="1" flipV="1">
            <a:off x="4495320" y="2133720"/>
            <a:ext cx="1600200" cy="2590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双箭头 284"/>
          <p:cNvSpPr/>
          <p:nvPr/>
        </p:nvSpPr>
        <p:spPr>
          <a:xfrm>
            <a:off x="2362320" y="5257800"/>
            <a:ext cx="3429000" cy="1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657600" y="12193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19320" y="4495680"/>
            <a:ext cx="66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95880" y="4648320"/>
            <a:ext cx="7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513160" y="54547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美关系缓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 rot="1998000">
            <a:off x="1313640" y="1531080"/>
            <a:ext cx="14601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珍宝岛事件，中苏关系恶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 rot="19745400">
            <a:off x="5423400" y="1526760"/>
            <a:ext cx="10335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苏争霸中，美国处于守势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240840" y="1219320"/>
            <a:ext cx="91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史学探究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3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ffebc2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美关系改善是中美两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国家利益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同要求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图片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黑体"/>
              </a:rPr>
              <a:t>中美关系改善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从美国来看：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国国际地位提高，孤立中国外交政策的失败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苏争霸处于守势地位，需要与中国改善关系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内经济衰退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从中国来看：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苏关系恶化，利于对付来自苏联的威胁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于改善国际地位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于解决台湾问题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WordArt 7"/>
          <p:cNvSpPr txBox="1"/>
          <p:nvPr/>
        </p:nvSpPr>
        <p:spPr>
          <a:xfrm rot="5400000">
            <a:off x="-876240" y="285768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原因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3"/>
          <p:cNvSpPr/>
          <p:nvPr/>
        </p:nvSpPr>
        <p:spPr>
          <a:xfrm>
            <a:off x="0" y="1600200"/>
            <a:ext cx="9144000" cy="3429000"/>
          </a:xfrm>
          <a:prstGeom prst="cloudCallout">
            <a:avLst>
              <a:gd name="adj1" fmla="val -39949"/>
              <a:gd name="adj2" fmla="val 695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中美联合公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的发表是否表示中美关系已经完全正常化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4" descr=""/>
          <p:cNvPicPr/>
          <p:nvPr/>
        </p:nvPicPr>
        <p:blipFill>
          <a:blip r:embed="rId2"/>
          <a:stretch/>
        </p:blipFill>
        <p:spPr>
          <a:xfrm>
            <a:off x="907920" y="360360"/>
            <a:ext cx="2097360" cy="133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304920" y="56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宣布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79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起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美正式建立外交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1979年1月1日 中美发布建交联合公报"/>
          <p:cNvPicPr/>
          <p:nvPr/>
        </p:nvPicPr>
        <p:blipFill>
          <a:blip r:embed="rId3"/>
          <a:stretch/>
        </p:blipFill>
        <p:spPr>
          <a:xfrm>
            <a:off x="0" y="152280"/>
            <a:ext cx="5943600" cy="53006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8"/>
          <p:cNvSpPr/>
          <p:nvPr/>
        </p:nvSpPr>
        <p:spPr>
          <a:xfrm>
            <a:off x="6019920" y="3049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发表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美建交公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承认中华人民共和国是中国唯一合法的政府，台湾是中国的一部分，接受了中国提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美建交三原则（断交、撤军、废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934320" y="5105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我检测：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．图片所反映的历史事件是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美建交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日关系正常化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苏建交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中美关系开始正常化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56" name="Picture 3" descr="../../../WINDOWS/Desktop/2005-8-30-15_48_4749.jpg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1066680" y="2286000"/>
            <a:ext cx="320040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WordArt 4" descr=""/>
          <p:cNvPicPr/>
          <p:nvPr/>
        </p:nvPicPr>
        <p:blipFill>
          <a:blip r:embed="rId2"/>
          <a:stretch/>
        </p:blipFill>
        <p:spPr>
          <a:xfrm>
            <a:off x="5022720" y="2584440"/>
            <a:ext cx="2944800" cy="282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67672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  <a:ea typeface="隶书"/>
              </a:rPr>
              <a:t>3</a:t>
            </a:r>
            <a:r>
              <a:rPr b="1" i="1" lang="zh-CN" sz="4200" spc="-1" strike="noStrike">
                <a:solidFill>
                  <a:srgbClr val="ff0000"/>
                </a:solidFill>
                <a:latin typeface="Arial"/>
                <a:ea typeface="隶书"/>
              </a:rPr>
              <a:t>、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</a:rPr>
              <a:t>中日关系改善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569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原因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美关系的改善直接促进了中日建交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标志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日本首相田中角荣访华，中日双方签署了建交的联合声明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5"/>
          <p:cNvSpPr/>
          <p:nvPr/>
        </p:nvSpPr>
        <p:spPr>
          <a:xfrm>
            <a:off x="5715000" y="1195560"/>
            <a:ext cx="3276720" cy="35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972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毛泽东会见来访的日本首相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田中角荣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同年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签署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日联合声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两国建交，实现了两国关系正常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1-1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571500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7">
            <a:hlinkClick r:id="rId2"/>
          </p:cNvPr>
          <p:cNvSpPr/>
          <p:nvPr/>
        </p:nvSpPr>
        <p:spPr>
          <a:xfrm>
            <a:off x="0" y="0"/>
            <a:ext cx="6019920" cy="762120"/>
          </a:xfrm>
          <a:custGeom>
            <a:avLst/>
            <a:gdLst>
              <a:gd name="textAreaLeft" fmla="*/ 49320 w 6019920"/>
              <a:gd name="textAreaRight" fmla="*/ 5970600 w 6019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0546" h="21600">
                <a:moveTo>
                  <a:pt x="0" y="0"/>
                </a:moveTo>
                <a:lnTo>
                  <a:pt x="170546" y="0"/>
                </a:lnTo>
                <a:lnTo>
                  <a:pt x="170546" y="21600"/>
                </a:lnTo>
                <a:lnTo>
                  <a:pt x="0" y="21600"/>
                </a:lnTo>
                <a:close/>
              </a:path>
              <a:path fill="lightenLess" w="170546" h="21600">
                <a:moveTo>
                  <a:pt x="0" y="0"/>
                </a:moveTo>
                <a:lnTo>
                  <a:pt x="170546" y="0"/>
                </a:lnTo>
                <a:lnTo>
                  <a:pt x="169146" y="1400"/>
                </a:lnTo>
                <a:lnTo>
                  <a:pt x="1400" y="1400"/>
                </a:lnTo>
                <a:close/>
              </a:path>
              <a:path fill="darken" w="170546" h="21600">
                <a:moveTo>
                  <a:pt x="170546" y="0"/>
                </a:moveTo>
                <a:lnTo>
                  <a:pt x="170546" y="21600"/>
                </a:lnTo>
                <a:lnTo>
                  <a:pt x="169146" y="20200"/>
                </a:lnTo>
                <a:lnTo>
                  <a:pt x="169146" y="1400"/>
                </a:lnTo>
                <a:close/>
              </a:path>
              <a:path fill="darkenLess" w="170546" h="21600">
                <a:moveTo>
                  <a:pt x="170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9146" y="20200"/>
                </a:lnTo>
                <a:close/>
              </a:path>
              <a:path fill="lighten" w="170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）中日邦交正常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1600200"/>
            <a:ext cx="828036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当前中日关系的特点是什么？中日关系发展的最大障碍是什么？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03280" y="244440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  <a:ea typeface="隶书"/>
              </a:rPr>
              <a:t>突出特点：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政治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——“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冷”；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</a:rPr>
              <a:t>经济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</a:rPr>
              <a:t>——“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</a:rPr>
              <a:t>热”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  <a:ea typeface="隶书"/>
              </a:rPr>
              <a:t>最大障碍：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1" lang="zh-CN" sz="4800" spc="-1" strike="noStrike">
                <a:solidFill>
                  <a:srgbClr val="0000cc"/>
                </a:solidFill>
                <a:latin typeface="微软雅黑"/>
              </a:rPr>
              <a:t>	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问题</a:t>
            </a:r>
            <a:endParaRPr b="0" lang="en-US" sz="6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66" name="WordArt 5" descr=""/>
          <p:cNvPicPr/>
          <p:nvPr/>
        </p:nvPicPr>
        <p:blipFill>
          <a:blip r:embed="rId2"/>
          <a:stretch/>
        </p:blipFill>
        <p:spPr>
          <a:xfrm>
            <a:off x="171360" y="-30240"/>
            <a:ext cx="4351320" cy="1725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1"/>
          <p:cNvPicPr/>
          <p:nvPr/>
        </p:nvPicPr>
        <p:blipFill>
          <a:blip r:embed="rId3"/>
          <a:stretch/>
        </p:blipFill>
        <p:spPr>
          <a:xfrm>
            <a:off x="228600" y="76320"/>
            <a:ext cx="8458200" cy="6781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2"/>
          <p:cNvPicPr/>
          <p:nvPr/>
        </p:nvPicPr>
        <p:blipFill>
          <a:blip r:embed="rId4"/>
          <a:stretch/>
        </p:blipFill>
        <p:spPr>
          <a:xfrm>
            <a:off x="0" y="0"/>
            <a:ext cx="9217080" cy="6399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3"/>
          <p:cNvPicPr/>
          <p:nvPr/>
        </p:nvPicPr>
        <p:blipFill>
          <a:blip r:embed="rId5"/>
          <a:stretch/>
        </p:blipFill>
        <p:spPr>
          <a:xfrm>
            <a:off x="-73080" y="304920"/>
            <a:ext cx="9217080" cy="655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4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152280" y="457200"/>
            <a:ext cx="8915400" cy="160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为祖国的未来，我们青少年应如何正确对待中日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152280" y="2057400"/>
            <a:ext cx="8839440" cy="2666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坚决维护中国主权和领土完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警惕日本右翼势力复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理性爱国，把宝贵的爱国热情转化为刻苦学习本领的实际行动，为实现中华民族的伟大复兴贡献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387440" y="5030640"/>
            <a:ext cx="630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理性爱国，拒绝暴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74" name="WordArt 4" descr=""/>
          <p:cNvPicPr/>
          <p:nvPr/>
        </p:nvPicPr>
        <p:blipFill>
          <a:blip r:embed="rId2"/>
          <a:stretch/>
        </p:blipFill>
        <p:spPr>
          <a:xfrm>
            <a:off x="1511280" y="0"/>
            <a:ext cx="5638680" cy="1305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4"/>
          <p:cNvGrpSpPr/>
          <p:nvPr/>
        </p:nvGrpSpPr>
        <p:grpSpPr>
          <a:xfrm>
            <a:off x="133200" y="3790800"/>
            <a:ext cx="9023400" cy="3079800"/>
            <a:chOff x="133200" y="3790800"/>
            <a:chExt cx="9023400" cy="3079800"/>
          </a:xfrm>
        </p:grpSpPr>
        <p:pic>
          <p:nvPicPr>
            <p:cNvPr id="176" name="矩形 4" descr=""/>
            <p:cNvPicPr/>
            <p:nvPr/>
          </p:nvPicPr>
          <p:blipFill>
            <a:blip r:embed="rId3"/>
            <a:stretch/>
          </p:blipFill>
          <p:spPr>
            <a:xfrm>
              <a:off x="133200" y="3790800"/>
              <a:ext cx="902340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6"/>
            <p:cNvSpPr/>
            <p:nvPr/>
          </p:nvSpPr>
          <p:spPr>
            <a:xfrm>
              <a:off x="152280" y="3811320"/>
              <a:ext cx="899172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课标要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简述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中国恢复在联合国合法席位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基本史实，概括我国在外交方面所取得的重大成就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了解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中美关系正常化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中日建交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主要史实，探讨其对国际关系产生的重要影响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图片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Object 3"/>
          <p:cNvGraphicFramePr/>
          <p:nvPr/>
        </p:nvGraphicFramePr>
        <p:xfrm>
          <a:off x="0" y="1143000"/>
          <a:ext cx="91440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4"/>
          <p:cNvSpPr/>
          <p:nvPr/>
        </p:nvSpPr>
        <p:spPr>
          <a:xfrm>
            <a:off x="1523880" y="56386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各国掀起与中国建交的热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3880" y="304920"/>
            <a:ext cx="566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楷体"/>
                <a:ea typeface="华文楷体"/>
              </a:rPr>
              <a:t>新中国与世界各国建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7010280" y="52578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我检测：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458640"/>
            <a:ext cx="8229600" cy="56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年代，中国外交形势发生重大转变，国际上出现了一个和中国建交的热潮，其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关键因素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是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提出“三个世界”划分的理论  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在联合国合法席位的恢复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中美关系的改善               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中日邦交正常化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83" name="WordArt 3" descr="water"/>
          <p:cNvPicPr/>
          <p:nvPr/>
        </p:nvPicPr>
        <p:blipFill>
          <a:blip r:embed="rId1"/>
          <a:stretch/>
        </p:blipFill>
        <p:spPr>
          <a:xfrm>
            <a:off x="7308720" y="2157480"/>
            <a:ext cx="927360" cy="189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二、新时期的外交成就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改革开放后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44080"/>
            <a:ext cx="82296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、背景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762120" y="1676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一届三中全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以经济建设为中心，需要和平稳定的国际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85800" y="2754360"/>
            <a:ext cx="7696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新时期外交成就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开展以联合国为中心的多边外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积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与地区性国际组织的外交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积极发展与周边国家的睦邻友好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9320"/>
            <a:ext cx="9360000" cy="700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39528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539640" y="3645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39640" y="422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9640" y="4869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539640" y="5516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0" y="0"/>
            <a:ext cx="72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维和任务：中国维和军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" descr="290441"/>
          <p:cNvPicPr/>
          <p:nvPr/>
        </p:nvPicPr>
        <p:blipFill>
          <a:blip r:embed="rId3"/>
          <a:stretch/>
        </p:blipFill>
        <p:spPr>
          <a:xfrm>
            <a:off x="0" y="533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290445"/>
          <p:cNvPicPr/>
          <p:nvPr/>
        </p:nvPicPr>
        <p:blipFill>
          <a:blip r:embed="rId4"/>
          <a:stretch/>
        </p:blipFill>
        <p:spPr>
          <a:xfrm>
            <a:off x="4572000" y="533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无标题"/>
          <p:cNvPicPr/>
          <p:nvPr/>
        </p:nvPicPr>
        <p:blipFill>
          <a:blip r:embed="rId5"/>
          <a:stretch/>
        </p:blipFill>
        <p:spPr>
          <a:xfrm>
            <a:off x="0" y="388620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1030022_834793"/>
          <p:cNvPicPr/>
          <p:nvPr/>
        </p:nvPicPr>
        <p:blipFill>
          <a:blip r:embed="rId6"/>
          <a:stretch/>
        </p:blipFill>
        <p:spPr>
          <a:xfrm>
            <a:off x="3543480" y="3962520"/>
            <a:ext cx="5600520" cy="332244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14"/>
          <p:cNvSpPr/>
          <p:nvPr/>
        </p:nvSpPr>
        <p:spPr>
          <a:xfrm>
            <a:off x="8381880" y="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0" y="0"/>
            <a:ext cx="9359640" cy="7057800"/>
            <a:chOff x="0" y="0"/>
            <a:chExt cx="9359640" cy="7057800"/>
          </a:xfrm>
        </p:grpSpPr>
        <p:pic>
          <p:nvPicPr>
            <p:cNvPr id="302" name="Picture 16" descr="中国维和部队整装待发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359640" cy="64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17"/>
            <p:cNvSpPr/>
            <p:nvPr/>
          </p:nvSpPr>
          <p:spPr>
            <a:xfrm>
              <a:off x="0" y="6476400"/>
              <a:ext cx="9359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中国维和部队整装待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0" y="0"/>
            <a:ext cx="9359640" cy="7284600"/>
            <a:chOff x="0" y="0"/>
            <a:chExt cx="9359640" cy="7284600"/>
          </a:xfrm>
        </p:grpSpPr>
        <p:pic>
          <p:nvPicPr>
            <p:cNvPr id="305" name="Picture 19" descr="赴中东维和1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359640" cy="72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20"/>
            <p:cNvSpPr/>
            <p:nvPr/>
          </p:nvSpPr>
          <p:spPr>
            <a:xfrm>
              <a:off x="3647880" y="6166440"/>
              <a:ext cx="2580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Arial"/>
                </a:rPr>
                <a:t>出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直角上箭头 29"/>
          <p:cNvSpPr/>
          <p:nvPr/>
        </p:nvSpPr>
        <p:spPr>
          <a:xfrm>
            <a:off x="7848720" y="5867280"/>
            <a:ext cx="609480" cy="68580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0628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img518145_1"/>
          <p:cNvPicPr/>
          <p:nvPr/>
        </p:nvPicPr>
        <p:blipFill>
          <a:blip r:embed="rId2"/>
          <a:stretch/>
        </p:blipFill>
        <p:spPr>
          <a:xfrm>
            <a:off x="2057400" y="-130320"/>
            <a:ext cx="7086600" cy="33307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0" y="533520"/>
            <a:ext cx="228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上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PE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会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1_31-1-46_20011021161014"/>
          <p:cNvPicPr/>
          <p:nvPr/>
        </p:nvPicPr>
        <p:blipFill>
          <a:blip r:embed="rId3"/>
          <a:stretch/>
        </p:blipFill>
        <p:spPr>
          <a:xfrm>
            <a:off x="6019920" y="320040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4"/>
          <a:stretch/>
        </p:blipFill>
        <p:spPr>
          <a:xfrm>
            <a:off x="0" y="4038480"/>
            <a:ext cx="3067200" cy="1828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5627"/>
          <p:cNvPicPr/>
          <p:nvPr/>
        </p:nvPicPr>
        <p:blipFill>
          <a:blip r:embed="rId5"/>
          <a:stretch/>
        </p:blipFill>
        <p:spPr>
          <a:xfrm>
            <a:off x="3124080" y="3276720"/>
            <a:ext cx="2791080" cy="3581280"/>
          </a:xfrm>
          <a:prstGeom prst="rect">
            <a:avLst/>
          </a:prstGeom>
          <a:ln w="0">
            <a:noFill/>
          </a:ln>
        </p:spPr>
      </p:pic>
      <p:sp>
        <p:nvSpPr>
          <p:cNvPr id="314" name="直角上箭头 7"/>
          <p:cNvSpPr/>
          <p:nvPr/>
        </p:nvSpPr>
        <p:spPr>
          <a:xfrm>
            <a:off x="1676520" y="6172200"/>
            <a:ext cx="685800" cy="53352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324000" y="14842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39640" y="404640"/>
            <a:ext cx="8064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8360" y="342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xin_12050317105745315171"/>
          <p:cNvPicPr/>
          <p:nvPr/>
        </p:nvPicPr>
        <p:blipFill>
          <a:blip r:embed="rId2"/>
          <a:stretch/>
        </p:blipFill>
        <p:spPr>
          <a:xfrm>
            <a:off x="0" y="152280"/>
            <a:ext cx="4533840" cy="43056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7"/>
          <p:cNvSpPr/>
          <p:nvPr/>
        </p:nvSpPr>
        <p:spPr>
          <a:xfrm>
            <a:off x="457200" y="4724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海合作组织会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100995_zhongguo"/>
          <p:cNvPicPr/>
          <p:nvPr/>
        </p:nvPicPr>
        <p:blipFill>
          <a:blip r:embed="rId3"/>
          <a:stretch/>
        </p:blipFill>
        <p:spPr>
          <a:xfrm>
            <a:off x="5257800" y="0"/>
            <a:ext cx="1542960" cy="1257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100998_eluosi"/>
          <p:cNvPicPr/>
          <p:nvPr/>
        </p:nvPicPr>
        <p:blipFill>
          <a:blip r:embed="rId4"/>
          <a:stretch/>
        </p:blipFill>
        <p:spPr>
          <a:xfrm>
            <a:off x="7010280" y="0"/>
            <a:ext cx="1543320" cy="1257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100999_hasakesitan"/>
          <p:cNvPicPr/>
          <p:nvPr/>
        </p:nvPicPr>
        <p:blipFill>
          <a:blip r:embed="rId5"/>
          <a:stretch/>
        </p:blipFill>
        <p:spPr>
          <a:xfrm>
            <a:off x="5257800" y="1295280"/>
            <a:ext cx="1542960" cy="1006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101000_jierjisi"/>
          <p:cNvPicPr/>
          <p:nvPr/>
        </p:nvPicPr>
        <p:blipFill>
          <a:blip r:embed="rId6"/>
          <a:stretch/>
        </p:blipFill>
        <p:spPr>
          <a:xfrm>
            <a:off x="6934320" y="1219320"/>
            <a:ext cx="1542960" cy="1154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101001_tajike"/>
          <p:cNvPicPr/>
          <p:nvPr/>
        </p:nvPicPr>
        <p:blipFill>
          <a:blip r:embed="rId7"/>
          <a:stretch/>
        </p:blipFill>
        <p:spPr>
          <a:xfrm>
            <a:off x="5257800" y="2362320"/>
            <a:ext cx="1542960" cy="1006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101002_wuzibieke"/>
          <p:cNvPicPr/>
          <p:nvPr/>
        </p:nvPicPr>
        <p:blipFill>
          <a:blip r:embed="rId8"/>
          <a:stretch/>
        </p:blipFill>
        <p:spPr>
          <a:xfrm>
            <a:off x="6934320" y="2362320"/>
            <a:ext cx="1542960" cy="982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xin_4020603151000468211276"/>
          <p:cNvPicPr/>
          <p:nvPr/>
        </p:nvPicPr>
        <p:blipFill>
          <a:blip r:embed="rId9"/>
          <a:stretch/>
        </p:blipFill>
        <p:spPr>
          <a:xfrm>
            <a:off x="4343400" y="3352680"/>
            <a:ext cx="464832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04920" y="990720"/>
            <a:ext cx="8569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容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史学探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内探究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学中的疑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要求：全体起立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小组为单位讨论交流，小组长搞好组织调控，确保全员参与，提高效率；展示小组如有需要补充的，尽快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彩色笔二次展示补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1600200" y="3048120"/>
            <a:ext cx="3048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百家争鸣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30" name="WordArt 4" descr=""/>
          <p:cNvPicPr/>
          <p:nvPr/>
        </p:nvPicPr>
        <p:blipFill>
          <a:blip r:embed="rId1"/>
          <a:stretch/>
        </p:blipFill>
        <p:spPr>
          <a:xfrm>
            <a:off x="2182680" y="-54000"/>
            <a:ext cx="505944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04920" y="3962520"/>
          <a:ext cx="8686800" cy="27129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676520"/>
                <a:gridCol w="3048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题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展示分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点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点评要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探究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组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黑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点评探究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点评探究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①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点评答题思路、规范，答案正误、是否全面；进行答案的补充修正、知识拓展、规律方法的总结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②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微软雅黑"/>
                          <a:ea typeface="楷体_GB2312"/>
                        </a:rPr>
                        <a:t>其他小组积极思考、认真倾听；进行补充点评质疑或拓展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探究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七组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黑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2" name="Text Box 31"/>
          <p:cNvSpPr/>
          <p:nvPr/>
        </p:nvSpPr>
        <p:spPr>
          <a:xfrm>
            <a:off x="5105520" y="31910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DBCD  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382320"/>
            <a:ext cx="8229600" cy="57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</a:rPr>
              <a:t>探究案参考答案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冷战；一边倒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由仇视到友善。美苏争霸中，美国处于守势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苏关系的破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国国际地位提高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中美关系正常化；中日邦交正常化；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全面参与联合国事务，积极开展多边外交；积极发展与周边国家的睦邻友好关系。综合国力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5" name="内容占位符 3" descr="6.jpg"/>
          <p:cNvPicPr/>
          <p:nvPr/>
        </p:nvPicPr>
        <p:blipFill>
          <a:blip r:embed="rId1"/>
          <a:stretch/>
        </p:blipFill>
        <p:spPr>
          <a:xfrm>
            <a:off x="380880" y="609480"/>
            <a:ext cx="7513920" cy="57182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91440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华文新魏"/>
              </a:rPr>
              <a:t>建国以来的外交成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8" name="内容占位符 3" descr="7.jpg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5788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57360" y="1655640"/>
            <a:ext cx="39938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班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课学案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609480" y="4038480"/>
            <a:ext cx="35607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榜样就在身边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1" name="Picture 5" descr="20070617_8e06267a417b711089efse19XjfR6A5C"/>
          <p:cNvPicPr/>
          <p:nvPr/>
        </p:nvPicPr>
        <p:blipFill>
          <a:blip r:embed="rId1"/>
          <a:stretch/>
        </p:blipFill>
        <p:spPr>
          <a:xfrm>
            <a:off x="3429000" y="4572000"/>
            <a:ext cx="1362240" cy="1211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0" y="5943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876920" y="762120"/>
            <a:ext cx="37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反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部分同学预习不够深入：史学探究题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完成较差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习自测题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出错较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题目完成不规范：审题、序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部分同学知识体系没有归纳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仍有抄袭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685800"/>
          <a:ext cx="4114800" cy="3322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优秀小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优秀个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刘斐、刘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王新迪、赵建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李梦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八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ff"/>
                          </a:solidFill>
                          <a:latin typeface="Calibri"/>
                        </a:rPr>
                        <a:t>任启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0" name="内容占位符 4" descr="9.jpg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5369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2" name="图片 3" descr="1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"/>
          <p:cNvSpPr/>
          <p:nvPr/>
        </p:nvSpPr>
        <p:spPr>
          <a:xfrm>
            <a:off x="152280" y="61722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201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月，习近平主席首访俄罗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5" name="图片 4" descr="坦桑.jpg"/>
          <p:cNvPicPr/>
          <p:nvPr/>
        </p:nvPicPr>
        <p:blipFill>
          <a:blip r:embed="rId1"/>
          <a:stretch/>
        </p:blipFill>
        <p:spPr>
          <a:xfrm>
            <a:off x="152280" y="380880"/>
            <a:ext cx="8686800" cy="6019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"/>
          <p:cNvSpPr/>
          <p:nvPr/>
        </p:nvSpPr>
        <p:spPr>
          <a:xfrm>
            <a:off x="304920" y="6275520"/>
            <a:ext cx="75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01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年，习主席访问坦桑尼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48" name="图片 4" descr="3.jpg"/>
          <p:cNvPicPr/>
          <p:nvPr/>
        </p:nvPicPr>
        <p:blipFill>
          <a:blip r:embed="rId1"/>
          <a:stretch/>
        </p:blipFill>
        <p:spPr>
          <a:xfrm>
            <a:off x="133200" y="152280"/>
            <a:ext cx="8877600" cy="59673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236520" y="6289560"/>
            <a:ext cx="83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01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日，习近平出席金砖五国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28600" y="152280"/>
            <a:ext cx="883908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带着中国梦与世界结伴同行！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ee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c5900"/>
                </a:solidFill>
                <a:latin typeface="华文新魏"/>
                <a:ea typeface="华文新魏"/>
              </a:rPr>
              <a:t>展望未来，中国外交必将在民族复兴的“中国梦”的引领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2743200" y="251460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就辉煌！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联合国上空的五星红旗 标清.wmv" descr="联合国上空的五星红旗 标清"/>
          <p:cNvPicPr/>
          <p:nvPr/>
        </p:nvPicPr>
        <p:blipFill>
          <a:blip r:embed="rId1"/>
          <a:stretch/>
        </p:blipFill>
        <p:spPr>
          <a:xfrm>
            <a:off x="990720" y="380880"/>
            <a:ext cx="7791480" cy="57913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-561240" y="990720"/>
            <a:ext cx="1399320" cy="2361960"/>
          </a:xfrm>
          <a:prstGeom prst="rect">
            <a:avLst/>
          </a:prstGeom>
          <a:solidFill>
            <a:srgbClr val="dc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吹毛求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546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lujia20076917249"/>
          <p:cNvPicPr/>
          <p:nvPr/>
        </p:nvPicPr>
        <p:blipFill>
          <a:blip r:embed="rId1"/>
          <a:stretch/>
        </p:blipFill>
        <p:spPr>
          <a:xfrm>
            <a:off x="3581280" y="2971800"/>
            <a:ext cx="5562720" cy="3886200"/>
          </a:xfrm>
          <a:prstGeom prst="rect">
            <a:avLst/>
          </a:prstGeom>
          <a:ln w="0">
            <a:noFill/>
          </a:ln>
        </p:spPr>
      </p:pic>
      <p:pic>
        <p:nvPicPr>
          <p:cNvPr id="188" name="Rectangle 6" descr=""/>
          <p:cNvPicPr/>
          <p:nvPr/>
        </p:nvPicPr>
        <p:blipFill>
          <a:blip r:embed="rId2"/>
          <a:stretch/>
        </p:blipFill>
        <p:spPr>
          <a:xfrm>
            <a:off x="-93600" y="1231920"/>
            <a:ext cx="8621640" cy="2144520"/>
          </a:xfrm>
          <a:prstGeom prst="rect">
            <a:avLst/>
          </a:prstGeom>
          <a:ln w="0">
            <a:noFill/>
          </a:ln>
        </p:spPr>
      </p:pic>
      <p:sp>
        <p:nvSpPr>
          <p:cNvPr id="189" name="WordArt 7"/>
          <p:cNvSpPr txBox="1"/>
          <p:nvPr/>
        </p:nvSpPr>
        <p:spPr>
          <a:xfrm>
            <a:off x="533520" y="4572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一、打开外交新局面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380880" y="380880"/>
            <a:ext cx="4038480" cy="3048120"/>
            <a:chOff x="380880" y="380880"/>
            <a:chExt cx="4038480" cy="3048120"/>
          </a:xfrm>
        </p:grpSpPr>
        <p:pic>
          <p:nvPicPr>
            <p:cNvPr id="191" name="Picture 2" descr="F2003060308492000000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40384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6"/>
            <p:cNvSpPr/>
            <p:nvPr/>
          </p:nvSpPr>
          <p:spPr>
            <a:xfrm>
              <a:off x="3858120" y="1295280"/>
              <a:ext cx="48528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我国第一颗原子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"/>
          <p:cNvGrpSpPr/>
          <p:nvPr/>
        </p:nvGrpSpPr>
        <p:grpSpPr>
          <a:xfrm>
            <a:off x="4419720" y="152280"/>
            <a:ext cx="3733560" cy="3505320"/>
            <a:chOff x="4419720" y="152280"/>
            <a:chExt cx="3733560" cy="3505320"/>
          </a:xfrm>
        </p:grpSpPr>
        <p:pic>
          <p:nvPicPr>
            <p:cNvPr id="194" name="Picture 3" descr="102060_13"/>
            <p:cNvPicPr/>
            <p:nvPr/>
          </p:nvPicPr>
          <p:blipFill>
            <a:blip r:embed="rId2"/>
            <a:stretch/>
          </p:blipFill>
          <p:spPr>
            <a:xfrm>
              <a:off x="4419720" y="152280"/>
              <a:ext cx="37335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7547040" y="1676160"/>
              <a:ext cx="485280" cy="190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我国第一颗氢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0" y="3581280"/>
            <a:ext cx="4419720" cy="3124080"/>
            <a:chOff x="0" y="3581280"/>
            <a:chExt cx="4419720" cy="3124080"/>
          </a:xfrm>
        </p:grpSpPr>
        <p:pic>
          <p:nvPicPr>
            <p:cNvPr id="197" name="Picture 4" descr="1066633967_ZMaiap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4419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8"/>
            <p:cNvSpPr/>
            <p:nvPr/>
          </p:nvSpPr>
          <p:spPr>
            <a:xfrm>
              <a:off x="3859560" y="4572000"/>
              <a:ext cx="485280" cy="15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东方红一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1"/>
          <p:cNvGrpSpPr/>
          <p:nvPr/>
        </p:nvGrpSpPr>
        <p:grpSpPr>
          <a:xfrm>
            <a:off x="4419720" y="3581280"/>
            <a:ext cx="4647960" cy="3124080"/>
            <a:chOff x="4419720" y="3581280"/>
            <a:chExt cx="4647960" cy="3124080"/>
          </a:xfrm>
        </p:grpSpPr>
        <p:pic>
          <p:nvPicPr>
            <p:cNvPr id="200" name="Picture 5" descr="xin_2305032411236872530921"/>
            <p:cNvPicPr/>
            <p:nvPr/>
          </p:nvPicPr>
          <p:blipFill>
            <a:blip r:embed="rId4"/>
            <a:stretch/>
          </p:blipFill>
          <p:spPr>
            <a:xfrm>
              <a:off x="4419720" y="3581280"/>
              <a:ext cx="46479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9"/>
            <p:cNvSpPr/>
            <p:nvPr/>
          </p:nvSpPr>
          <p:spPr>
            <a:xfrm>
              <a:off x="8277120" y="4038480"/>
              <a:ext cx="7902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南京长江大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0"/>
          <p:cNvSpPr/>
          <p:nvPr/>
        </p:nvSpPr>
        <p:spPr>
          <a:xfrm>
            <a:off x="7760160" y="152280"/>
            <a:ext cx="1155240" cy="3505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我国综合国力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7632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中国为什么能够恢复在联合国的合法席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787400" y="1706400"/>
            <a:ext cx="64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国际地位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752480" y="2544840"/>
            <a:ext cx="62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广大发展中国家的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752480" y="36576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7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届联合国代表大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-206280" y="3657600"/>
            <a:ext cx="249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恢复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2714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-206280" y="2057400"/>
            <a:ext cx="21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WordArt 11" descr=""/>
          <p:cNvPicPr/>
          <p:nvPr/>
        </p:nvPicPr>
        <p:blipFill>
          <a:blip r:embed="rId2"/>
          <a:stretch/>
        </p:blipFill>
        <p:spPr>
          <a:xfrm>
            <a:off x="682560" y="225360"/>
            <a:ext cx="6175440" cy="8733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4"/>
          <p:cNvSpPr/>
          <p:nvPr/>
        </p:nvSpPr>
        <p:spPr>
          <a:xfrm>
            <a:off x="16765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-206280" y="4952880"/>
            <a:ext cx="21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1828800" y="4572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中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1828800" y="5486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世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1676520" y="4800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121531599_21n"/>
          <p:cNvPicPr/>
          <p:nvPr/>
        </p:nvPicPr>
        <p:blipFill>
          <a:blip r:embed="rId1"/>
          <a:stretch/>
        </p:blipFill>
        <p:spPr>
          <a:xfrm>
            <a:off x="0" y="304920"/>
            <a:ext cx="6705720" cy="5146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685800" y="5988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届联大会上的中国代表席，左一为中华人民共和国外交部副部长乔冠华，右一为中国常驻联合国代表黄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4500720" y="304920"/>
            <a:ext cx="4643280" cy="5143320"/>
          </a:xfrm>
          <a:prstGeom prst="cloudCallout">
            <a:avLst>
              <a:gd name="adj1" fmla="val -80495"/>
              <a:gd name="adj2" fmla="val -31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中宋"/>
              </a:rPr>
              <a:t>外交部副部长乔冠华潇洒而豪放的大笑，被西方媒体描述为：</a:t>
            </a:r>
            <a:r>
              <a:rPr b="1" lang="zh-CN" sz="3600" spc="-1" strike="noStrike">
                <a:solidFill>
                  <a:srgbClr val="80808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中宋"/>
              </a:rPr>
              <a:t>震碎了议会大厦的玻璃！</a:t>
            </a:r>
            <a:r>
              <a:rPr b="1" lang="zh-CN" sz="3600" spc="-1" strike="noStrike">
                <a:solidFill>
                  <a:srgbClr val="808080"/>
                </a:solidFill>
                <a:latin typeface="华文中宋"/>
                <a:ea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8244000" y="6324480"/>
            <a:ext cx="900000" cy="533520"/>
          </a:xfrm>
          <a:custGeom>
            <a:avLst/>
            <a:gdLst>
              <a:gd name="textAreaLeft" fmla="*/ 34560 w 900000"/>
              <a:gd name="textAreaRight" fmla="*/ 865440 w 900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6427" h="21600">
                <a:moveTo>
                  <a:pt x="0" y="0"/>
                </a:moveTo>
                <a:lnTo>
                  <a:pt x="36427" y="0"/>
                </a:lnTo>
                <a:lnTo>
                  <a:pt x="36427" y="21600"/>
                </a:lnTo>
                <a:lnTo>
                  <a:pt x="0" y="21600"/>
                </a:lnTo>
                <a:close/>
              </a:path>
              <a:path fill="lightenLess" w="36427" h="21600">
                <a:moveTo>
                  <a:pt x="0" y="0"/>
                </a:moveTo>
                <a:lnTo>
                  <a:pt x="36427" y="0"/>
                </a:lnTo>
                <a:lnTo>
                  <a:pt x="35027" y="1400"/>
                </a:lnTo>
                <a:lnTo>
                  <a:pt x="1400" y="1400"/>
                </a:lnTo>
                <a:close/>
              </a:path>
              <a:path fill="darken" w="36427" h="21600">
                <a:moveTo>
                  <a:pt x="36427" y="0"/>
                </a:moveTo>
                <a:lnTo>
                  <a:pt x="36427" y="21600"/>
                </a:lnTo>
                <a:lnTo>
                  <a:pt x="35027" y="20200"/>
                </a:lnTo>
                <a:lnTo>
                  <a:pt x="35027" y="1400"/>
                </a:lnTo>
                <a:close/>
              </a:path>
              <a:path fill="darkenLess" w="36427" h="21600">
                <a:moveTo>
                  <a:pt x="36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27" y="20200"/>
                </a:lnTo>
                <a:close/>
              </a:path>
              <a:path fill="lighten" w="36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27" h="21600">
                <a:moveTo>
                  <a:pt x="11207" y="10800"/>
                </a:moveTo>
                <a:lnTo>
                  <a:pt x="25220" y="3794"/>
                </a:lnTo>
                <a:lnTo>
                  <a:pt x="25220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5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971640" y="57913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04920" y="5791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美国总统尼克松访问中国并发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美联合公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最出人意料的外交新闻之一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4"/>
          <p:cNvSpPr/>
          <p:nvPr/>
        </p:nvSpPr>
        <p:spPr>
          <a:xfrm>
            <a:off x="6095880" y="0"/>
            <a:ext cx="2895840" cy="1828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舞台，我做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WordArt 3" descr=""/>
          <p:cNvPicPr/>
          <p:nvPr/>
        </p:nvPicPr>
        <p:blipFill>
          <a:blip r:embed="rId2"/>
          <a:stretch/>
        </p:blipFill>
        <p:spPr>
          <a:xfrm>
            <a:off x="5851440" y="3986280"/>
            <a:ext cx="3140280" cy="1403280"/>
          </a:xfrm>
          <a:prstGeom prst="rect">
            <a:avLst/>
          </a:prstGeom>
          <a:ln w="0">
            <a:noFill/>
          </a:ln>
        </p:spPr>
      </p:pic>
      <p:pic>
        <p:nvPicPr>
          <p:cNvPr id="225" name="WordArt 3" descr=""/>
          <p:cNvPicPr/>
          <p:nvPr/>
        </p:nvPicPr>
        <p:blipFill>
          <a:blip r:embed="rId3"/>
          <a:stretch/>
        </p:blipFill>
        <p:spPr>
          <a:xfrm>
            <a:off x="146160" y="0"/>
            <a:ext cx="4303440" cy="79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6:18:45Z</dcterms:created>
  <dc:creator>lenovo</dc:creator>
  <dc:description/>
  <cp:keywords/>
  <dc:language>en-US</dc:language>
  <cp:lastModifiedBy>lenovo</cp:lastModifiedBy>
  <dcterms:modified xsi:type="dcterms:W3CDTF">2013-12-19T02:24:54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