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DEF-371C-44E6-BE02-84302BD5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DCF-4FF0-4E9B-929D-B8476D46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20F-0D6B-4294-84EC-D5C0806A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A91-49F0-4512-A5A5-1FC987C0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4BB6-CB6A-402F-94FB-3343BAB0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6CB4-EA98-48F3-B3A9-FA2CD35E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C0FF-4C1C-483B-AFEA-6F774572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4F86-59BB-41AD-AC24-B4A8E72D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6313-32F0-41DA-8A1D-7B2C0E93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9E17-3DF8-4022-A657-8863FF7E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952B-3A92-4E5E-975F-BF90AAE5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6C8-E3A9-4784-9C1D-E809738B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0D2D-7CEE-4F47-A685-DA4841B2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ED6E-17A1-4D9E-9232-E3AC18E2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8C97-4222-49A0-9572-93DCCB0E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F023-855D-4493-8C93-8491F8B0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02EE-487C-4F86-BF90-F71AE30F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CBD-AF72-4794-B0B3-E7F7B71B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784-24FF-43B9-B140-133474C9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0405-3459-4937-A2D5-DA5F950B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2DE-6EFF-4A69-AD5E-DA0E3DE2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280-D22F-4A2E-BEE8-D61424E4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435-942B-433A-98A3-BF704A9F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684-440B-4725-8865-27EA364E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8902-EEB4-4B8B-A433-74EFA2F59D12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0785-7F53-4F7F-9A0B-BE7066E97D35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age.baidu.com/i?ct=503316480&amp;z=0&amp;tn=baiduimagedetail&amp;word=&#689;%B4%FA%D6&#1855;%AF%B7%E2%C3%E6&amp;in=14593&amp;cl=2&amp;cm=1&amp;sc=0&amp;lm=-1&amp;pn=612&amp;rn=1&amp;di=893138164&amp;ln=807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848040" cy="452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63440" y="68652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对威胁，美国无法独当一面。为应付挑战，美国不仅要联络朋友，而且要联络对手；不仅要维持旧同盟，而且要组建新同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3440" y="1779480"/>
            <a:ext cx="465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要给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欧洲盟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伙伴关系重新注入活力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3440" y="2924280"/>
            <a:ext cx="473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是时候按下重启键，重新探访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国有着共同利益的领域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34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亚洲各国，尤其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日本、中国、韩国、印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应当建立起比以前更深入的联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79080" y="62222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奥巴马发表就职演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619280" y="5824440"/>
            <a:ext cx="4324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外向型经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贸易立国”、“出口第一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5977080"/>
            <a:ext cx="838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政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19280" y="5124600"/>
            <a:ext cx="4324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第三次科技革命的推动下，大力引进先进技术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9520" y="5243400"/>
            <a:ext cx="1162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科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19280" y="4437000"/>
            <a:ext cx="21146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重视教育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320" y="4570560"/>
            <a:ext cx="1676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劳力素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727440"/>
            <a:ext cx="43243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朝鲜战争和越南战争期间的大批军事定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3005280"/>
            <a:ext cx="43243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美国的援助（减免战争赔款、提供急需资金）、加强政府投资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3157560"/>
            <a:ext cx="11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资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19280" y="2133720"/>
            <a:ext cx="43243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日本的社会改革；制定合乎国情的经济发展战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9520" y="2133720"/>
            <a:ext cx="1162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生产关系调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19280" y="1600200"/>
            <a:ext cx="432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日本经济崛起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1600200"/>
            <a:ext cx="1162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1600200"/>
            <a:ext cx="88394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21337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52280" y="2928600"/>
            <a:ext cx="579132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52280" y="3727440"/>
            <a:ext cx="5791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4419720"/>
            <a:ext cx="579132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5105520"/>
            <a:ext cx="579132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52280" y="5824080"/>
            <a:ext cx="579132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52280" y="6476760"/>
            <a:ext cx="8839440" cy="6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1600200"/>
            <a:ext cx="0" cy="4883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1600200"/>
            <a:ext cx="0" cy="488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600200"/>
            <a:ext cx="0" cy="488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991720" y="1600200"/>
            <a:ext cx="0" cy="4883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5760" y="228600"/>
            <a:ext cx="3319560" cy="6426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日本的崛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9907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10508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日本经济崛起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市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943600" y="2133720"/>
            <a:ext cx="29718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抓住机遇，深化改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制定合乎国情的经济发展战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大力发展科技、教育，确立科教兴国战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大力发展外向型经济，参与国际竞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19280" y="5824440"/>
            <a:ext cx="4324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外向型经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贸易立国”、“出口第一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5977080"/>
            <a:ext cx="838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政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19280" y="5124600"/>
            <a:ext cx="4324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第三次科技革命的推动下，大力引进先进技术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9520" y="5243400"/>
            <a:ext cx="1162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科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19280" y="4437000"/>
            <a:ext cx="21146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重视教育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4570560"/>
            <a:ext cx="1676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劳力素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19280" y="3727440"/>
            <a:ext cx="43243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朝鲜战争和越南战争期间的大批军事定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19280" y="3005280"/>
            <a:ext cx="43243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美国的援助（减免战争赔款、提供急需资金）、加强政府投资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3157560"/>
            <a:ext cx="11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资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19280" y="2133720"/>
            <a:ext cx="43243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日本的社会改革；制定合乎国情的经济发展战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9520" y="2133720"/>
            <a:ext cx="1162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生产关系调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16002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历史启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19280" y="1600200"/>
            <a:ext cx="432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日本经济崛起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1600200"/>
            <a:ext cx="1162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1600200"/>
            <a:ext cx="88394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21337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52280" y="2928600"/>
            <a:ext cx="579132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52280" y="3727440"/>
            <a:ext cx="5791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4419720"/>
            <a:ext cx="579132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280" y="5105520"/>
            <a:ext cx="579132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52280" y="5824080"/>
            <a:ext cx="579132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52280" y="6476760"/>
            <a:ext cx="8839440" cy="6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280" y="1600200"/>
            <a:ext cx="0" cy="4883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1600200"/>
            <a:ext cx="0" cy="488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1600200"/>
            <a:ext cx="0" cy="488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991720" y="1600200"/>
            <a:ext cx="0" cy="4883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228600"/>
            <a:ext cx="3319560" cy="642600"/>
          </a:xfrm>
          <a:prstGeom prst="rect">
            <a:avLst/>
          </a:prstGeom>
          <a:solidFill>
            <a:srgbClr val="0000e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日本的崛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907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10508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日本经济崛起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市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2280" y="3428640"/>
            <a:ext cx="87631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⑴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图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反映了日本经济发展的什么特征？（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分）分析导致这种特征的主要原因？（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特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日本经济的重新崛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会改革……    ②美国的扶植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的军事订货  ④制订……经济发展战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政府投资和重视教育⑥提出“贸易立国”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2040" y="39600"/>
            <a:ext cx="2808360" cy="3313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48200" y="0"/>
            <a:ext cx="2595600" cy="3429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324600" y="76320"/>
            <a:ext cx="485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图一：日本世博会的太阳神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91680" y="0"/>
            <a:ext cx="790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图二：日本相扑士和山姆大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3429000"/>
            <a:ext cx="868680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）你认为图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是什么时期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？（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分）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请说明理由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？（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理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随着日本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经济实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增强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代日本成为仅次于美国的第二大经济大国），开始谋求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政治大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的目标，与美国既有联盟亦有摩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057400" y="533520"/>
            <a:ext cx="24051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欧的联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1295280"/>
            <a:ext cx="24051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本的崛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5960" y="2057400"/>
            <a:ext cx="23749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结盟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97000" y="2819520"/>
            <a:ext cx="233388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的振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209680" y="4191120"/>
            <a:ext cx="2333880" cy="1211040"/>
            <a:chOff x="2209680" y="4191120"/>
            <a:chExt cx="2333880" cy="1211040"/>
          </a:xfrm>
        </p:grpSpPr>
        <p:sp>
          <p:nvSpPr>
            <p:cNvPr id="322" name=""/>
            <p:cNvSpPr/>
            <p:nvPr/>
          </p:nvSpPr>
          <p:spPr>
            <a:xfrm>
              <a:off x="2209680" y="4191120"/>
              <a:ext cx="2333880" cy="520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美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09680" y="4881600"/>
              <a:ext cx="2333880" cy="520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苏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952880" y="6094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29200" y="411480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57800" y="1219320"/>
            <a:ext cx="2232000" cy="1224000"/>
          </a:xfrm>
          <a:prstGeom prst="rightArrow">
            <a:avLst>
              <a:gd name="adj1" fmla="val 50000"/>
              <a:gd name="adj2" fmla="val 45588"/>
            </a:avLst>
          </a:pr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34120" y="4191120"/>
            <a:ext cx="2074680" cy="1081080"/>
          </a:xfrm>
          <a:prstGeom prst="rightArrow">
            <a:avLst>
              <a:gd name="adj1" fmla="val 50000"/>
              <a:gd name="adj2" fmla="val 47977"/>
            </a:avLst>
          </a:pr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772400" y="1295280"/>
            <a:ext cx="228600" cy="3733920"/>
          </a:xfrm>
          <a:custGeom>
            <a:avLst/>
            <a:gdLst>
              <a:gd name="textAreaLeft" fmla="*/ 0 w 228600"/>
              <a:gd name="textAreaRight" fmla="*/ 8244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4120" y="1600200"/>
            <a:ext cx="207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实力迅速上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34120" y="4495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力相对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57480" y="304920"/>
            <a:ext cx="1399320" cy="5715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世界多极化趋势出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320" y="304920"/>
            <a:ext cx="789840" cy="5867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两   极   格   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2666880"/>
            <a:ext cx="1067040" cy="108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14560" y="2819520"/>
            <a:ext cx="2405160" cy="520560"/>
          </a:xfrm>
          <a:prstGeom prst="rect">
            <a:avLst/>
          </a:prstGeom>
          <a:solidFill>
            <a:srgbClr val="0000e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中国的振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14560" y="2057400"/>
            <a:ext cx="2405160" cy="520560"/>
          </a:xfrm>
          <a:prstGeom prst="rect">
            <a:avLst/>
          </a:prstGeom>
          <a:solidFill>
            <a:srgbClr val="0000e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不结盟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6497640" y="0"/>
          <a:ext cx="2646360" cy="23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7640" y="0"/>
                    <a:ext cx="264636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998040" y="1989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隶书"/>
              </a:rPr>
              <a:t>不结盟运动的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252440"/>
            <a:ext cx="6400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二战后新兴国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______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的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781360"/>
            <a:ext cx="8534520" cy="7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兴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在南斯拉夫总统铁托、埃及总统纳赛尔、印度总理尼赫鲁推动下，不结盟运动正式形成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政策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449568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任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       政治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济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5445000"/>
            <a:ext cx="8458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意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480" y="52560"/>
            <a:ext cx="3090600" cy="520560"/>
          </a:xfrm>
          <a:prstGeom prst="rect">
            <a:avLst/>
          </a:prstGeom>
          <a:solidFill>
            <a:srgbClr val="0000e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不结盟运动的兴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95640" y="13986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</a:rPr>
              <a:t>摆脱美苏的控制和维护自身独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39625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</a:rPr>
              <a:t>非集团、不结盟（独立自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526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反对美苏霸权主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5029200"/>
            <a:ext cx="3429000" cy="459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建立国际经济新秩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2280" y="5880240"/>
            <a:ext cx="8153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有力冲击了两极格局，推动世界格局向多极化方向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505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441972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49528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29000" y="54864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304920" y="34750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中华人民共和国成立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5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一五计划超额完成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5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开始大规模的社会主义建设；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⑷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十一届三中全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把党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工作重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移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现代化建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来，经济迅速发展，国际地位提高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成为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世界政治舞台上不可忽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的重要力量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2590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rcRect l="57503" t="7685" r="12301" b="50709"/>
          <a:stretch/>
        </p:blipFill>
        <p:spPr>
          <a:xfrm>
            <a:off x="2209680" y="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4648320" y="0"/>
            <a:ext cx="2286000" cy="26398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22520" y="2773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中国的振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4"/>
          <a:srcRect l="3997" t="4554" r="6000" b="4367"/>
          <a:stretch/>
        </p:blipFill>
        <p:spPr>
          <a:xfrm>
            <a:off x="7086600" y="0"/>
            <a:ext cx="200016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76320" y="60480"/>
            <a:ext cx="35049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知识体系构建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-407520" y="1295280"/>
            <a:ext cx="1155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世界政治格局的演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838080"/>
            <a:ext cx="381240" cy="5867640"/>
          </a:xfrm>
          <a:custGeom>
            <a:avLst/>
            <a:gdLst>
              <a:gd name="textAreaLeft" fmla="*/ 243720 w 381240"/>
              <a:gd name="textAreaRight" fmla="*/ 381600 w 381240"/>
              <a:gd name="textAreaTop" fmla="*/ 153000 h 5867640"/>
              <a:gd name="textAreaBottom" fmla="*/ 5714640 h 586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03480" y="885960"/>
            <a:ext cx="6568920" cy="4597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二战前，以欧洲为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050840" y="1447920"/>
            <a:ext cx="7255080" cy="1269360"/>
            <a:chOff x="1050840" y="1447920"/>
            <a:chExt cx="7255080" cy="1269360"/>
          </a:xfrm>
        </p:grpSpPr>
        <p:sp>
          <p:nvSpPr>
            <p:cNvPr id="366" name=""/>
            <p:cNvSpPr/>
            <p:nvPr/>
          </p:nvSpPr>
          <p:spPr>
            <a:xfrm>
              <a:off x="1050840" y="2257560"/>
              <a:ext cx="7255080" cy="45972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二战后初期，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以雅尔塔体系为基础，形成两极格局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14800" y="1447920"/>
              <a:ext cx="457200" cy="761760"/>
            </a:xfrm>
            <a:prstGeom prst="downArrow">
              <a:avLst>
                <a:gd name="adj1" fmla="val 50000"/>
                <a:gd name="adj2" fmla="val 41654"/>
              </a:avLst>
            </a:prstGeom>
            <a:solidFill>
              <a:srgbClr val="edfa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990720" y="2895480"/>
            <a:ext cx="7848360" cy="1422000"/>
            <a:chOff x="990720" y="2895480"/>
            <a:chExt cx="7848360" cy="1422000"/>
          </a:xfrm>
        </p:grpSpPr>
        <p:sp>
          <p:nvSpPr>
            <p:cNvPr id="369" name=""/>
            <p:cNvSpPr/>
            <p:nvPr/>
          </p:nvSpPr>
          <p:spPr>
            <a:xfrm>
              <a:off x="990720" y="3857760"/>
              <a:ext cx="7848360" cy="45972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2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世纪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6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、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7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年代：两极格局受冲击，出现多极化趋势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14800" y="2895480"/>
              <a:ext cx="457200" cy="838440"/>
            </a:xfrm>
            <a:prstGeom prst="downArrow">
              <a:avLst>
                <a:gd name="adj1" fmla="val 50000"/>
                <a:gd name="adj2" fmla="val 45846"/>
              </a:avLst>
            </a:prstGeom>
            <a:solidFill>
              <a:srgbClr val="edfa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838080" y="4419720"/>
            <a:ext cx="8305920" cy="1602720"/>
            <a:chOff x="838080" y="4419720"/>
            <a:chExt cx="8305920" cy="1602720"/>
          </a:xfrm>
        </p:grpSpPr>
        <p:sp>
          <p:nvSpPr>
            <p:cNvPr id="372" name=""/>
            <p:cNvSpPr/>
            <p:nvPr/>
          </p:nvSpPr>
          <p:spPr>
            <a:xfrm>
              <a:off x="838080" y="5562720"/>
              <a:ext cx="8305920" cy="45972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2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世纪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8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年代末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9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年代初：两极格局瓦解，暂时“一超多强”，多极化趋势加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91120" y="4419720"/>
              <a:ext cx="457200" cy="914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edfa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838080" y="5578560"/>
            <a:ext cx="8305920" cy="459720"/>
          </a:xfrm>
          <a:prstGeom prst="rect">
            <a:avLst/>
          </a:prstGeom>
          <a:solidFill>
            <a:srgbClr val="000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世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代末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代初：两极格局瓦解，暂时“一超多强”，多极化趋势加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6835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0" y="1700280"/>
            <a:ext cx="8899560" cy="32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94000"/>
                  </a:srgbClr>
                </a:solidFill>
                <a:latin typeface="楷体_GB2312"/>
              </a:rPr>
              <a:t>第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94000"/>
                  </a:srgbClr>
                </a:solidFill>
                <a:latin typeface="楷体_GB2312"/>
              </a:rPr>
              <a:t>26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94000"/>
                  </a:srgbClr>
                </a:solidFill>
                <a:latin typeface="楷体_GB2312"/>
              </a:rPr>
              <a:t>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94000"/>
                </a:srgbClr>
              </a:solidFill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94000"/>
                  </a:srgbClr>
                </a:solidFill>
                <a:latin typeface="楷体_GB2312"/>
              </a:rPr>
              <a:t>世界多极化趋势的出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94000"/>
                </a:srgbClr>
              </a:solidFill>
              <a:latin typeface="楷体_GB2312"/>
              <a:ea typeface="楷体_GB231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60480"/>
            <a:ext cx="35049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知识体系构建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407520" y="1295280"/>
            <a:ext cx="1155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世界政治格局的演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838080"/>
            <a:ext cx="381240" cy="5867640"/>
          </a:xfrm>
          <a:custGeom>
            <a:avLst/>
            <a:gdLst>
              <a:gd name="textAreaLeft" fmla="*/ 243720 w 381240"/>
              <a:gd name="textAreaRight" fmla="*/ 381600 w 381240"/>
              <a:gd name="textAreaTop" fmla="*/ 153000 h 5867640"/>
              <a:gd name="textAreaBottom" fmla="*/ 5714640 h 586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03480" y="885960"/>
            <a:ext cx="6568920" cy="4597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二战前，以欧洲为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50840" y="1447920"/>
            <a:ext cx="7255080" cy="1269360"/>
            <a:chOff x="1050840" y="1447920"/>
            <a:chExt cx="7255080" cy="1269360"/>
          </a:xfrm>
        </p:grpSpPr>
        <p:sp>
          <p:nvSpPr>
            <p:cNvPr id="180" name=""/>
            <p:cNvSpPr/>
            <p:nvPr/>
          </p:nvSpPr>
          <p:spPr>
            <a:xfrm>
              <a:off x="1050840" y="2257560"/>
              <a:ext cx="7255080" cy="45972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二战后初期，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以雅尔塔体系为基础，形成两极格局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1447920"/>
              <a:ext cx="457200" cy="761760"/>
            </a:xfrm>
            <a:prstGeom prst="downArrow">
              <a:avLst>
                <a:gd name="adj1" fmla="val 50000"/>
                <a:gd name="adj2" fmla="val 41654"/>
              </a:avLst>
            </a:prstGeom>
            <a:solidFill>
              <a:srgbClr val="edfa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971640" y="2924280"/>
            <a:ext cx="7848360" cy="1421640"/>
            <a:chOff x="971640" y="2924280"/>
            <a:chExt cx="7848360" cy="1421640"/>
          </a:xfrm>
        </p:grpSpPr>
        <p:sp>
          <p:nvSpPr>
            <p:cNvPr id="183" name=""/>
            <p:cNvSpPr/>
            <p:nvPr/>
          </p:nvSpPr>
          <p:spPr>
            <a:xfrm>
              <a:off x="971640" y="3886200"/>
              <a:ext cx="7848360" cy="45972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2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世纪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6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、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70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年代：两极格局受冲击，出现多极化趋势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95720" y="2924280"/>
              <a:ext cx="457200" cy="838080"/>
            </a:xfrm>
            <a:prstGeom prst="downArrow">
              <a:avLst>
                <a:gd name="adj1" fmla="val 50000"/>
                <a:gd name="adj2" fmla="val 45827"/>
              </a:avLst>
            </a:prstGeom>
            <a:solidFill>
              <a:srgbClr val="edfa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57400" y="533520"/>
            <a:ext cx="24051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欧的联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295280"/>
            <a:ext cx="24051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本的崛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5960" y="2057400"/>
            <a:ext cx="23749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结盟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97000" y="2819520"/>
            <a:ext cx="233388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的振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209680" y="4191120"/>
            <a:ext cx="2333880" cy="1211040"/>
            <a:chOff x="2209680" y="4191120"/>
            <a:chExt cx="2333880" cy="1211040"/>
          </a:xfrm>
        </p:grpSpPr>
        <p:sp>
          <p:nvSpPr>
            <p:cNvPr id="190" name=""/>
            <p:cNvSpPr/>
            <p:nvPr/>
          </p:nvSpPr>
          <p:spPr>
            <a:xfrm>
              <a:off x="2209680" y="4191120"/>
              <a:ext cx="2333880" cy="520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美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09680" y="4881600"/>
              <a:ext cx="2333880" cy="520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苏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952880" y="6094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411480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1219320"/>
            <a:ext cx="2232000" cy="1224000"/>
          </a:xfrm>
          <a:prstGeom prst="rightArrow">
            <a:avLst>
              <a:gd name="adj1" fmla="val 50000"/>
              <a:gd name="adj2" fmla="val 45588"/>
            </a:avLst>
          </a:pr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4191120"/>
            <a:ext cx="2074680" cy="1081080"/>
          </a:xfrm>
          <a:prstGeom prst="rightArrow">
            <a:avLst>
              <a:gd name="adj1" fmla="val 50000"/>
              <a:gd name="adj2" fmla="val 47977"/>
            </a:avLst>
          </a:pr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72400" y="1295280"/>
            <a:ext cx="228600" cy="3733920"/>
          </a:xfrm>
          <a:custGeom>
            <a:avLst/>
            <a:gdLst>
              <a:gd name="textAreaLeft" fmla="*/ 0 w 228600"/>
              <a:gd name="textAreaRight" fmla="*/ 8244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1600200"/>
            <a:ext cx="207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实力迅速上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4495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力相对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7480" y="304920"/>
            <a:ext cx="1399320" cy="5715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世界多极化趋势出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533520"/>
            <a:ext cx="2362320" cy="520560"/>
          </a:xfrm>
          <a:prstGeom prst="rect">
            <a:avLst/>
          </a:prstGeom>
          <a:solidFill>
            <a:srgbClr val="0000e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西欧的联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20" y="304920"/>
            <a:ext cx="789840" cy="5867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两极格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2666880"/>
            <a:ext cx="1067040" cy="108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阅读下列材料，回答有关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、根据材料一至五，指出当时欧洲走向联合的必要性和可能性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材料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，经济发展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古代到近代，欧洲多国曾称雄于世界，昔日的欧洲列强都已降为二等国、三等国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——丘吉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62520" y="838080"/>
            <a:ext cx="5029200" cy="2514240"/>
            <a:chOff x="3962520" y="838080"/>
            <a:chExt cx="5029200" cy="2514240"/>
          </a:xfrm>
        </p:grpSpPr>
        <p:sp>
          <p:nvSpPr>
            <p:cNvPr id="205" name=""/>
            <p:cNvSpPr/>
            <p:nvPr/>
          </p:nvSpPr>
          <p:spPr>
            <a:xfrm>
              <a:off x="4069080" y="838080"/>
              <a:ext cx="298368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3962520" y="932760"/>
            <a:ext cx="5029200" cy="241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62520" y="932760"/>
                      <a:ext cx="5029200" cy="241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8" name=""/>
            <p:cNvSpPr/>
            <p:nvPr/>
          </p:nvSpPr>
          <p:spPr>
            <a:xfrm>
              <a:off x="5897520" y="908280"/>
              <a:ext cx="18396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0" y="4392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材料二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战后，欧洲各国致力于发展经济。为发展重工业，德国一直进口法国阿尔萨斯、洛林的铁矿，而英国、法国等国也要进口德国鲁尔的煤矿。……欧洲各国都在反思，何不优势互补。……欧州各国企业到邻国开拓市场，由于各国货币政策，物价、利率、投资利益将差别较大，成本较高，不利于投资和经济增长。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欧洲经济十五讲》陈乐民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北大出版社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5638680"/>
            <a:ext cx="67057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战后西欧各国经济联系加强，经济发展的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3124080"/>
            <a:ext cx="510516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战后西欧国际地位的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3520" y="2470320"/>
            <a:ext cx="3962160" cy="3549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阅读下列材料，回答有关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、根据材料一至五，指出当时欧洲走向联合的必要性和可能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材料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1927080"/>
            <a:ext cx="4190760" cy="2949840"/>
          </a:xfrm>
          <a:prstGeom prst="cloudCallout">
            <a:avLst>
              <a:gd name="adj1" fmla="val -62148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甲：我们西欧面临东方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</a:rPr>
              <a:t>苏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和东欧盟国的威胁，以及来自西方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美国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的经济渗透和政治控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乙：怎么办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甲：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5589720"/>
            <a:ext cx="4248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冷战时期国际政治形势的推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14050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材料四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欧洲文明是同源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希腊文明，罗马文明、基督教文明。欧洲历史上就有民族统一的情结。…… 经过两次世界大战的激烈厮杀，整个欧洲已是脆弱不堪，支离破碎。欧洲政治家清醒地意识到，欧洲不能再发生内部的纷争了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欧洲文明十五讲》陈乐民 北大出版社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0878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材料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二战前的一千年间，德法大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小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平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打一仗。……要使欧洲国家统一起来，必须首先结束长达百年之久法德之间的冲突……法德将不可能再把这些资源用于战争，把战争的可能性降到了最低点。这种从根本上的联合，让欧洲人看到了希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舒曼计划》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68360" y="2349360"/>
            <a:ext cx="504036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源远流长的欧洲统一思想的回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5383080"/>
            <a:ext cx="556236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法、德和解，为欧洲联合奠定了基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阅读下列材料，回答有关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、根据材料一至五，指出当时欧洲走向联合的必要性和可能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3429000"/>
            <a:ext cx="24112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欧洲经济共同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105520"/>
            <a:ext cx="26668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欧洲原子能共同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0" y="1828800"/>
            <a:ext cx="2376360" cy="134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5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欧洲煤钢共同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1951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年《巴黎条约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84360" y="1628640"/>
            <a:ext cx="106560" cy="4543560"/>
          </a:xfrm>
          <a:custGeom>
            <a:avLst/>
            <a:gdLst>
              <a:gd name="textAreaLeft" fmla="*/ 0 w 106560"/>
              <a:gd name="textAreaRight" fmla="*/ 74880 w 106560"/>
              <a:gd name="textAreaTop" fmla="*/ 189000 h 4543560"/>
              <a:gd name="textAreaBottom" fmla="*/ 4354560 h 454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56000" y="3213000"/>
            <a:ext cx="792000" cy="576360"/>
          </a:xfrm>
          <a:custGeom>
            <a:avLst/>
            <a:gdLst>
              <a:gd name="textAreaLeft" fmla="*/ 99000 w 792000"/>
              <a:gd name="textAreaRight" fmla="*/ 693000 w 7920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合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2133720"/>
            <a:ext cx="1440000" cy="301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88000" y="3213000"/>
            <a:ext cx="863640" cy="576360"/>
          </a:xfrm>
          <a:prstGeom prst="rightArrow">
            <a:avLst>
              <a:gd name="adj1" fmla="val 50000"/>
              <a:gd name="adj2" fmla="val 37461"/>
            </a:avLst>
          </a:pr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33360"/>
            <a:ext cx="41403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欧洲一体化进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648320"/>
            <a:ext cx="2514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1957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年《罗马条约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6000" y="30686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欧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456000" cy="27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057400" y="533520"/>
            <a:ext cx="24051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欧的联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1295280"/>
            <a:ext cx="24051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本的崛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5960" y="2057400"/>
            <a:ext cx="23749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结盟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97000" y="2819520"/>
            <a:ext cx="233388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的振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9680" y="4191120"/>
            <a:ext cx="2333880" cy="1211040"/>
            <a:chOff x="2209680" y="4191120"/>
            <a:chExt cx="2333880" cy="1211040"/>
          </a:xfrm>
        </p:grpSpPr>
        <p:sp>
          <p:nvSpPr>
            <p:cNvPr id="238" name=""/>
            <p:cNvSpPr/>
            <p:nvPr/>
          </p:nvSpPr>
          <p:spPr>
            <a:xfrm>
              <a:off x="2209680" y="4191120"/>
              <a:ext cx="2333880" cy="520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美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09680" y="4881600"/>
              <a:ext cx="2333880" cy="520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苏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952880" y="6094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411480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219320"/>
            <a:ext cx="2232000" cy="1224000"/>
          </a:xfrm>
          <a:prstGeom prst="rightArrow">
            <a:avLst>
              <a:gd name="adj1" fmla="val 50000"/>
              <a:gd name="adj2" fmla="val 45588"/>
            </a:avLst>
          </a:pr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4191120"/>
            <a:ext cx="2074680" cy="1081080"/>
          </a:xfrm>
          <a:prstGeom prst="rightArrow">
            <a:avLst>
              <a:gd name="adj1" fmla="val 50000"/>
              <a:gd name="adj2" fmla="val 47977"/>
            </a:avLst>
          </a:prstGeom>
          <a:solidFill>
            <a:srgbClr val="edfa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72400" y="1295280"/>
            <a:ext cx="228600" cy="3733920"/>
          </a:xfrm>
          <a:custGeom>
            <a:avLst/>
            <a:gdLst>
              <a:gd name="textAreaLeft" fmla="*/ 0 w 228600"/>
              <a:gd name="textAreaRight" fmla="*/ 8244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1600200"/>
            <a:ext cx="207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实力迅速上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4495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力相对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7480" y="304920"/>
            <a:ext cx="1399320" cy="5715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世界多极化趋势出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7400" y="1295280"/>
            <a:ext cx="2362320" cy="520560"/>
          </a:xfrm>
          <a:prstGeom prst="rect">
            <a:avLst/>
          </a:prstGeom>
          <a:solidFill>
            <a:srgbClr val="0000e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日本的崛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" y="304920"/>
            <a:ext cx="789840" cy="5867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两   极   格   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2666880"/>
            <a:ext cx="1067040" cy="108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07:07:55Z</dcterms:created>
  <dc:creator>mm</dc:creator>
  <dc:description/>
  <dc:language>en-US</dc:language>
  <cp:lastModifiedBy>锅巴</cp:lastModifiedBy>
  <dcterms:modified xsi:type="dcterms:W3CDTF">2013-12-26T00:14:45Z</dcterms:modified>
  <cp:revision>691</cp:revision>
  <dc:subject/>
  <dc:title>幻灯片 1</dc:title>
</cp:coreProperties>
</file>