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10.gif" ContentType="image/gif"/>
  <Override PartName="/ppt/media/image13.png" ContentType="image/png"/>
  <Override PartName="/ppt/media/image7.gif" ContentType="image/gif"/>
  <Override PartName="/ppt/media/image9.wmf" ContentType="image/x-wmf"/>
  <Override PartName="/ppt/media/image11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AAD-4866-43D5-A56A-0D8EB9D2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31E-F68F-4D42-93F3-5DE42A51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E81-2E4C-414A-9DB7-A96BE8A1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147-84E6-44BD-9309-074B6D15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D97A-4C0C-4256-93BB-DBD05D89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853B-ABFF-41AF-92F0-D5959D9A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4151-E05B-4B1D-AB65-D1C15070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D27-4B40-4870-8B95-0013C1AA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1E4D-3861-47A1-BECE-713A2EF0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B9B7-6FCA-4576-ACE3-3CEF7C64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3FA8-0FB7-4A4E-B8B2-93759EED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B5D-02BE-4360-A63E-979B0FE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3EF4-45D4-46F5-B991-892036C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BA8B-E569-4AFB-95CE-AD693BEE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ADA3-DF6C-49FA-9473-ACB2706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C289-E1B8-425F-AFD5-C601A094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6D41-740D-4735-B5D4-3BF34B5F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B54-2FF2-46C2-B2CD-26CC4816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1B5-65AF-45AC-8EE9-99D4D0E7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621-A4E6-4250-A53C-D5366C9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1B6-5A10-402B-9653-9E3337D4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0A5-BBFE-46B3-A8FD-52D7E246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F9E-5395-4185-BD7A-5CC4DBE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0D0-325A-4D23-9DB3-B729E23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F1A6-53DD-40AC-BC12-34E6AB4E31F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183E-FD18-415E-83E2-D76E611BB6F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image" Target="../media/image11.gif"/><Relationship Id="rId4" Type="http://schemas.openxmlformats.org/officeDocument/2006/relationships/slide" Target="slide9.xml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zxls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228600" y="1268280"/>
            <a:ext cx="8664120" cy="5257800"/>
            <a:chOff x="228600" y="1268280"/>
            <a:chExt cx="8664120" cy="5257800"/>
          </a:xfrm>
        </p:grpSpPr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228600" y="1268280"/>
              <a:ext cx="4161960" cy="43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>
              <a:off x="4844520" y="1420200"/>
              <a:ext cx="4048200" cy="41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28600" y="5914800"/>
              <a:ext cx="408600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70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年代的豆腐票和粉票</a:t>
              </a:r>
              <a:endParaRPr b="0" lang="en-US" sz="2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25640" y="6005520"/>
              <a:ext cx="3253680" cy="520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80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年代的布票</a:t>
              </a:r>
              <a:endParaRPr b="0" lang="en-US" sz="2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835280" y="266760"/>
            <a:ext cx="6049800" cy="7034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计划经济时期的各种票证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332000" y="189000"/>
            <a:ext cx="55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、经济体制改革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4360" y="1125360"/>
            <a:ext cx="15620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</a:t>
            </a:r>
            <a:r>
              <a:rPr b="1" lang="zh-CN" sz="4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含义</a:t>
            </a:r>
            <a:endParaRPr b="1" lang="en-US" sz="40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246800" y="76320"/>
            <a:ext cx="1820880" cy="1509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177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坚持社会主义制度的前提下，改革生产关系中不适应生产力发展的一系列环节，解放和发展社会生产力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2852640"/>
            <a:ext cx="3961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前提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内容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目标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的根本目的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的实质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3068640"/>
            <a:ext cx="288720" cy="3097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59280" y="29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坚持社会主义制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16360" y="364500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产关系中不适应生产力发展的环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16360" y="43657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建立社会主义市场经济体制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5157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放和发展生产力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1964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社会主义制度的自我完善和发展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5087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/>
          <p:nvPr/>
        </p:nvSpPr>
        <p:spPr>
          <a:xfrm>
            <a:off x="39528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原因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640" y="342900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高度集中的计划经济体制严重束缚了生产力的发展。</a:t>
            </a:r>
            <a:r>
              <a:rPr b="1" lang="zh-CN" sz="6000" spc="-1" strike="noStrike">
                <a:solidFill>
                  <a:srgbClr val="ff33cc"/>
                </a:solidFill>
                <a:latin typeface="Arial Black"/>
                <a:ea typeface="隶书"/>
              </a:rPr>
              <a:t> 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50920" y="189000"/>
            <a:ext cx="889308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黑体"/>
              </a:rPr>
              <a:t>假使你是一名改革的策划者，你认为当时经济体制的改革应该首先从农村开始，还是从城市开始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2637000"/>
            <a:ext cx="7921440" cy="1312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我国是个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农业大国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农村人口占总人口的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农业不发展，农村就不会稳定，社会也不会安定。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无农不稳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5537160"/>
            <a:ext cx="7416720" cy="703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Verdana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农业是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黑体"/>
              </a:rPr>
              <a:t>国民经济的基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，农业是实现四个现代化的根本条件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1120" cy="3427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79280" y="5013360"/>
            <a:ext cx="41112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1197000"/>
            <a:ext cx="7705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内容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、农村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时农村实行的是人民公社体制，一切财产上交公社，在全社范围内统一核算，统一分配，实行部分的供给制（办食堂，吃饭不要钱）。公社经常无偿地调用生产队的土地、物资和劳动力，甚至调用社员的房屋、家具。这些实际上是对农民的剥夺，使农民惊恐和不满，纷纷杀猪宰羊，砍树伐木，造成生产力极大的破坏。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7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仍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亿农民没有解决温饱问题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从材料中，你可以看出人民公社体制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经营管理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分配制度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存在哪些弊端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1197000"/>
            <a:ext cx="7705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原因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内容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农村经济体制改革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63640" y="3716280"/>
            <a:ext cx="738036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人民公社体制（经营管理高度集中，分配中搞平均主义，农民经营没有自主权），严重挫伤了农民生产积极性，阻碍了农业生产发展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050920" y="134136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安徽、四川（包产到组、包产到户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>
            <a:hlinkClick r:id="rId1" action="ppaction://hlinksldjump"/>
          </p:cNvPr>
          <p:cNvSpPr/>
          <p:nvPr/>
        </p:nvSpPr>
        <p:spPr>
          <a:xfrm>
            <a:off x="2050920" y="1916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家庭联产承包责任制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360" y="1484280"/>
            <a:ext cx="272880" cy="287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2637000"/>
            <a:ext cx="272880" cy="3045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900000" y="1341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试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1916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推广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468360" y="2060640"/>
            <a:ext cx="272880" cy="3045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900000" y="24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深化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3068640"/>
            <a:ext cx="90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变革行政管理：撤销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建立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撤销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建立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                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476280"/>
            <a:ext cx="644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00"/>
                </a:solidFill>
                <a:latin typeface="Verdana"/>
                <a:ea typeface="黑体"/>
              </a:rPr>
              <a:t>②</a:t>
            </a:r>
            <a:r>
              <a:rPr b="1" lang="zh-CN" sz="3500" spc="-1" strike="noStrike">
                <a:solidFill>
                  <a:srgbClr val="ffff00"/>
                </a:solidFill>
                <a:latin typeface="Verdana"/>
                <a:ea typeface="黑体"/>
              </a:rPr>
              <a:t>改革内容</a:t>
            </a:r>
            <a:endParaRPr b="0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64000" y="0"/>
            <a:ext cx="558000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大包干，大包干，直来直去不拐弯，交够国家的，留足集体的，剩下都是自己的。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4076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作用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24000" y="4221000"/>
            <a:ext cx="637236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提高了农民生产的积极性，解放和发展了农村生产力；促进城市改革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1197000"/>
            <a:ext cx="7705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内容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农村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93372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城市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47242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①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9144000" cy="321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95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，上海的天气很热，企业为了不影响生产，采取降温的措施，当时的降温措施比较简单，主要是风扇、鼓风机，但是企业即使采取这样的措施也没有主动权。要经过层层报批，当时经过十一个部门的审批，要盖十一个图章，等最后的图章盖完，夏天已经过去了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141720"/>
            <a:ext cx="9144000" cy="36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　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沈阳有两个厂，一个是铜厂，一个是电缆厂，这两个厂一墙之隔，但没有横向联系，电缆厂归机械部门管，铜厂归冶金部门管，冶金部门把铜调到别的地方去，电缆厂需要铜又要从云南等地调进，造成了运输上的大量浪费，时间上的浪费，本来两个厂发展横向联合，通过签定合同就可以解决，但是不行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95280" y="2349360"/>
            <a:ext cx="777708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阻碍城市经济发展的主要因素是什么？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高度集中的经济体制，导致企业缺乏自主权，严重压抑了企业和职工的主动性、积极性和创造性，使企业失去了活力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1197000"/>
            <a:ext cx="7705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内容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农村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93372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城市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9280" y="4724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①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4653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全面展开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537372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中心环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35280" y="544500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④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措施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95280" y="2133720"/>
            <a:ext cx="7345440" cy="277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广州传统三件宝： 陈皮老姜禾秆草；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世纪中期三件宝：司机医生猪肉佬；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世纪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80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年代三件宝：电视冰箱洗衣机；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90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年代新三宝：买楼买车买电脑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1341360"/>
            <a:ext cx="22305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管理体制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068640"/>
            <a:ext cx="212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所有制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5013360"/>
            <a:ext cx="237348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配制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124000" y="1125360"/>
            <a:ext cx="20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高度集中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管理体制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1125360"/>
            <a:ext cx="4572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政企分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简政放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扩大企业自主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79640" y="2924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单一的公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制经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00720" y="2997360"/>
            <a:ext cx="4392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发展以公有制经济为主体的多种所有制经济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68360" y="501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平均主义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27640" y="5118120"/>
            <a:ext cx="471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实行以按劳分配为主、多种分配方式并存的分配制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0920" y="189000"/>
            <a:ext cx="40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措施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P55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1197000"/>
            <a:ext cx="7705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内容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农村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93372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城市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7280" y="4724280"/>
            <a:ext cx="16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①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35280" y="4653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全面展开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537372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中心环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635280" y="544500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④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措施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9280" y="609300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⑤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作用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856944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三、社会主义市场经济体制的建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981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背景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3640" y="1773360"/>
            <a:ext cx="439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建立过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3833280" y="1844640"/>
            <a:ext cx="18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⑴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提出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89160" y="2421000"/>
            <a:ext cx="25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</a:rPr>
              <a:t>⑵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确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目标：</a:t>
            </a:r>
            <a:r>
              <a:rPr b="1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30640" y="3068640"/>
            <a:ext cx="23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基本框架：</a:t>
            </a:r>
            <a:r>
              <a:rPr b="1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08360" y="4365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⑸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基本建立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51577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市场经济体制建立的巨大意义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28120" y="3716280"/>
            <a:ext cx="23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理论完善：</a:t>
            </a:r>
            <a:r>
              <a:rPr b="1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539640" y="1989000"/>
          <a:ext cx="8209080" cy="4868640"/>
        </p:xfrm>
        <a:graphic>
          <a:graphicData uri="http://schemas.openxmlformats.org/drawingml/2006/table">
            <a:tbl>
              <a:tblPr/>
              <a:tblGrid>
                <a:gridCol w="1440000"/>
                <a:gridCol w="3456000"/>
                <a:gridCol w="3313080"/>
              </a:tblGrid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计划经济体制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市场经济体制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7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资源配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置方式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9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特点</a:t>
                      </a: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2193840" y="40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508720" y="37162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68360" y="3284640"/>
            <a:ext cx="2971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行政手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段配置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24360" y="364500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中宋"/>
              </a:rPr>
              <a:t>市场配置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0"/>
            <a:ext cx="7058160" cy="18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中宋"/>
              </a:rPr>
              <a:t>两种经济体制的根本不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中宋"/>
              </a:rPr>
              <a:t>（资源配置方式）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0920" y="4941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华文中宋"/>
              </a:rPr>
              <a:t>行政手段在资源配置中起基础性调节作用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35640" y="486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华文中宋"/>
              </a:rPr>
              <a:t>市场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中宋"/>
              </a:rPr>
              <a:t>在资源配置中起基础性调节作用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244440" y="3784680"/>
          <a:ext cx="141120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3784680"/>
                    <a:ext cx="141120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1676520" y="2565360"/>
            <a:ext cx="3255840" cy="2735280"/>
          </a:xfrm>
          <a:prstGeom prst="cloudCallout">
            <a:avLst>
              <a:gd name="adj1" fmla="val -42245"/>
              <a:gd name="adj2" fmla="val 27249"/>
            </a:avLst>
          </a:prstGeom>
          <a:solidFill>
            <a:srgbClr val="ffe10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国是资本主义国家了！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7238880" y="4508640"/>
          <a:ext cx="1905120" cy="18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4508640"/>
                    <a:ext cx="190512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5181480" y="2492280"/>
            <a:ext cx="3962520" cy="2305080"/>
          </a:xfrm>
          <a:prstGeom prst="cloudCallout">
            <a:avLst>
              <a:gd name="adj1" fmla="val 1800"/>
              <a:gd name="adj2" fmla="val 65703"/>
            </a:avLst>
          </a:prstGeom>
          <a:solidFill>
            <a:srgbClr val="ffe10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，我们还是社会主义国家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39640" y="260280"/>
            <a:ext cx="1079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探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0"/>
            <a:ext cx="738036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有人说中国建立市场经济体制就变成资本主义了，你认为呢？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419640" y="4724280"/>
            <a:ext cx="30240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谁对呀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34920" y="765000"/>
          <a:ext cx="9109080" cy="5354640"/>
        </p:xfrm>
        <a:graphic>
          <a:graphicData uri="http://schemas.openxmlformats.org/drawingml/2006/table">
            <a:tbl>
              <a:tblPr/>
              <a:tblGrid>
                <a:gridCol w="1512720"/>
                <a:gridCol w="3672000"/>
                <a:gridCol w="392436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资本主义的市场经济</a:t>
                      </a:r>
                      <a:endParaRPr b="0" lang="en-US" sz="3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cc"/>
                          </a:solidFill>
                          <a:latin typeface="Arial Black"/>
                        </a:rPr>
                        <a:t>  </a:t>
                      </a:r>
                      <a:r>
                        <a:rPr b="1" lang="zh-CN" sz="3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社会主义的市场经济</a:t>
                      </a:r>
                      <a:endParaRPr b="0" lang="en-US" sz="3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所有制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形式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生产目的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结      果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468360" y="115920"/>
            <a:ext cx="788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搞市场经济不会改姓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19280" y="2133720"/>
            <a:ext cx="3457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生产资料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制为基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8160" y="3357720"/>
            <a:ext cx="23752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资本家获得剩余价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19280" y="4467240"/>
            <a:ext cx="360036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资本主义的市场经济是盲目的，容易引起经济危机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64000" y="2060640"/>
            <a:ext cx="3780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生产资料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制为基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80000" y="3429000"/>
            <a:ext cx="3024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实现共同富裕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254560" y="4467240"/>
            <a:ext cx="3889440" cy="1068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社会主义市场经济条件下，国家能实现强有力的宏观调控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50846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社会主义市场经济是以</a:t>
            </a:r>
            <a:r>
              <a:rPr b="1" lang="zh-CN" sz="3600" spc="-1" strike="noStrike">
                <a:solidFill>
                  <a:srgbClr val="cf2807"/>
                </a:solidFill>
                <a:latin typeface="Times New Roman"/>
              </a:rPr>
              <a:t>计划经济为主市场调节为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经济体制，这就是</a:t>
            </a:r>
            <a:r>
              <a:rPr b="1" lang="zh-CN" sz="3600" spc="-1" strike="noStrike">
                <a:solidFill>
                  <a:srgbClr val="cf2807"/>
                </a:solidFill>
                <a:latin typeface="Times New Roman"/>
              </a:rPr>
              <a:t>有中国特色的社会主义经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84360" y="404640"/>
            <a:ext cx="2447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1484280"/>
            <a:ext cx="2519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计划经济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59280" y="1700280"/>
            <a:ext cx="1296720" cy="288720"/>
          </a:xfrm>
          <a:prstGeom prst="rightArrow">
            <a:avLst>
              <a:gd name="adj1" fmla="val 50000"/>
              <a:gd name="adj2" fmla="val 112282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92360" y="2062080"/>
            <a:ext cx="216000" cy="1079640"/>
          </a:xfrm>
          <a:prstGeom prst="downArrow">
            <a:avLst>
              <a:gd name="adj1" fmla="val 50000"/>
              <a:gd name="adj2" fmla="val 124958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">
            <a:hlinkClick r:id="rId1" action="ppaction://hlinksldjump"/>
          </p:cNvPr>
          <p:cNvSpPr/>
          <p:nvPr/>
        </p:nvSpPr>
        <p:spPr>
          <a:xfrm>
            <a:off x="1258920" y="314172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十一届三中全会的召开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92360" y="386244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71640" y="50198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经济体制改革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0720" y="522936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24360" y="4724280"/>
            <a:ext cx="34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社会主义市场经济体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11280" y="22114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转折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13080" y="400536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决策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27640" y="4581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目标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27640" y="148428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市场经济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27734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练一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985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年邓小平说：改革是中国的第二次革命。其本质含义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解放和发展生产力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把工作重心转移到经济建设上来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改变陈旧落后的思想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改革不适应经济发展的管理体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77080" y="4005360"/>
            <a:ext cx="15987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27734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练一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9636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新中国成立以来相当长的一个时期内，人们要凭粮票才能购买到粮食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99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年广东省宣布终止粮票的流通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99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年全国终止粮票流通。对此理解，不正确的是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改革开放前我国粮食供应紧张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农村经济体制改革大大缓解了粮食紧张状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表明我国由计划经济体制向市场经济体制改变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广东省率先进行了农村经济体制改革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77080" y="4005360"/>
            <a:ext cx="15987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27734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练一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3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979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年安徽玉明公社社员叶旗衡的一副春联写道“借新帐还旧帐帐帐不清，吃一斤买一斤斤斤不断”。横批：“已经过去”。这副对联说明了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对过去丰衣足食生活的怀念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旧中国农民悲惨生活已成过去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农民获得土地所有权后的喜悦心情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家庭联产承包责任制深得人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77080" y="4005360"/>
            <a:ext cx="15987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611280" y="620640"/>
            <a:ext cx="7127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从计划经济到市场经济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4360" y="692280"/>
            <a:ext cx="266364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2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26920" y="3457440"/>
            <a:ext cx="2737080" cy="32846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5796000" y="3573360"/>
            <a:ext cx="2663640" cy="31417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635280" y="4724280"/>
            <a:ext cx="1511280" cy="64944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00509 L 0.13593 -0.00509 E">
                                      <p:cBhvr>
                                        <p:cTn id="14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620640"/>
            <a:ext cx="9144000" cy="483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川广安邓小平故居有一副对联“扶大厦之将倾……安邦柱国，万民额手寿巨擘；挽狂澜于既倒……兴工扶农，千载接踵颂广安。”此联创作应不早于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49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　　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5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　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6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　　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7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党的十一届三中全会的核心内容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开展了真理标准问题的讨论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结束了“阶级斗争为纲”的“左”倾错误方针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确定党和国家工作重心转移　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重新确立实事求是的马克思主义思想路线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08720" y="3141720"/>
            <a:ext cx="11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C 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3640" y="134136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620640"/>
            <a:ext cx="9144000" cy="54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首先试行包产到组、包产到户的农业生产责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任制的省份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徽、四川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徽、江西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福建、四川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徽、广西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下列关于家庭联产承包责任制的说法，正确的（   　） 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对生产资料所有制的重大变革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适应了中国农村的生产力水平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农村经济体制改革的最高形式 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国家资本主义的表现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77080" y="4221000"/>
            <a:ext cx="115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B 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43640" y="134136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8991720" cy="57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农村和城市经济体制改革的实质是（　 ） 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解放和发展社会生产力　　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B.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改革生产资料所有制　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邓小平理论的具体运用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社会主义制度的自我完善和发展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十一届三中全会后，农村改革和城市经济体制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改革的共同点有①改变单一集中的管理模式 ②分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配上克服“大锅饭”和平均主义 ③鼓励自主经营自负盈亏 ④建立多种所有制形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.①③④        B.①②④ 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.①②③④      D.①②③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692280"/>
            <a:ext cx="228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8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48360" y="494172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8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189000"/>
            <a:ext cx="9144000" cy="594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彻底打破长期以来禁锢人们头脑的传统观念，澄清了人们对市场经济的错误认识和模糊观念的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992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年出初，邓小平的南巡讲话 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992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年，中共十四大召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993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年，中共十四届三中全会召开           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2002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年，中共十六大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社会主义计划经济和市场经济最根本的不同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资源配置方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生产资料所有制形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商品供应的方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产品的分配方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08720" y="177336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93080" y="465300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964720" cy="547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四川卷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8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图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四川宁江机床厂的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则广告，发表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979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5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日的《人民日报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。这是新中国成立以来该报首次刊登推销产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广告。这一现象的积极作用包括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①促进企业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术革新，提高企业产品质量 ②开拓国内国际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场，实现中外合作生产 ③鼓励企业大胆探索，变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革企业经营模式 ④突破计划经济体制，推动商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经济发展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①②③  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①②④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①③④  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②③④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"/>
          <p:cNvSpPr/>
          <p:nvPr/>
        </p:nvSpPr>
        <p:spPr>
          <a:xfrm>
            <a:off x="2700360" y="371628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822920" y="4591080"/>
            <a:ext cx="432108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6" name="VICTS9EKS~WER78TWG88IH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9280" y="685800"/>
            <a:ext cx="8964720" cy="497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年安徽卷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17.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邓小平曾将一张飞乐音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响公司股票作为礼物赠送美国纽约证券交易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所董事长范尔霖。依据图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中的信息判断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当时的中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已经出现了股份制企业　②开始建立股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交易市场　　  ③初步形成市场经济体制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城市经济体制改革已全面展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. ①③     B. ①④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. ②③     D. ②④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"/>
          <p:cNvSpPr/>
          <p:nvPr/>
        </p:nvSpPr>
        <p:spPr>
          <a:xfrm>
            <a:off x="1979640" y="494172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28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09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年全国卷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映了我国国民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济总产值中各类经济成分的变化。这一变化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主要原因是（ 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工业结构不断调整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企业管理体制的改革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市场经济逐步形成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经济体制改革的深化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7093080" y="350028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500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 197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97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我国工业总产值中各种经济成分比重表（％）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324000" y="4365720"/>
          <a:ext cx="8351280" cy="2189160"/>
        </p:xfrm>
        <a:graphic>
          <a:graphicData uri="http://schemas.openxmlformats.org/drawingml/2006/table">
            <a:tbl>
              <a:tblPr/>
              <a:tblGrid>
                <a:gridCol w="1966680"/>
                <a:gridCol w="1962000"/>
                <a:gridCol w="1474920"/>
                <a:gridCol w="1473480"/>
                <a:gridCol w="1474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类别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年份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有及国有控股工业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集体工业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城乡个体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工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业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经济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类型工业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78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.6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7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.1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04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福建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8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日，福建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5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位厂长经理在《福建日报》上发出“请给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们‘松绑’”的呼吁。随后，《人民日报》转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载了这封呼吁信，将“松绑”风吹向全国。这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里的“松绑”主要是指（ 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允许企业实行公私合营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承认企业所有权和经营权完全分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扩大企业经营自主权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确立社会主义市场经济体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7559640" y="422100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82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广东文基卷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邓小平曾公开评价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某次会议，“虽然过去我们已经进行了多年的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会主义建设，但是我们仍然有足够的理由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说，这是一个新的历史发展阶段的开端。”这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次会议是（ 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中共八大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中共十四大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中共十二大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中共十一届三中全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"/>
          <p:cNvSpPr/>
          <p:nvPr/>
        </p:nvSpPr>
        <p:spPr>
          <a:xfrm>
            <a:off x="6804000" y="4581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3888000" cy="12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标要求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569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隶书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了解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中共十一届三中全会战略决策，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认识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其对我国开创社会主义现代化建设新局面的历史意义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理解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家庭联产承包责任制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5224320"/>
            <a:ext cx="720108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了解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城市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ff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54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7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全国卷Ⅱ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改革开放加速了中国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城市化进程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7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我国城市数量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3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个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97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66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个，其中以中小城市的增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最为迅速。这主要是由于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经济特区的设立　　　　　　　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乡镇企业的崛起与发展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沿海港口城市的开放　　　　　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城市经济体制的改革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6804000" y="4581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北京卷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《北京晚报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5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刊，后来一度停刊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8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复刊。下列各组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口号与上述“创刊”“复刊”时间相符的是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“调整、巩固、充实、提高”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  “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和平统一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“反贪污、反浪费”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  “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改革开放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“多快好省地建设社会主义”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  “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拨乱反正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“向雷锋同志学习”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  “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实现四个现代化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"/>
          <p:cNvSpPr/>
          <p:nvPr/>
        </p:nvSpPr>
        <p:spPr>
          <a:xfrm>
            <a:off x="6804000" y="4581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0"/>
            <a:ext cx="2798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82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广东文基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到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8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，我国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期使用的数十种票证大多被取消。这反映我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国当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已经建成市场经济体制           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已总体达到小康水平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经济体制改革初见成效           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建立了现代企业制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6804000" y="4581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82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广东单科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农村家庭联产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包责任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克服了分配中的平均主义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成为农业生产责任制的唯一形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实现了农村土地的私有化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取代了人民公社的政权组织形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"/>
          <p:cNvSpPr/>
          <p:nvPr/>
        </p:nvSpPr>
        <p:spPr>
          <a:xfrm>
            <a:off x="6372360" y="4797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  <a:ea typeface="隶书"/>
              </a:rPr>
              <a:t>从计划经济到市场经济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684360" y="1773360"/>
            <a:ext cx="641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一、伟大的历史转折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611280" y="335772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539640" y="508464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三、社会主义市场经济体制的建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2060640"/>
            <a:ext cx="360360" cy="36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50920" y="2708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重大决策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-27000"/>
            <a:ext cx="914400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伟大的历史转折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--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一届三中全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155736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背景：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3860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意义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637400" y="1773360"/>
            <a:ext cx="15066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18010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背景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文革结束后，中央共产党的主要领导人坚持“两个凡是”，继续犯“左”的错误，使国民经济处于停滞状态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7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关于真理标准问题的讨论解放了人们的思想，为其召开奠定了思想基础；</a:t>
            </a:r>
            <a:r>
              <a:rPr b="1" lang="zh-CN" sz="6000" spc="-1" strike="noStrike">
                <a:solidFill>
                  <a:srgbClr val="ff33cc"/>
                </a:solidFill>
                <a:latin typeface="Arial Black"/>
                <a:ea typeface="隶书"/>
              </a:rPr>
              <a:t> 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7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邓小平《解放思想，实事求是，团结一致向前看》的讲话，为其召开确立了指导思想。</a:t>
            </a:r>
            <a:r>
              <a:rPr b="1" lang="zh-CN" sz="6000" spc="-1" strike="noStrike">
                <a:solidFill>
                  <a:srgbClr val="ff33cc"/>
                </a:solidFill>
                <a:latin typeface="Arial Black"/>
                <a:ea typeface="隶书"/>
              </a:rPr>
              <a:t> 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48000" y="620640"/>
            <a:ext cx="48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一届三中全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黑体"/>
              </a:rPr>
              <a:t>一、伟大的历史转折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11280" y="189000"/>
            <a:ext cx="187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.</a:t>
            </a:r>
            <a:r>
              <a:rPr b="1" lang="zh-CN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决策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8" name=""/>
          <p:cNvSpPr/>
          <p:nvPr/>
        </p:nvSpPr>
        <p:spPr>
          <a:xfrm>
            <a:off x="1763640" y="321300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拨乱反正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76500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思想路线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191628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工作重心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1300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政治路线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24000" y="76500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实事求是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1989000"/>
            <a:ext cx="35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经济建设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4" name="03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493640" y="414972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f273e"/>
                </a:solidFill>
                <a:latin typeface="Arial Black"/>
              </a:rPr>
              <a:t>3</a:t>
            </a:r>
            <a:r>
              <a:rPr b="1" lang="zh-CN" sz="4400" spc="-1" strike="noStrike">
                <a:solidFill>
                  <a:srgbClr val="af273e"/>
                </a:solidFill>
                <a:latin typeface="Arial Black"/>
              </a:rPr>
              <a:t>、意义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90920" y="4608360"/>
            <a:ext cx="740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 Black"/>
              </a:rPr>
              <a:t>一个转折两个起点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：十一届三中全会继承了八大的正确探索，同时又在许多重大问题上提出了全新的思想，其新思想主要表现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科学地分析了当时中国社会的主要矛盾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出了改革开放的决策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确定了实事求是的思想路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形成了社会主义初级阶段的基本路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77080" y="4005360"/>
            <a:ext cx="15987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2:42:04Z</dcterms:created>
  <dc:creator/>
  <dc:description/>
  <dc:language>en-US</dc:language>
  <cp:lastModifiedBy>User</cp:lastModifiedBy>
  <dcterms:modified xsi:type="dcterms:W3CDTF">2012-05-08T03:40:03Z</dcterms:modified>
  <cp:revision>146</cp:revision>
  <dc:subject/>
  <dc:title>12从计划经济到市场经济</dc:title>
</cp:coreProperties>
</file>