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6.jpeg" ContentType="image/jpeg"/>
  <Override PartName="/ppt/media/image10.gif" ContentType="image/gif"/>
  <Override PartName="/ppt/media/image13.png" ContentType="image/png"/>
  <Override PartName="/ppt/media/image7.gif" ContentType="image/gif"/>
  <Override PartName="/ppt/media/image9.wmf" ContentType="image/x-wmf"/>
  <Override PartName="/ppt/media/image11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E039-0405-473D-B52C-AD3968F39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A5E8-FFC2-43EE-A7AC-19696C0C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1935-88F4-4111-8CC3-8F2BFC541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EA55-D171-4CD0-A228-53548ED36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7AD78-D345-4690-8A6B-A57180497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0522-A932-4BE5-B0E0-72475930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B392-2019-481D-855A-600A36F9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DCCBB-4417-491B-A922-88D91DB2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D912-5FF0-4497-9EF2-655B00BC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95E0-291C-40EA-B5E2-E385F787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53BA-7FB3-4135-8EF0-6CA69457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1EBC-1B35-4118-AF39-97132A92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B35C-E7D2-4AEC-9D9C-49C13EE6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9983-9760-4B25-A6BD-0ECCD6C2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128C-D4D0-417C-951B-1EE66318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FF0C-D3DF-45BF-8825-9F25B8E16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8037-DDF9-4487-9EFA-10A0AF1F7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C53D-6B45-4AF9-AF16-E121307D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EB7C-B1A4-4D57-A764-F9999286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31C1-C874-450E-9421-A8546099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B1A4-EFC9-43D6-954A-8511CCC7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8FD6-055C-4062-AD57-04424BD4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E671-25AC-4309-A127-7822B93E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E4B1-1B4E-4737-9C30-72726FD0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C091-48F5-4A76-9063-B4F415B4F1E3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3A3C-8180-4DD9-895A-21C254888287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9.xml"/><Relationship Id="rId3" Type="http://schemas.openxmlformats.org/officeDocument/2006/relationships/image" Target="../media/image11.gif"/><Relationship Id="rId4" Type="http://schemas.openxmlformats.org/officeDocument/2006/relationships/slide" Target="slide9.xml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zxls.com/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1.xml"/><Relationship Id="rId3" Type="http://schemas.openxmlformats.org/officeDocument/2006/relationships/slide" Target="slide43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228600" y="1268280"/>
            <a:ext cx="8664120" cy="5257800"/>
            <a:chOff x="228600" y="1268280"/>
            <a:chExt cx="8664120" cy="5257800"/>
          </a:xfrm>
        </p:grpSpPr>
        <p:pic>
          <p:nvPicPr>
            <p:cNvPr id="350" name="" descr=""/>
            <p:cNvPicPr/>
            <p:nvPr/>
          </p:nvPicPr>
          <p:blipFill>
            <a:blip r:embed="rId1"/>
            <a:stretch/>
          </p:blipFill>
          <p:spPr>
            <a:xfrm>
              <a:off x="228600" y="1268280"/>
              <a:ext cx="4161960" cy="439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" descr=""/>
            <p:cNvPicPr/>
            <p:nvPr/>
          </p:nvPicPr>
          <p:blipFill>
            <a:blip r:embed="rId2"/>
            <a:stretch/>
          </p:blipFill>
          <p:spPr>
            <a:xfrm>
              <a:off x="4844520" y="1420200"/>
              <a:ext cx="4048200" cy="41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228600" y="5914800"/>
              <a:ext cx="4086000" cy="520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70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年代的豆腐票和粉票</a:t>
              </a:r>
              <a:endParaRPr b="0" lang="en-US" sz="2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525640" y="6005520"/>
              <a:ext cx="3253680" cy="52056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80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年代的布票</a:t>
              </a:r>
              <a:endParaRPr b="0" lang="en-US" sz="2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1835280" y="266760"/>
            <a:ext cx="6049800" cy="70344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计划经济时期的各种票证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1332000" y="189000"/>
            <a:ext cx="550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二、经济体制改革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84360" y="1125360"/>
            <a:ext cx="15620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1.</a:t>
            </a:r>
            <a:r>
              <a:rPr b="1" lang="zh-CN" sz="40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含义</a:t>
            </a:r>
            <a:endParaRPr b="1" lang="en-US" sz="4000" spc="1" strike="noStrike">
              <a:ln w="1908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7246800" y="76320"/>
            <a:ext cx="1820880" cy="150948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0" y="1773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坚持社会主义制度的前提下，改革生产关系中不适应生产力发展的一系列环节，解放和发展社会生产力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9640" y="2852640"/>
            <a:ext cx="3961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改革前提：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②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改革内容：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③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改革目标：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④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改革的根本目的：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⑤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改革的实质：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0920" y="3068640"/>
            <a:ext cx="288720" cy="3097080"/>
          </a:xfrm>
          <a:custGeom>
            <a:avLst/>
            <a:gdLst>
              <a:gd name="textAreaLeft" fmla="*/ 184680 w 288720"/>
              <a:gd name="textAreaRight" fmla="*/ 289080 w 288720"/>
              <a:gd name="textAreaTop" fmla="*/ 80640 h 3097080"/>
              <a:gd name="textAreaBottom" fmla="*/ 3016440 h 30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0000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059280" y="29242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坚持社会主义制度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916360" y="3645000"/>
            <a:ext cx="62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生产关系中不适应生产力发展的环节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916360" y="43657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建立社会主义市场经济体制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267080" y="51577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放和发展生产力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419640" y="5877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社会主义制度的自我完善和发展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5508720" cy="11430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二、经济体制改革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"/>
          <p:cNvSpPr/>
          <p:nvPr/>
        </p:nvSpPr>
        <p:spPr>
          <a:xfrm>
            <a:off x="395280" y="162864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、原因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39640" y="3429000"/>
            <a:ext cx="80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高度集中的计划经济体制严重束缚了生产力的发展。</a:t>
            </a:r>
            <a:r>
              <a:rPr b="1" lang="zh-CN" sz="6000" spc="-1" strike="noStrike">
                <a:solidFill>
                  <a:srgbClr val="ff33cc"/>
                </a:solidFill>
                <a:latin typeface="Arial Black"/>
                <a:ea typeface="隶书"/>
              </a:rPr>
              <a:t> 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250920" y="189000"/>
            <a:ext cx="889308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黑体"/>
              </a:rPr>
              <a:t>假使你是一名改革的策划者，你认为当时经济体制的改革应该首先从农村开始，还是从城市开始？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11280" y="2637000"/>
            <a:ext cx="7921440" cy="13129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Verdana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我国是个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农业大国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，农村人口占总人口的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80%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，农业不发展，农村就不会稳定，社会也不会安定。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无农不稳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11280" y="5537160"/>
            <a:ext cx="7416720" cy="7034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Verdana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农业是</a:t>
            </a: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黑体"/>
              </a:rPr>
              <a:t>国民经济的基础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，农业是实现四个现代化的根本条件。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324000" y="2637000"/>
            <a:ext cx="411120" cy="34272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179280" y="5013360"/>
            <a:ext cx="41112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0" y="1197000"/>
            <a:ext cx="77058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原因：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内容：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、农村经济体制改革：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原因：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0"/>
            <a:ext cx="5508720" cy="11430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二、经济体制改革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Verdana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当时农村实行的是人民公社体制，一切财产上交公社，在全社范围内统一核算，统一分配，实行部分的供给制（办食堂，吃饭不要钱）。公社经常无偿地调用生产队的土地、物资和劳动力，甚至调用社员的房屋、家具。这些实际上是对农民的剥夺，使农民惊恐和不满，纷纷杀猪宰羊，砍树伐木，造成生产力极大的破坏。到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978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年仍有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亿农民没有解决温饱问题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5229360"/>
            <a:ext cx="91440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从材料中，你可以看出人民公社体制在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Verdana"/>
              </a:rPr>
              <a:t>经营管理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Verdana"/>
              </a:rPr>
              <a:t>分配制度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存在哪些弊端？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0" y="1197000"/>
            <a:ext cx="77058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原因：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内容：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农村经济体制改革：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原因：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0"/>
            <a:ext cx="550872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二、经济体制改革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763640" y="3716280"/>
            <a:ext cx="7380360" cy="173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人民公社体制（经营管理高度集中，分配中搞平均主义，农民经营没有自主权），严重挫伤了农民生产积极性，阻碍了农业生产发展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2050920" y="1341360"/>
            <a:ext cx="70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安徽、四川（包产到组、包产到户）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6" name="">
            <a:hlinkClick r:id="rId1" action="ppaction://hlinksldjump"/>
          </p:cNvPr>
          <p:cNvSpPr/>
          <p:nvPr/>
        </p:nvSpPr>
        <p:spPr>
          <a:xfrm>
            <a:off x="2050920" y="191628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家庭联产承包责任制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68360" y="1484280"/>
            <a:ext cx="272880" cy="28728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68360" y="2637000"/>
            <a:ext cx="272880" cy="30456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900000" y="134136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试行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900000" y="19162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推广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6"/>
          <a:stretch/>
        </p:blipFill>
        <p:spPr>
          <a:xfrm>
            <a:off x="468360" y="2060640"/>
            <a:ext cx="272880" cy="30456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900000" y="24922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深化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50920" y="3068640"/>
            <a:ext cx="90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变革行政管理：撤销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建立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；撤销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建立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。                 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476280"/>
            <a:ext cx="6443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ff00"/>
                </a:solidFill>
                <a:latin typeface="Verdana"/>
                <a:ea typeface="黑体"/>
              </a:rPr>
              <a:t>②</a:t>
            </a:r>
            <a:r>
              <a:rPr b="1" lang="zh-CN" sz="3500" spc="-1" strike="noStrike">
                <a:solidFill>
                  <a:srgbClr val="ffff00"/>
                </a:solidFill>
                <a:latin typeface="Verdana"/>
                <a:ea typeface="黑体"/>
              </a:rPr>
              <a:t>改革内容</a:t>
            </a:r>
            <a:endParaRPr b="0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564000" y="0"/>
            <a:ext cx="5580000" cy="1068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华文新魏"/>
              </a:rPr>
              <a:t>大包干，大包干，直来直去不拐弯，交够国家的，留足集体的，剩下都是自己的。”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4076640"/>
            <a:ext cx="67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③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作用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124000" y="4221000"/>
            <a:ext cx="6372360" cy="642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提高了农民生产的积极性，解放和发展了农村生产力；促进城市改革。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0" y="1197000"/>
            <a:ext cx="77058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、原因：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、内容：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、农村经济体制改革：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0"/>
            <a:ext cx="5508720" cy="11430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二、经济体制改革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3933720"/>
            <a:ext cx="60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、城市经济体制改革：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79280" y="4724280"/>
            <a:ext cx="28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①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原因：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0"/>
            <a:ext cx="9144000" cy="321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　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在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1956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年，上海的天气很热，企业为了不影响生产，采取降温的措施，当时的降温措施比较简单，主要是风扇、鼓风机，但是企业即使采取这样的措施也没有主动权。要经过层层报批，当时经过十一个部门的审批，要盖十一个图章，等最后的图章盖完，夏天已经过去了。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3141720"/>
            <a:ext cx="9144000" cy="3645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宋体"/>
              </a:rPr>
              <a:t>　  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沈阳有两个厂，一个是铜厂，一个是电缆厂，这两个厂一墙之隔，但没有横向联系，电缆厂归机械部门管，铜厂归冶金部门管，冶金部门把铜调到别的地方去，电缆厂需要铜又要从云南等地调进，造成了运输上的大量浪费，时间上的浪费，本来两个厂发展横向联合，通过签定合同就可以解决，但是不行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395280" y="2349360"/>
            <a:ext cx="7777080" cy="143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 Black"/>
              </a:rPr>
              <a:t>阻碍城市经济发展的主要因素是什么？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 Black"/>
              </a:rPr>
              <a:t>高度集中的经济体制，导致企业缺乏自主权，严重压抑了企业和职工的主动性、积极性和创造性，使企业失去了活力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。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0" y="1197000"/>
            <a:ext cx="77058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、原因：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、内容：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、农村经济体制改革：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0"/>
            <a:ext cx="550872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 Black"/>
              </a:rPr>
              <a:t>二、经济体制改革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3933720"/>
            <a:ext cx="57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、城市经济体制改革：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79280" y="472428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①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原因：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635280" y="465300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②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全面展开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79280" y="537372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③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中心环节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635280" y="5445000"/>
            <a:ext cx="36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④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措施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395280" y="2133720"/>
            <a:ext cx="7345440" cy="2775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广州传统三件宝： 陈皮老姜禾秆草；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20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世纪中期三件宝：司机医生猪肉佬；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20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世纪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80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年代三件宝：电视冰箱洗衣机；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90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年代新三宝：买楼买车买电脑。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0" y="1341360"/>
            <a:ext cx="223056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管理体制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068640"/>
            <a:ext cx="212400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所有制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5013360"/>
            <a:ext cx="237348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配制度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124000" y="1125360"/>
            <a:ext cx="205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高度集中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管理体制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572000" y="1125360"/>
            <a:ext cx="4572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政企分开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简政放权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扩大企业自主权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979640" y="2924280"/>
            <a:ext cx="25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单一的公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有制经济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500720" y="2997360"/>
            <a:ext cx="439236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发展以公有制经济为主体的多种所有制经济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268360" y="5013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平均主义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427640" y="5118120"/>
            <a:ext cx="4716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实行以按劳分配为主、多种分配方式并存的分配制度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0920" y="189000"/>
            <a:ext cx="403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措施（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P55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）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0" y="1197000"/>
            <a:ext cx="77058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、原因：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、内容：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、农村经济体制改革：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0"/>
            <a:ext cx="5508720" cy="11430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二、经济体制改革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3933720"/>
            <a:ext cx="64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、城市经济体制改革：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67280" y="4724280"/>
            <a:ext cx="164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①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原因：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635280" y="465300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②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全面展开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79280" y="537372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③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中心环节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635280" y="5445000"/>
            <a:ext cx="36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④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措施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79280" y="6093000"/>
            <a:ext cx="24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⑤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作用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0" y="0"/>
            <a:ext cx="8569440" cy="76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三、社会主义市场经济体制的建立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24000" y="98100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、背景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: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23640" y="1773360"/>
            <a:ext cx="4392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、建立过程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"/>
          <p:cNvSpPr/>
          <p:nvPr/>
        </p:nvSpPr>
        <p:spPr>
          <a:xfrm>
            <a:off x="3833280" y="1844640"/>
            <a:ext cx="182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⑴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提出：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989160" y="2421000"/>
            <a:ext cx="25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中宋"/>
              </a:rPr>
              <a:t>⑵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确立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目标：</a:t>
            </a:r>
            <a:r>
              <a:rPr b="1" lang="zh-CN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130640" y="3068640"/>
            <a:ext cx="231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⑶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基本框架：</a:t>
            </a:r>
            <a:r>
              <a:rPr b="1" lang="zh-CN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708360" y="436572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⑸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基本建立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4000" y="515772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、市场经济体制建立的巨大意义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128120" y="3716280"/>
            <a:ext cx="237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⑷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理论完善：</a:t>
            </a:r>
            <a:r>
              <a:rPr b="1" lang="zh-CN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9" name=""/>
          <p:cNvGraphicFramePr/>
          <p:nvPr/>
        </p:nvGraphicFramePr>
        <p:xfrm>
          <a:off x="539640" y="1989000"/>
          <a:ext cx="8209080" cy="4868640"/>
        </p:xfrm>
        <a:graphic>
          <a:graphicData uri="http://schemas.openxmlformats.org/drawingml/2006/table">
            <a:tbl>
              <a:tblPr/>
              <a:tblGrid>
                <a:gridCol w="1440000"/>
                <a:gridCol w="3456000"/>
                <a:gridCol w="3313080"/>
              </a:tblGrid>
              <a:tr h="112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Arial Black"/>
                          <a:ea typeface="华文中宋"/>
                        </a:rPr>
                        <a:t>计划经济体制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Arial Black"/>
                          <a:ea typeface="华文中宋"/>
                        </a:rPr>
                        <a:t>市场经济体制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174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Arial Black"/>
                          <a:ea typeface="华文中宋"/>
                        </a:rPr>
                        <a:t>资源配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Arial Black"/>
                          <a:ea typeface="华文中宋"/>
                        </a:rPr>
                        <a:t>置方式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199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ffff"/>
                          </a:solidFill>
                          <a:latin typeface="Arial Black"/>
                          <a:ea typeface="华文中宋"/>
                        </a:rPr>
                        <a:t>特点</a:t>
                      </a:r>
                      <a:endParaRPr b="0" lang="en-US" sz="4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0" name=""/>
          <p:cNvSpPr/>
          <p:nvPr/>
        </p:nvSpPr>
        <p:spPr>
          <a:xfrm>
            <a:off x="2193840" y="403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508720" y="3716280"/>
            <a:ext cx="335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268360" y="3284640"/>
            <a:ext cx="2971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黑体"/>
              </a:rPr>
              <a:t>行政手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黑体"/>
              </a:rPr>
              <a:t>段配置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724360" y="3645000"/>
            <a:ext cx="22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华文中宋"/>
              </a:rPr>
              <a:t>市场配置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900000" y="0"/>
            <a:ext cx="7058160" cy="18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华文中宋"/>
              </a:rPr>
              <a:t>两种经济体制的根本不同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华文中宋"/>
              </a:rPr>
              <a:t>（资源配置方式）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050920" y="4941720"/>
            <a:ext cx="36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ahoma"/>
                <a:ea typeface="华文中宋"/>
              </a:rPr>
              <a:t>行政手段在资源配置中起基础性调节作用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435640" y="48690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ahoma"/>
                <a:ea typeface="华文中宋"/>
              </a:rPr>
              <a:t>市场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华文中宋"/>
              </a:rPr>
              <a:t>在资源配置中起基础性调节作用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7" name=""/>
          <p:cNvGraphicFramePr/>
          <p:nvPr/>
        </p:nvGraphicFramePr>
        <p:xfrm>
          <a:off x="244440" y="3784680"/>
          <a:ext cx="1411200" cy="182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440" y="3784680"/>
                    <a:ext cx="141120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9" name=""/>
          <p:cNvSpPr/>
          <p:nvPr/>
        </p:nvSpPr>
        <p:spPr>
          <a:xfrm>
            <a:off x="1676520" y="2565360"/>
            <a:ext cx="3255840" cy="2735280"/>
          </a:xfrm>
          <a:prstGeom prst="cloudCallout">
            <a:avLst>
              <a:gd name="adj1" fmla="val -42245"/>
              <a:gd name="adj2" fmla="val 27249"/>
            </a:avLst>
          </a:prstGeom>
          <a:solidFill>
            <a:srgbClr val="ffe103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中国是资本主义国家了！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7238880" y="4508640"/>
          <a:ext cx="1905120" cy="181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8880" y="4508640"/>
                    <a:ext cx="1905120" cy="18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2" name=""/>
          <p:cNvSpPr/>
          <p:nvPr/>
        </p:nvSpPr>
        <p:spPr>
          <a:xfrm>
            <a:off x="5181480" y="2492280"/>
            <a:ext cx="3962520" cy="2305080"/>
          </a:xfrm>
          <a:prstGeom prst="cloudCallout">
            <a:avLst>
              <a:gd name="adj1" fmla="val 1800"/>
              <a:gd name="adj2" fmla="val 65703"/>
            </a:avLst>
          </a:prstGeom>
          <a:solidFill>
            <a:srgbClr val="ffe103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，我们还是社会主义国家。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539640" y="260280"/>
            <a:ext cx="107964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探究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4" name=""/>
          <p:cNvSpPr/>
          <p:nvPr/>
        </p:nvSpPr>
        <p:spPr>
          <a:xfrm>
            <a:off x="1763640" y="0"/>
            <a:ext cx="7380360" cy="143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有人说中国建立市场经济体制就变成资本主义了，你认为呢？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3419640" y="4724280"/>
            <a:ext cx="3024000" cy="13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谁对呀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6" name=""/>
          <p:cNvGraphicFramePr/>
          <p:nvPr/>
        </p:nvGraphicFramePr>
        <p:xfrm>
          <a:off x="34920" y="765000"/>
          <a:ext cx="9109080" cy="5354640"/>
        </p:xfrm>
        <a:graphic>
          <a:graphicData uri="http://schemas.openxmlformats.org/drawingml/2006/table">
            <a:tbl>
              <a:tblPr/>
              <a:tblGrid>
                <a:gridCol w="1512720"/>
                <a:gridCol w="3672000"/>
                <a:gridCol w="3924360"/>
              </a:tblGrid>
              <a:tr h="12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资本主义的市场经济</a:t>
                      </a:r>
                      <a:endParaRPr b="0" lang="en-US" sz="3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cc"/>
                          </a:solidFill>
                          <a:latin typeface="Arial Black"/>
                        </a:rPr>
                        <a:t>  </a:t>
                      </a:r>
                      <a:r>
                        <a:rPr b="1" lang="zh-CN" sz="3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社会主义的市场经济</a:t>
                      </a:r>
                      <a:endParaRPr b="0" lang="en-US" sz="3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所有制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形式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生产目的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176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结      果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"/>
          <p:cNvSpPr/>
          <p:nvPr/>
        </p:nvSpPr>
        <p:spPr>
          <a:xfrm>
            <a:off x="468360" y="115920"/>
            <a:ext cx="7885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中国搞市场经济不会改姓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619280" y="2133720"/>
            <a:ext cx="345744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以生产资料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有制为基础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288160" y="3357720"/>
            <a:ext cx="23752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资本家获得剩余价值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619280" y="4467240"/>
            <a:ext cx="360036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资本主义的市场经济是盲目的，容易引起经济危机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364000" y="2060640"/>
            <a:ext cx="37800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以生产资料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公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有制为基础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580000" y="3429000"/>
            <a:ext cx="302436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实现共同富裕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254560" y="4467240"/>
            <a:ext cx="3889440" cy="10688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社会主义市场经济条件下，国家能实现强有力的宏观调控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5084640"/>
            <a:ext cx="9144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社会主义市场经济是以</a:t>
            </a:r>
            <a:r>
              <a:rPr b="1" lang="zh-CN" sz="3600" spc="-1" strike="noStrike">
                <a:solidFill>
                  <a:srgbClr val="cf2807"/>
                </a:solidFill>
                <a:latin typeface="Times New Roman"/>
              </a:rPr>
              <a:t>计划经济为主市场调节为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经济体制，这就是</a:t>
            </a:r>
            <a:r>
              <a:rPr b="1" lang="zh-CN" sz="3600" spc="-1" strike="noStrike">
                <a:solidFill>
                  <a:srgbClr val="cf2807"/>
                </a:solidFill>
                <a:latin typeface="Times New Roman"/>
              </a:rPr>
              <a:t>有中国特色的社会主义经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8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684360" y="404640"/>
            <a:ext cx="244764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课堂小结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84360" y="1484280"/>
            <a:ext cx="25192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计划经济</a:t>
            </a:r>
            <a:r>
              <a:rPr b="1" lang="zh-CN" sz="3600" spc="-1" strike="noStrike">
                <a:solidFill>
                  <a:srgbClr val="ffcc00"/>
                </a:solidFill>
                <a:latin typeface="Arial"/>
              </a:rPr>
              <a:t>                   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059280" y="1700280"/>
            <a:ext cx="1296720" cy="288720"/>
          </a:xfrm>
          <a:prstGeom prst="rightArrow">
            <a:avLst>
              <a:gd name="adj1" fmla="val 50000"/>
              <a:gd name="adj2" fmla="val 112282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492360" y="2062080"/>
            <a:ext cx="216000" cy="1079640"/>
          </a:xfrm>
          <a:prstGeom prst="downArrow">
            <a:avLst>
              <a:gd name="adj1" fmla="val 50000"/>
              <a:gd name="adj2" fmla="val 124958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9" name="">
            <a:hlinkClick r:id="rId1" action="ppaction://hlinksldjump"/>
          </p:cNvPr>
          <p:cNvSpPr/>
          <p:nvPr/>
        </p:nvSpPr>
        <p:spPr>
          <a:xfrm>
            <a:off x="1258920" y="3141720"/>
            <a:ext cx="54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十一届三中全会的召开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492360" y="3862440"/>
            <a:ext cx="216000" cy="1079280"/>
          </a:xfrm>
          <a:prstGeom prst="downArrow">
            <a:avLst>
              <a:gd name="adj1" fmla="val 50000"/>
              <a:gd name="adj2" fmla="val 124917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71640" y="501984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经济体制改革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500720" y="5229360"/>
            <a:ext cx="1223640" cy="287280"/>
          </a:xfrm>
          <a:prstGeom prst="rightArrow">
            <a:avLst>
              <a:gd name="adj1" fmla="val 50000"/>
              <a:gd name="adj2" fmla="val 106485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724360" y="4724280"/>
            <a:ext cx="34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建立社会主义市场经济体制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411280" y="221148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转折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413080" y="400536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决策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427640" y="458136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目标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427640" y="148428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市场经济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9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9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6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0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-277344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 Black"/>
              </a:rPr>
              <a:t>练一练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22960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1985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年邓小平说：改革是中国的第二次革命。其本质含义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A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、解放和发展生产力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B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、把工作重心转移到经济建设上来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C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、改变陈旧落后的思想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D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、改革不适应经济发展的管理体制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6877080" y="4005360"/>
            <a:ext cx="1598760" cy="20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A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-277344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 Black"/>
              </a:rPr>
              <a:t>练一练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-360" y="0"/>
            <a:ext cx="939636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新中国成立以来相当长的一个时期内，人们要凭粮票才能购买到粮食。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1990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年广东省宣布终止粮票的流通，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1993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年全国终止粮票流通。对此理解，不正确的是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A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改革开放前我国粮食供应紧张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B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农村经济体制改革大大缓解了粮食紧张状况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表明我国由计划经济体制向市场经济体制改变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D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广东省率先进行了农村经济体制改革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6877080" y="4005360"/>
            <a:ext cx="1598760" cy="20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D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-277344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 Black"/>
              </a:rPr>
              <a:t>练一练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30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1979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年安徽玉明公社社员叶旗衡的一副春联写道“借新帐还旧帐帐帐不清，吃一斤买一斤斤斤不断”。横批：“已经过去”。这副对联说明了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A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、对过去丰衣足食生活的怀念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B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、旧中国农民悲惨生活已成过去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C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、农民获得土地所有权后的喜悦心情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D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、家庭联产承包责任制深得人心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6877080" y="4005360"/>
            <a:ext cx="1598760" cy="20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D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611280" y="620640"/>
            <a:ext cx="712764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从计划经济到市场经济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84360" y="692280"/>
            <a:ext cx="2663640" cy="6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第</a:t>
            </a:r>
            <a:r>
              <a:rPr b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12</a:t>
            </a:r>
            <a:r>
              <a:rPr b="1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课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826920" y="3457440"/>
            <a:ext cx="2737080" cy="328464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4"/>
          <a:stretch/>
        </p:blipFill>
        <p:spPr>
          <a:xfrm>
            <a:off x="5796000" y="3573360"/>
            <a:ext cx="2663640" cy="314172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3635280" y="4724280"/>
            <a:ext cx="1511280" cy="64944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162360 h 649440"/>
              <a:gd name="textAreaBottom" fmla="*/ 487080 h 649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407 -0.00509 L 0.13593 -0.00509 E">
                                      <p:cBhvr>
                                        <p:cTn id="14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0" y="620640"/>
            <a:ext cx="9144000" cy="483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川广安邓小平故居有一副对联“扶大厦之将倾……安邦柱国，万民额手寿巨擘；挽狂澜于既倒……兴工扶农，千载接踵颂广安。”此联创作应不早于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949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年　　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956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年　　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966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年　　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978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党的十一届三中全会的核心内容是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开展了真理标准问题的讨论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结束了“阶级斗争为纲”的“左”倾错误方针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确定党和国家工作重心转移　　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重新确立实事求是的马克思主义思想路线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308720" y="3141720"/>
            <a:ext cx="115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0000"/>
                </a:solidFill>
                <a:latin typeface="黑体"/>
                <a:ea typeface="黑体"/>
              </a:rPr>
              <a:t>C </a:t>
            </a:r>
            <a:r>
              <a:rPr b="1" lang="en-US" sz="54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443640" y="1341360"/>
            <a:ext cx="122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0000"/>
                </a:solidFill>
                <a:latin typeface="黑体"/>
                <a:ea typeface="黑体"/>
              </a:rPr>
              <a:t>D</a:t>
            </a:r>
            <a:r>
              <a:rPr b="1" lang="en-US" sz="54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0" y="0"/>
            <a:ext cx="19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巩固练习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620640"/>
            <a:ext cx="9144000" cy="542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首先试行包产到组、包产到户的农业生产责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任制的省份是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A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安徽、四川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B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安徽、江西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C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福建、四川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D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安徽、广西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．下列关于家庭联产承包责任制的说法，正确的（   　） 　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A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是对生产资料所有制的重大变革　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B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适应了中国农村的生产力水平　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C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是农村经济体制改革的最高形式 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D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是国家资本主义的表现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877080" y="4221000"/>
            <a:ext cx="115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0000"/>
                </a:solidFill>
                <a:latin typeface="黑体"/>
                <a:ea typeface="黑体"/>
              </a:rPr>
              <a:t>B </a:t>
            </a:r>
            <a:r>
              <a:rPr b="1" lang="en-US" sz="54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443640" y="1341360"/>
            <a:ext cx="122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r>
              <a:rPr b="1" lang="en-US" sz="54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0" y="0"/>
            <a:ext cx="8991720" cy="578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．农村和城市经济体制改革的实质是（　 ） 　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．解放和发展社会生产力　　 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B. 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改革生产资料所有制　　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．邓小平理论的具体运用　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．社会主义制度的自我完善和发展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、十一届三中全会后，农村改革和城市经济体制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改革的共同点有①改变单一集中的管理模式 ②分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配上克服“大锅饭”和平均主义 ③鼓励自主经营自负盈亏 ④建立多种所有制形式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A.①③④        B.①②④  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C.①②③④      D.①②③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084720" y="692280"/>
            <a:ext cx="2281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黑体"/>
                <a:ea typeface="黑体"/>
              </a:rPr>
              <a:t>D</a:t>
            </a:r>
            <a:endParaRPr b="0" lang="en-US" sz="8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948360" y="4941720"/>
            <a:ext cx="187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黑体"/>
                <a:ea typeface="黑体"/>
              </a:rPr>
              <a:t>D</a:t>
            </a:r>
            <a:endParaRPr b="0" lang="en-US" sz="8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189000"/>
            <a:ext cx="9144000" cy="594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7.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彻底打破长期以来禁锢人们头脑的传统观念，澄清了人们对市场经济的错误认识和模糊观念的是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1992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年出初，邓小平的南巡讲话  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1992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年，中共十四大召开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1993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年，中共十四届三中全会召开            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2002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年，中共十六大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8.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社会主义计划经济和市场经济最根本的不同是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、资源配置方式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、生产资料所有制形式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、商品供应的方式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、产品的分配方式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308720" y="1773360"/>
            <a:ext cx="122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r>
              <a:rPr b="1" lang="en-US" sz="54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093080" y="4653000"/>
            <a:ext cx="122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r>
              <a:rPr b="1" lang="en-US" sz="54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79280" y="692280"/>
            <a:ext cx="8964720" cy="547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年四川卷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18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图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是四川宁江机床厂的一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则广告，发表在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1979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年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25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日的《人民日报》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上。这是新中国成立以来该报首次刊登推销产品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的广告。这一现象的积极作用包括 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①促进企业技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术革新，提高企业产品质量 ②开拓国内国际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场，实现中外合作生产 ③鼓励企业大胆探索，变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革企业经营模式 ④突破计划经济体制，推动商品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经济发展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．①②③    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．①②④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．①③④    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．②③④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1" name=""/>
          <p:cNvSpPr/>
          <p:nvPr/>
        </p:nvSpPr>
        <p:spPr>
          <a:xfrm>
            <a:off x="2700360" y="3716280"/>
            <a:ext cx="15843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0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916360" y="71280"/>
            <a:ext cx="279864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 Black"/>
                <a:ea typeface="华文隶书"/>
              </a:rPr>
              <a:t>高考回眸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822920" y="4591080"/>
            <a:ext cx="4321080" cy="226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36" name="VICTS9EKS~WER78TWG88IH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179280" y="685800"/>
            <a:ext cx="8964720" cy="497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年安徽卷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17.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）邓小平曾将一张飞乐音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响公司股票作为礼物赠送美国纽约证券交易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所董事长范尔霖。依据图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中的信息判断，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当时的中国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①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已经出现了股份制企业　②开始建立股票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交易市场　　  ③初步形成市场经济体制　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④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城市经济体制改革已全面展开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A. ①③     B. ①④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C. ②③     D. ②④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8" name=""/>
          <p:cNvSpPr/>
          <p:nvPr/>
        </p:nvSpPr>
        <p:spPr>
          <a:xfrm>
            <a:off x="1979640" y="4941720"/>
            <a:ext cx="15843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10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16360" y="71280"/>
            <a:ext cx="279864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 Black"/>
                <a:ea typeface="华文隶书"/>
              </a:rPr>
              <a:t>高考回眸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288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09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年全国卷二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15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表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反映了我国国民经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济总产值中各类经济成分的变化。这一变化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的主要原因是（ ）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A.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工业结构不断调整 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B.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企业管理体制的改革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C.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市场经济逐步形成 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D.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经济体制改革的深化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1" name=""/>
          <p:cNvSpPr/>
          <p:nvPr/>
        </p:nvSpPr>
        <p:spPr>
          <a:xfrm>
            <a:off x="7093080" y="3500280"/>
            <a:ext cx="15843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10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916360" y="71280"/>
            <a:ext cx="279864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 Black"/>
                <a:ea typeface="华文隶书"/>
              </a:rPr>
              <a:t>高考回眸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350028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表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1 1978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1979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年我国工业总产值中各种经济成分比重表（％）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324000" y="4365720"/>
          <a:ext cx="8351280" cy="2189160"/>
        </p:xfrm>
        <a:graphic>
          <a:graphicData uri="http://schemas.openxmlformats.org/drawingml/2006/table">
            <a:tbl>
              <a:tblPr/>
              <a:tblGrid>
                <a:gridCol w="1966680"/>
                <a:gridCol w="1962000"/>
                <a:gridCol w="1474920"/>
                <a:gridCol w="1473480"/>
                <a:gridCol w="14742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	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类别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年份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国有及国有控股工业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集体工业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城乡个体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工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业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其他经济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类型工业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78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7.6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.4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97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.5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8.1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．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.5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504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09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年福建卷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9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）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984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年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月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24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日，福建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省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55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位厂长经理在《福建日报》上发出“请给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我们‘松绑’”的呼吁。随后，《人民日报》转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载了这封呼吁信，将“松绑”风吹向全国。这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里的“松绑”主要是指（ ）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．允许企业实行公私合营 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B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．承认企业所有权和经营权完全分离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C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．扩大企业经营自主权   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D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．确立社会主义市场经济体制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6" name=""/>
          <p:cNvSpPr/>
          <p:nvPr/>
        </p:nvSpPr>
        <p:spPr>
          <a:xfrm>
            <a:off x="7559640" y="4221000"/>
            <a:ext cx="15843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0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916360" y="71280"/>
            <a:ext cx="279864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 Black"/>
                <a:ea typeface="华文隶书"/>
              </a:rPr>
              <a:t>高考回眸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382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09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年广东文基卷）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27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．邓小平曾公开评价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28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某次会议，“虽然过去我们已经进行了多年的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28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社会主义建设，但是我们仍然有足够的理由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28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说，这是一个新的历史发展阶段的开端。”这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28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次会议是（ ）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28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．中共八大      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B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．中共十四大  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28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C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．中共十二大    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D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．中共十一届三中全会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28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9" name=""/>
          <p:cNvSpPr/>
          <p:nvPr/>
        </p:nvSpPr>
        <p:spPr>
          <a:xfrm>
            <a:off x="6804000" y="4581360"/>
            <a:ext cx="15843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10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916360" y="71280"/>
            <a:ext cx="279864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 Black"/>
                <a:ea typeface="华文隶书"/>
              </a:rPr>
              <a:t>高考回眸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3888000" cy="12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标要求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5694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隶书"/>
                <a:ea typeface="隶书"/>
              </a:rPr>
              <a:t>       </a:t>
            </a: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4800" spc="-1" strike="noStrike">
                <a:solidFill>
                  <a:srgbClr val="ffff00"/>
                </a:solidFill>
                <a:latin typeface="宋体"/>
              </a:rPr>
              <a:t>了解</a:t>
            </a: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中共十一届三中全会战略决策，</a:t>
            </a:r>
            <a:r>
              <a:rPr b="1" lang="zh-CN" sz="4800" spc="-1" strike="noStrike">
                <a:solidFill>
                  <a:srgbClr val="ffff00"/>
                </a:solidFill>
                <a:latin typeface="宋体"/>
              </a:rPr>
              <a:t>认识</a:t>
            </a: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其对我国开创社会主义现代化建设新局面的历史意义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4800" spc="-1" strike="noStrike">
                <a:solidFill>
                  <a:srgbClr val="ffff00"/>
                </a:solidFill>
                <a:latin typeface="宋体"/>
              </a:rPr>
              <a:t>理解</a:t>
            </a: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家庭联产承包责任制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  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"/>
          <p:cNvSpPr/>
          <p:nvPr/>
        </p:nvSpPr>
        <p:spPr>
          <a:xfrm>
            <a:off x="826920" y="5224320"/>
            <a:ext cx="7201080" cy="18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4400" spc="-1" strike="noStrike">
                <a:solidFill>
                  <a:srgbClr val="ffff00"/>
                </a:solidFill>
                <a:latin typeface="宋体"/>
              </a:rPr>
              <a:t>了解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城市经济体制改革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buClr>
                <a:srgbClr val="ff339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4543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7.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08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全国卷Ⅱ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7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）改革开放加速了中国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的城市化进程。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978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年我国城市数量为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93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个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997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年为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668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个，其中以中小城市的增长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最为迅速。这主要是由于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A.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经济特区的设立　　　　　　　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B.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乡镇企业的崛起与发展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C.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沿海港口城市的开放　　　　　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D.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城市经济体制的改革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2" name=""/>
          <p:cNvSpPr/>
          <p:nvPr/>
        </p:nvSpPr>
        <p:spPr>
          <a:xfrm>
            <a:off x="6804000" y="4581360"/>
            <a:ext cx="15843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10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916360" y="71280"/>
            <a:ext cx="279864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 Black"/>
                <a:ea typeface="华文隶书"/>
              </a:rPr>
              <a:t>高考回眸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．（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08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北京卷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9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）《北京晚报》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958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年创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刊，后来一度停刊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980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年复刊。下列各组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口号与上述“创刊”“复刊”时间相符的是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．“调整、巩固、充实、提高”  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   “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和平统一”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B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．“反贪污、反浪费”           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   “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改革开放”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C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．“多快好省地建设社会主义”   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   “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拨乱反正”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D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．“向雷锋同志学习”          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   “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实现四个现代化”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5" name=""/>
          <p:cNvSpPr/>
          <p:nvPr/>
        </p:nvSpPr>
        <p:spPr>
          <a:xfrm>
            <a:off x="6804000" y="4581360"/>
            <a:ext cx="15843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0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916360" y="0"/>
            <a:ext cx="27986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 Black"/>
                <a:ea typeface="华文隶书"/>
              </a:rPr>
              <a:t>高考回眸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382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．（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08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年广东文基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28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）到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986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年，我国长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28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期使用的数十种票证大多被取消。这反映我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28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国当时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28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A.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已经建成市场经济体制                      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28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B.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已总体达到小康水平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28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C.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经济体制改革初见成效                      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28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D.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建立了现代企业制度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28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28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28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8" name=""/>
          <p:cNvSpPr/>
          <p:nvPr/>
        </p:nvSpPr>
        <p:spPr>
          <a:xfrm>
            <a:off x="6804000" y="4581360"/>
            <a:ext cx="15843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0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916360" y="71280"/>
            <a:ext cx="279864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 Black"/>
                <a:ea typeface="华文隶书"/>
              </a:rPr>
              <a:t>高考回眸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382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．（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08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年广东单科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）农村家庭联产承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包责任制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A.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克服了分配中的平均主义           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B.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成为农业生产责任制的唯一形式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C.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实现了农村土地的私有化           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D.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取代了人民公社的政权组织形式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1" name=""/>
          <p:cNvSpPr/>
          <p:nvPr/>
        </p:nvSpPr>
        <p:spPr>
          <a:xfrm>
            <a:off x="6372360" y="4797360"/>
            <a:ext cx="15843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10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916360" y="71280"/>
            <a:ext cx="279864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 Black"/>
                <a:ea typeface="华文隶书"/>
              </a:rPr>
              <a:t>高考回眸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 Black"/>
                <a:ea typeface="隶书"/>
              </a:rPr>
              <a:t>从计划经济到市场经济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">
            <a:hlinkClick r:id="" action="ppaction://hlinkshowjump?jump=nextslide"/>
          </p:cNvPr>
          <p:cNvSpPr/>
          <p:nvPr/>
        </p:nvSpPr>
        <p:spPr>
          <a:xfrm>
            <a:off x="684360" y="1773360"/>
            <a:ext cx="641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一、伟大的历史转折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6" name="">
            <a:hlinkClick r:id="rId2" action="ppaction://hlinksldjump"/>
          </p:cNvPr>
          <p:cNvSpPr/>
          <p:nvPr/>
        </p:nvSpPr>
        <p:spPr>
          <a:xfrm>
            <a:off x="611280" y="3357720"/>
            <a:ext cx="51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二、经济体制改革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>
            <a:hlinkClick r:id="rId3" action="ppaction://hlinksldjump"/>
          </p:cNvPr>
          <p:cNvSpPr/>
          <p:nvPr/>
        </p:nvSpPr>
        <p:spPr>
          <a:xfrm>
            <a:off x="539640" y="5084640"/>
            <a:ext cx="92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三、社会主义市场经济体制的建立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79280" y="2060640"/>
            <a:ext cx="360360" cy="3673440"/>
          </a:xfrm>
          <a:custGeom>
            <a:avLst/>
            <a:gdLst>
              <a:gd name="textAreaLeft" fmla="*/ 230400 w 360360"/>
              <a:gd name="textAreaRight" fmla="*/ 360720 w 360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250920" y="270828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、重大决策：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-27000"/>
            <a:ext cx="9144000" cy="141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、伟大的历史转折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------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十一届三中全会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50920" y="1557360"/>
            <a:ext cx="345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、背景：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50920" y="386064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、意义：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7637400" y="1773360"/>
            <a:ext cx="1506600" cy="12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0" y="18010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背景：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文革结束后，中央共产党的主要领导人坚持“两个凡是”，继续犯“左”的错误，使国民经济处于停滞状态。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978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年，关于真理标准问题的讨论解放了人们的思想，为其召开奠定了思想基础；</a:t>
            </a:r>
            <a:r>
              <a:rPr b="1" lang="zh-CN" sz="6000" spc="-1" strike="noStrike">
                <a:solidFill>
                  <a:srgbClr val="ff33cc"/>
                </a:solidFill>
                <a:latin typeface="Arial Black"/>
                <a:ea typeface="隶书"/>
              </a:rPr>
              <a:t> 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978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年，邓小平《解放思想，实事求是，团结一致向前看》的讲话，为其召开确立了指导思想。</a:t>
            </a:r>
            <a:r>
              <a:rPr b="1" lang="zh-CN" sz="6000" spc="-1" strike="noStrike">
                <a:solidFill>
                  <a:srgbClr val="ff33cc"/>
                </a:solidFill>
                <a:latin typeface="Arial Black"/>
                <a:ea typeface="隶书"/>
              </a:rPr>
              <a:t> 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248000" y="620640"/>
            <a:ext cx="4896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十一届三中全会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24000" y="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11111"/>
                </a:solidFill>
                <a:latin typeface="Arial Black"/>
                <a:ea typeface="黑体"/>
              </a:rPr>
              <a:t>一、伟大的历史转折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611280" y="189000"/>
            <a:ext cx="1873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2.</a:t>
            </a:r>
            <a:r>
              <a:rPr b="1" lang="zh-CN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决策</a:t>
            </a:r>
            <a:endParaRPr b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78" name=""/>
          <p:cNvSpPr/>
          <p:nvPr/>
        </p:nvSpPr>
        <p:spPr>
          <a:xfrm>
            <a:off x="1763640" y="3213000"/>
            <a:ext cx="51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拨乱反正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765000"/>
            <a:ext cx="30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思想路线：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1916280"/>
            <a:ext cx="30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工作重心：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3213000"/>
            <a:ext cx="28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政治路线：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24000" y="765000"/>
            <a:ext cx="37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实事求是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195640" y="1989000"/>
            <a:ext cx="35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经济建设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84" name="03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886360"/>
            <a:ext cx="1143000" cy="9716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1493640" y="4149720"/>
            <a:ext cx="89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f273e"/>
                </a:solidFill>
                <a:latin typeface="Arial Black"/>
              </a:rPr>
              <a:t>3</a:t>
            </a:r>
            <a:r>
              <a:rPr b="1" lang="zh-CN" sz="4400" spc="-1" strike="noStrike">
                <a:solidFill>
                  <a:srgbClr val="af273e"/>
                </a:solidFill>
                <a:latin typeface="Arial Black"/>
              </a:rPr>
              <a:t>、意义：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290920" y="4608360"/>
            <a:ext cx="7401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 Black"/>
              </a:rPr>
              <a:t>一个转折两个起点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例：十一届三中全会继承了八大的正确探索，同时又在许多重大问题上提出了全新的思想，其新思想主要表现在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科学地分析了当时中国社会的主要矛盾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作出了改革开放的决策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确定了实事求是的思想路线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形成了社会主义初级阶段的基本路线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877080" y="4005360"/>
            <a:ext cx="1598760" cy="20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B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7T12:42:04Z</dcterms:created>
  <dc:creator/>
  <dc:description/>
  <dc:language>en-US</dc:language>
  <cp:lastModifiedBy>User</cp:lastModifiedBy>
  <dcterms:modified xsi:type="dcterms:W3CDTF">2012-05-08T03:40:03Z</dcterms:modified>
  <cp:revision>146</cp:revision>
  <dc:subject/>
  <dc:title>12从计划经济到市场经济</dc:title>
</cp:coreProperties>
</file>