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gif" ContentType="image/gif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3.gif" ContentType="image/gif"/>
  <Override PartName="/ppt/media/image16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2CE-3A2C-4203-B06A-74C90F43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C59-9682-463A-B229-97FCF16E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603-D5F0-43C5-BB70-2B6DF334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E1F-0F13-4D94-907A-08701067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148-4BE1-471F-BA21-0D8D509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658-857E-4F87-BF96-E5F9AAA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3F9-058C-43C2-B462-29C03CD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322-A4A3-48EA-9ADC-331D65D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38C-C89F-46B2-91AD-D4EE89D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8BA-DD86-4EE6-AE3C-EA29581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614-CC86-4AF1-B6C3-6653CEC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97F-9055-4D70-9310-1D7E9D8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D2E-AB83-48C0-AA52-09DBAD0BB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" Target="slide26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xyzm.com/dispbbs.asp?boardID=13&amp;ID=7999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file:///&#39640;&#32771;&#36164;&#28304;&#32593;http:/www.ks5u.co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47443800&amp;tn=baiduimagedetail&amp;word=&#21335;&#26041;&#33322;&#31354;&#20844;&#21496;&amp;in=15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htong.gov.cn/node2/node4/node2250/node2673/node13623/node14416/node61241/userobject1ai4189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.baidu.com/i?ct=503316480&amp;z=0&amp;tn=baiduimagedetail&amp;word=%E4%C1%BB%A6%CC%FA&#183;&amp;in=6337&amp;cl=2&amp;cm=1&amp;sc=0&amp;lm=-1&amp;pn=14&amp;rn=1&amp;di=913080940&amp;ln=35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第</a:t>
            </a: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15</a:t>
            </a: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课 </a:t>
            </a:r>
            <a:br>
              <a:rPr sz="6600"/>
            </a:b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交通与通讯的变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cap="rnd" w="57240">
            <a:solidFill>
              <a:srgbClr val="008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课程标准》要求：了解中国近代以来交通、通讯工具的进步，认识其对人们社会生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唐胥铁路上马拉车运煤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299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05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唐胥铁路上马拉车运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9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唐胥铁路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建成，为中国第一条自建铁路。铁路全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里，以后陆续延展至天津和山海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43280" y="1484280"/>
            <a:ext cx="4500720" cy="2855880"/>
            <a:chOff x="4643280" y="1484280"/>
            <a:chExt cx="4500720" cy="2855880"/>
          </a:xfrm>
        </p:grpSpPr>
        <p:sp>
          <p:nvSpPr>
            <p:cNvPr id="69" name=""/>
            <p:cNvSpPr/>
            <p:nvPr/>
          </p:nvSpPr>
          <p:spPr>
            <a:xfrm>
              <a:off x="4643280" y="3819600"/>
              <a:ext cx="44614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李鸿章视察唐胥铁路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中国第一条自建铁路——唐胥铁路通车仪式" descr=""/>
            <p:cNvPicPr/>
            <p:nvPr/>
          </p:nvPicPr>
          <p:blipFill>
            <a:blip r:embed="rId2"/>
            <a:stretch/>
          </p:blipFill>
          <p:spPr>
            <a:xfrm>
              <a:off x="4684320" y="1484280"/>
              <a:ext cx="4459680" cy="233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胥铁路是因为什么而建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平煤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成后，生产的煤需要运出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会出现马拉车运煤的奇闻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顽固派害怕惊天动地的火车头会震坏了“皇陵”的风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落后的封建迷信观念严重阻碍了先进科技的运用，也说明清政府中一些大臣思想落后，愚昧无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一：甲午战争后，列强在中国疯狂抢夺铁路修筑权。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中国共有铁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，其中，由帝国主义直接或间接投资经营的竟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9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，中国自主修筑铁路只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午战争后，列强为什么在中国疯狂抢夺铁路修筑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午战争后，列强相继进入帝国主义阶段，国内出现剩余资本，需要对外输出。另外，修筑铁路，便于列强掠夺铁路沿线的矿产资源，同时方便其对中国的进一步侵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材料，当时中国的铁路修建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中国人自筹自建铁路所占很小比例；帝国主义控制了中国铁路的建筑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现了当时中国社会的什么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殖民地半封建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国修筑的铁路客观上带来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奠定了中国近代铁路网的基本格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辛亥革命 的爆发与铁路有没有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是四川的保路运动的爆发，为武昌起义的成功创造了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二：光绪六年岁末，刘铭传力请修筑铁路，李鸿章立足中外，比较支持刘铭传的倡议，其词曰：“处今日各国皆有铁路时，而中国独无，譬犹居中古以后而摒弃舟车，其动辄后于人也必矣。”但更多的人却不但责骂刘铭传与李鸿章“直欲破坏列祖列宗之成法以乱天下”，而且宣称“铁路行之外夷则可，行之中国不可。”洋务派虽冲破阻力“毅然兴办”，但步履之难可以体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材料二可知，中国近代的铁路的发展必然是什么状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难重重，发展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慢发展的表现是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上半叶，西北、西南与内地之间，基本没有铁路交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材料一二和所学知识分析，近代中国铁路发展缓慢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帝国主义的侵略和控制。　②政局动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顽固落后势力的反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本原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半封建半殖民地的社会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顽固保守势力反对修铁路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夺民生计。“铁路一开，津通舟车尽废，水手、车夫、客店、负贩食力之人，终归饿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起民怨 。“铁路所经之处，尽毁田庐坟墓，必致民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利于外敌入侵。“一旦祸起，即直达京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破坏风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别是会惊动龙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耗费银两巨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政根本无法承担。且由于得购买外国原料、雇佣洋匠，导致白银外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没有道理？该怎么批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速度快、运力大、费用低廉而有利国计民生；是国民经济发展的动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只有顺应世界发展趋势，大力进行铁路建设，发展经济，改善人民生活，提高国力，这些问题就解决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一五计划工业建设成就分布图"/>
          <p:cNvPicPr/>
          <p:nvPr/>
        </p:nvPicPr>
        <p:blipFill>
          <a:blip r:embed="rId1"/>
          <a:stretch/>
        </p:blipFill>
        <p:spPr>
          <a:xfrm>
            <a:off x="826920" y="765000"/>
            <a:ext cx="77058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35360" y="2048040"/>
            <a:ext cx="2120760" cy="1665000"/>
          </a:xfrm>
          <a:custGeom>
            <a:avLst/>
            <a:gdLst/>
            <a:ahLst/>
            <a:rect l="l" t="t" r="r" b="b"/>
            <a:pathLst>
              <a:path w="1336" h="1049">
                <a:moveTo>
                  <a:pt x="0" y="0"/>
                </a:moveTo>
                <a:cubicBezTo>
                  <a:pt x="34" y="6"/>
                  <a:pt x="109" y="15"/>
                  <a:pt x="138" y="35"/>
                </a:cubicBezTo>
                <a:cubicBezTo>
                  <a:pt x="161" y="50"/>
                  <a:pt x="207" y="81"/>
                  <a:pt x="207" y="81"/>
                </a:cubicBezTo>
                <a:cubicBezTo>
                  <a:pt x="231" y="116"/>
                  <a:pt x="259" y="132"/>
                  <a:pt x="288" y="162"/>
                </a:cubicBezTo>
                <a:cubicBezTo>
                  <a:pt x="299" y="196"/>
                  <a:pt x="302" y="235"/>
                  <a:pt x="322" y="265"/>
                </a:cubicBezTo>
                <a:cubicBezTo>
                  <a:pt x="360" y="323"/>
                  <a:pt x="399" y="380"/>
                  <a:pt x="437" y="438"/>
                </a:cubicBezTo>
                <a:cubicBezTo>
                  <a:pt x="498" y="530"/>
                  <a:pt x="528" y="582"/>
                  <a:pt x="622" y="645"/>
                </a:cubicBezTo>
                <a:cubicBezTo>
                  <a:pt x="681" y="685"/>
                  <a:pt x="728" y="732"/>
                  <a:pt x="794" y="761"/>
                </a:cubicBezTo>
                <a:cubicBezTo>
                  <a:pt x="816" y="771"/>
                  <a:pt x="841" y="776"/>
                  <a:pt x="864" y="784"/>
                </a:cubicBezTo>
                <a:cubicBezTo>
                  <a:pt x="875" y="788"/>
                  <a:pt x="898" y="795"/>
                  <a:pt x="898" y="795"/>
                </a:cubicBezTo>
                <a:cubicBezTo>
                  <a:pt x="910" y="803"/>
                  <a:pt x="921" y="812"/>
                  <a:pt x="933" y="818"/>
                </a:cubicBezTo>
                <a:cubicBezTo>
                  <a:pt x="944" y="823"/>
                  <a:pt x="957" y="824"/>
                  <a:pt x="967" y="830"/>
                </a:cubicBezTo>
                <a:cubicBezTo>
                  <a:pt x="1003" y="850"/>
                  <a:pt x="1031" y="887"/>
                  <a:pt x="1071" y="899"/>
                </a:cubicBezTo>
                <a:cubicBezTo>
                  <a:pt x="1078" y="901"/>
                  <a:pt x="1133" y="918"/>
                  <a:pt x="1140" y="922"/>
                </a:cubicBezTo>
                <a:cubicBezTo>
                  <a:pt x="1176" y="942"/>
                  <a:pt x="1209" y="968"/>
                  <a:pt x="1244" y="991"/>
                </a:cubicBezTo>
                <a:cubicBezTo>
                  <a:pt x="1276" y="1012"/>
                  <a:pt x="1309" y="1022"/>
                  <a:pt x="1336" y="104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6320" t="9423" r="15954" b="0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06400" y="6825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516640"/>
            <a:ext cx="3419280" cy="581400"/>
          </a:xfrm>
          <a:prstGeom prst="rect">
            <a:avLst/>
          </a:prstGeom>
          <a:solidFill>
            <a:srgbClr val="bac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隶书"/>
              </a:rPr>
              <a:t>十年建设时期的主要建设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5157720"/>
            <a:ext cx="64800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贵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5589720"/>
            <a:ext cx="1512720" cy="5032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7720" y="1922400"/>
            <a:ext cx="2306880" cy="1647720"/>
          </a:xfrm>
          <a:custGeom>
            <a:avLst/>
            <a:gdLst/>
            <a:ahLst/>
            <a:rect l="l" t="t" r="r" b="b"/>
            <a:pathLst>
              <a:path w="1453" h="1038">
                <a:moveTo>
                  <a:pt x="0" y="0"/>
                </a:moveTo>
                <a:cubicBezTo>
                  <a:pt x="113" y="29"/>
                  <a:pt x="198" y="101"/>
                  <a:pt x="294" y="164"/>
                </a:cubicBezTo>
                <a:cubicBezTo>
                  <a:pt x="315" y="178"/>
                  <a:pt x="343" y="174"/>
                  <a:pt x="364" y="188"/>
                </a:cubicBezTo>
                <a:cubicBezTo>
                  <a:pt x="435" y="235"/>
                  <a:pt x="506" y="281"/>
                  <a:pt x="576" y="329"/>
                </a:cubicBezTo>
                <a:cubicBezTo>
                  <a:pt x="586" y="336"/>
                  <a:pt x="600" y="335"/>
                  <a:pt x="611" y="341"/>
                </a:cubicBezTo>
                <a:cubicBezTo>
                  <a:pt x="694" y="387"/>
                  <a:pt x="766" y="464"/>
                  <a:pt x="858" y="493"/>
                </a:cubicBezTo>
                <a:cubicBezTo>
                  <a:pt x="908" y="544"/>
                  <a:pt x="982" y="560"/>
                  <a:pt x="1034" y="611"/>
                </a:cubicBezTo>
                <a:cubicBezTo>
                  <a:pt x="1046" y="623"/>
                  <a:pt x="1057" y="636"/>
                  <a:pt x="1070" y="646"/>
                </a:cubicBezTo>
                <a:cubicBezTo>
                  <a:pt x="1092" y="663"/>
                  <a:pt x="1140" y="693"/>
                  <a:pt x="1140" y="693"/>
                </a:cubicBezTo>
                <a:cubicBezTo>
                  <a:pt x="1202" y="787"/>
                  <a:pt x="1122" y="677"/>
                  <a:pt x="1199" y="752"/>
                </a:cubicBezTo>
                <a:cubicBezTo>
                  <a:pt x="1268" y="820"/>
                  <a:pt x="1171" y="754"/>
                  <a:pt x="1258" y="823"/>
                </a:cubicBezTo>
                <a:cubicBezTo>
                  <a:pt x="1280" y="840"/>
                  <a:pt x="1328" y="870"/>
                  <a:pt x="1328" y="870"/>
                </a:cubicBezTo>
                <a:cubicBezTo>
                  <a:pt x="1345" y="895"/>
                  <a:pt x="1370" y="915"/>
                  <a:pt x="1387" y="940"/>
                </a:cubicBezTo>
                <a:cubicBezTo>
                  <a:pt x="1453" y="1038"/>
                  <a:pt x="1346" y="919"/>
                  <a:pt x="1422" y="99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2440" y="2227320"/>
            <a:ext cx="3529080" cy="1720800"/>
          </a:xfrm>
          <a:custGeom>
            <a:avLst/>
            <a:gdLst/>
            <a:ahLst/>
            <a:rect l="l" t="t" r="r" b="b"/>
            <a:pathLst>
              <a:path w="2223" h="1084">
                <a:moveTo>
                  <a:pt x="0" y="678"/>
                </a:moveTo>
                <a:cubicBezTo>
                  <a:pt x="77" y="617"/>
                  <a:pt x="135" y="548"/>
                  <a:pt x="212" y="490"/>
                </a:cubicBezTo>
                <a:cubicBezTo>
                  <a:pt x="313" y="415"/>
                  <a:pt x="471" y="325"/>
                  <a:pt x="588" y="278"/>
                </a:cubicBezTo>
                <a:cubicBezTo>
                  <a:pt x="629" y="261"/>
                  <a:pt x="675" y="257"/>
                  <a:pt x="717" y="243"/>
                </a:cubicBezTo>
                <a:cubicBezTo>
                  <a:pt x="884" y="188"/>
                  <a:pt x="1039" y="137"/>
                  <a:pt x="1211" y="90"/>
                </a:cubicBezTo>
                <a:cubicBezTo>
                  <a:pt x="1249" y="80"/>
                  <a:pt x="1290" y="84"/>
                  <a:pt x="1329" y="78"/>
                </a:cubicBezTo>
                <a:cubicBezTo>
                  <a:pt x="1493" y="55"/>
                  <a:pt x="1658" y="34"/>
                  <a:pt x="1822" y="8"/>
                </a:cubicBezTo>
                <a:cubicBezTo>
                  <a:pt x="1958" y="16"/>
                  <a:pt x="2014" y="0"/>
                  <a:pt x="2104" y="90"/>
                </a:cubicBezTo>
                <a:cubicBezTo>
                  <a:pt x="2118" y="104"/>
                  <a:pt x="2130" y="120"/>
                  <a:pt x="2140" y="137"/>
                </a:cubicBezTo>
                <a:cubicBezTo>
                  <a:pt x="2158" y="167"/>
                  <a:pt x="2187" y="231"/>
                  <a:pt x="2187" y="231"/>
                </a:cubicBezTo>
                <a:cubicBezTo>
                  <a:pt x="2223" y="409"/>
                  <a:pt x="2164" y="477"/>
                  <a:pt x="2057" y="595"/>
                </a:cubicBezTo>
                <a:cubicBezTo>
                  <a:pt x="1966" y="695"/>
                  <a:pt x="1864" y="812"/>
                  <a:pt x="1752" y="889"/>
                </a:cubicBezTo>
                <a:cubicBezTo>
                  <a:pt x="1664" y="949"/>
                  <a:pt x="1553" y="974"/>
                  <a:pt x="1458" y="1019"/>
                </a:cubicBezTo>
                <a:cubicBezTo>
                  <a:pt x="1320" y="1084"/>
                  <a:pt x="1435" y="1058"/>
                  <a:pt x="1293" y="1077"/>
                </a:cubicBezTo>
                <a:cubicBezTo>
                  <a:pt x="1215" y="1069"/>
                  <a:pt x="1134" y="1074"/>
                  <a:pt x="1058" y="1054"/>
                </a:cubicBezTo>
                <a:cubicBezTo>
                  <a:pt x="1039" y="1049"/>
                  <a:pt x="1037" y="1021"/>
                  <a:pt x="1023" y="1007"/>
                </a:cubicBezTo>
                <a:cubicBezTo>
                  <a:pt x="1013" y="997"/>
                  <a:pt x="997" y="994"/>
                  <a:pt x="988" y="983"/>
                </a:cubicBezTo>
                <a:cubicBezTo>
                  <a:pt x="756" y="725"/>
                  <a:pt x="1008" y="980"/>
                  <a:pt x="882" y="854"/>
                </a:cubicBezTo>
                <a:cubicBezTo>
                  <a:pt x="854" y="770"/>
                  <a:pt x="872" y="804"/>
                  <a:pt x="835" y="748"/>
                </a:cubicBezTo>
                <a:cubicBezTo>
                  <a:pt x="798" y="493"/>
                  <a:pt x="811" y="210"/>
                  <a:pt x="1070" y="90"/>
                </a:cubicBezTo>
                <a:cubicBezTo>
                  <a:pt x="1147" y="54"/>
                  <a:pt x="1235" y="55"/>
                  <a:pt x="1317" y="43"/>
                </a:cubicBezTo>
                <a:cubicBezTo>
                  <a:pt x="1407" y="47"/>
                  <a:pt x="1497" y="49"/>
                  <a:pt x="1587" y="55"/>
                </a:cubicBezTo>
                <a:cubicBezTo>
                  <a:pt x="1607" y="56"/>
                  <a:pt x="1646" y="66"/>
                  <a:pt x="1646" y="6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5360" y="2011320"/>
            <a:ext cx="2249280" cy="1652760"/>
          </a:xfrm>
          <a:custGeom>
            <a:avLst/>
            <a:gdLst/>
            <a:ahLst/>
            <a:rect l="l" t="t" r="r" b="b"/>
            <a:pathLst>
              <a:path w="1417" h="1041">
                <a:moveTo>
                  <a:pt x="0" y="0"/>
                </a:moveTo>
                <a:cubicBezTo>
                  <a:pt x="41" y="28"/>
                  <a:pt x="90" y="54"/>
                  <a:pt x="138" y="69"/>
                </a:cubicBezTo>
                <a:cubicBezTo>
                  <a:pt x="149" y="77"/>
                  <a:pt x="159" y="86"/>
                  <a:pt x="172" y="92"/>
                </a:cubicBezTo>
                <a:cubicBezTo>
                  <a:pt x="194" y="102"/>
                  <a:pt x="242" y="115"/>
                  <a:pt x="242" y="115"/>
                </a:cubicBezTo>
                <a:cubicBezTo>
                  <a:pt x="253" y="123"/>
                  <a:pt x="264" y="132"/>
                  <a:pt x="276" y="138"/>
                </a:cubicBezTo>
                <a:cubicBezTo>
                  <a:pt x="287" y="144"/>
                  <a:pt x="300" y="144"/>
                  <a:pt x="311" y="150"/>
                </a:cubicBezTo>
                <a:cubicBezTo>
                  <a:pt x="335" y="163"/>
                  <a:pt x="380" y="196"/>
                  <a:pt x="380" y="196"/>
                </a:cubicBezTo>
                <a:cubicBezTo>
                  <a:pt x="441" y="288"/>
                  <a:pt x="496" y="388"/>
                  <a:pt x="564" y="473"/>
                </a:cubicBezTo>
                <a:cubicBezTo>
                  <a:pt x="595" y="512"/>
                  <a:pt x="614" y="547"/>
                  <a:pt x="656" y="576"/>
                </a:cubicBezTo>
                <a:cubicBezTo>
                  <a:pt x="678" y="641"/>
                  <a:pt x="748" y="674"/>
                  <a:pt x="806" y="703"/>
                </a:cubicBezTo>
                <a:cubicBezTo>
                  <a:pt x="818" y="709"/>
                  <a:pt x="828" y="720"/>
                  <a:pt x="841" y="726"/>
                </a:cubicBezTo>
                <a:cubicBezTo>
                  <a:pt x="886" y="748"/>
                  <a:pt x="942" y="750"/>
                  <a:pt x="990" y="761"/>
                </a:cubicBezTo>
                <a:cubicBezTo>
                  <a:pt x="1025" y="769"/>
                  <a:pt x="1060" y="784"/>
                  <a:pt x="1094" y="795"/>
                </a:cubicBezTo>
                <a:cubicBezTo>
                  <a:pt x="1135" y="822"/>
                  <a:pt x="1186" y="872"/>
                  <a:pt x="1232" y="887"/>
                </a:cubicBezTo>
                <a:cubicBezTo>
                  <a:pt x="1287" y="924"/>
                  <a:pt x="1346" y="956"/>
                  <a:pt x="1394" y="1002"/>
                </a:cubicBezTo>
                <a:cubicBezTo>
                  <a:pt x="1406" y="1041"/>
                  <a:pt x="1393" y="1037"/>
                  <a:pt x="1417" y="1037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65560" y="2743200"/>
            <a:ext cx="822600" cy="914400"/>
          </a:xfrm>
          <a:custGeom>
            <a:avLst/>
            <a:gdLst/>
            <a:ahLst/>
            <a:rect l="l" t="t" r="r" b="b"/>
            <a:pathLst>
              <a:path w="518" h="576">
                <a:moveTo>
                  <a:pt x="0" y="576"/>
                </a:moveTo>
                <a:cubicBezTo>
                  <a:pt x="17" y="526"/>
                  <a:pt x="46" y="484"/>
                  <a:pt x="69" y="438"/>
                </a:cubicBezTo>
                <a:cubicBezTo>
                  <a:pt x="75" y="427"/>
                  <a:pt x="73" y="413"/>
                  <a:pt x="81" y="403"/>
                </a:cubicBezTo>
                <a:cubicBezTo>
                  <a:pt x="90" y="392"/>
                  <a:pt x="104" y="388"/>
                  <a:pt x="115" y="380"/>
                </a:cubicBezTo>
                <a:cubicBezTo>
                  <a:pt x="136" y="320"/>
                  <a:pt x="121" y="354"/>
                  <a:pt x="173" y="276"/>
                </a:cubicBezTo>
                <a:cubicBezTo>
                  <a:pt x="181" y="265"/>
                  <a:pt x="196" y="242"/>
                  <a:pt x="196" y="242"/>
                </a:cubicBezTo>
                <a:cubicBezTo>
                  <a:pt x="215" y="181"/>
                  <a:pt x="259" y="126"/>
                  <a:pt x="288" y="69"/>
                </a:cubicBezTo>
                <a:cubicBezTo>
                  <a:pt x="293" y="58"/>
                  <a:pt x="292" y="43"/>
                  <a:pt x="300" y="35"/>
                </a:cubicBezTo>
                <a:cubicBezTo>
                  <a:pt x="312" y="23"/>
                  <a:pt x="399" y="4"/>
                  <a:pt x="415" y="0"/>
                </a:cubicBezTo>
                <a:cubicBezTo>
                  <a:pt x="451" y="9"/>
                  <a:pt x="485" y="18"/>
                  <a:pt x="518" y="3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7240" y="1628640"/>
            <a:ext cx="14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乌鲁木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33400" y="35067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1800" y="249228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51280" y="2205000"/>
            <a:ext cx="1297080" cy="43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兰新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284640"/>
            <a:ext cx="1224000" cy="360360"/>
          </a:xfrm>
          <a:prstGeom prst="wedgeRoundRectCallout">
            <a:avLst>
              <a:gd name="adj1" fmla="val -57912"/>
              <a:gd name="adj2" fmla="val -94935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包兰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7920" y="3281400"/>
            <a:ext cx="1265400" cy="496440"/>
          </a:xfrm>
          <a:prstGeom prst="wedgeRoundRectCallout">
            <a:avLst>
              <a:gd name="adj1" fmla="val 138393"/>
              <a:gd name="adj2" fmla="val -129055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颗原子弹爆炸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1773360"/>
            <a:ext cx="1584360" cy="287280"/>
          </a:xfrm>
          <a:prstGeom prst="wedgeRectCallout">
            <a:avLst>
              <a:gd name="adj1" fmla="val -35370"/>
              <a:gd name="adj2" fmla="val 20966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头钢铁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620640"/>
            <a:ext cx="1152720" cy="360360"/>
          </a:xfrm>
          <a:prstGeom prst="wedgeRectCallout">
            <a:avLst>
              <a:gd name="adj1" fmla="val 39805"/>
              <a:gd name="adj2" fmla="val 20198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庆油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1800" y="13413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大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2492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06520" y="414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4724280"/>
            <a:ext cx="1584360" cy="360360"/>
          </a:xfrm>
          <a:prstGeom prst="wedgeRectCallout">
            <a:avLst>
              <a:gd name="adj1" fmla="val 51402"/>
              <a:gd name="adj2" fmla="val -124888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汉钢铁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92320" y="3933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4508640"/>
            <a:ext cx="2050920" cy="360360"/>
          </a:xfrm>
          <a:prstGeom prst="wedgeRectCallout">
            <a:avLst>
              <a:gd name="adj1" fmla="val 2939"/>
              <a:gd name="adj2" fmla="val -13590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工合成牛胰岛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2133720"/>
            <a:ext cx="1152360" cy="360360"/>
          </a:xfrm>
          <a:prstGeom prst="wedgeRectCallout">
            <a:avLst>
              <a:gd name="adj1" fmla="val -86365"/>
              <a:gd name="adj2" fmla="val 14779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港油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7240" y="249228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2520" y="23493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138640"/>
            <a:ext cx="566640" cy="274680"/>
          </a:xfrm>
          <a:custGeom>
            <a:avLst/>
            <a:gdLst/>
            <a:ahLst/>
            <a:rect l="l" t="t" r="r" b="b"/>
            <a:pathLst>
              <a:path w="357" h="173">
                <a:moveTo>
                  <a:pt x="0" y="23"/>
                </a:moveTo>
                <a:cubicBezTo>
                  <a:pt x="66" y="2"/>
                  <a:pt x="72" y="0"/>
                  <a:pt x="150" y="12"/>
                </a:cubicBezTo>
                <a:cubicBezTo>
                  <a:pt x="202" y="47"/>
                  <a:pt x="178" y="57"/>
                  <a:pt x="230" y="92"/>
                </a:cubicBezTo>
                <a:cubicBezTo>
                  <a:pt x="266" y="148"/>
                  <a:pt x="240" y="123"/>
                  <a:pt x="323" y="150"/>
                </a:cubicBezTo>
                <a:cubicBezTo>
                  <a:pt x="336" y="154"/>
                  <a:pt x="357" y="173"/>
                  <a:pt x="357" y="173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90520" y="530064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柳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661000"/>
            <a:ext cx="1297080" cy="432000"/>
          </a:xfrm>
          <a:prstGeom prst="wedgeRoundRectCallout">
            <a:avLst>
              <a:gd name="adj1" fmla="val 30291"/>
              <a:gd name="adj2" fmla="val -138236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黔桂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1152360" cy="360360"/>
          </a:xfrm>
          <a:prstGeom prst="wedgeRectCallout">
            <a:avLst>
              <a:gd name="adj1" fmla="val -54134"/>
              <a:gd name="adj2" fmla="val -14339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胜利油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81040" y="28591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东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8004" t="8030" r="12002" b="0"/>
          <a:stretch/>
        </p:blipFill>
        <p:spPr>
          <a:xfrm>
            <a:off x="4495680" y="3139920"/>
            <a:ext cx="4648320" cy="371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880"/>
            <a:ext cx="4572000" cy="345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886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南方舟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北方马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96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两幅地图，西南、西北地区铁路建设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成宝成、兰新 铁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了内地与西北、西南地区的沟通 。促进了这些地区经济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3——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西宁和拉萨之间修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藏公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修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藏铁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何时全线通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藏铁路是世界上海拔最高、线路最长、气候条件最恶劣的高原铁路。中国铁路建设者破解并攻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多年冻土、高寒缺氧和生态脆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三大难题”的严峻挑战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分体现了中国人民的伟大创新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的全线通车，给拉萨的旅游业和商业带来繁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18960" y="620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铁路交通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图能说明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的铁路建设取得了巨大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“九五”期末，中国的铁路营运总里程已跃居亚洲第一位、世界第四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得巨大成就的原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经济发展的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的重视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国家更投入巨额资金，加快铁路建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3276360" cy="211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4290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火车机车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5000" y="620640"/>
            <a:ext cx="3429000" cy="2081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771640" y="270828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4805280"/>
            <a:ext cx="3733920" cy="205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115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蒸汽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8240" y="44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内燃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220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电力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221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高速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磁悬浮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片表达的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车制造 技术不断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带来什么结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行速度加快，运行效率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国民经济发展、百姓生活带来怎样的影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便百姓出行，利于物资运输、商品交流，加快经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是何时出现的？由谁发明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入中国的时间是何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初在哪个城市出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人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贵、富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后，汽车在中国的使用情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国近代筑路技术传人中国，民国时期陆续修建了一些公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发展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慢发展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腐败、政局动荡、民生凋敝，汽车和油料几乎全部依赖进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一五计划工业建设成就分布图"/>
          <p:cNvPicPr/>
          <p:nvPr/>
        </p:nvPicPr>
        <p:blipFill>
          <a:blip r:embed="rId1"/>
          <a:stretch/>
        </p:blipFill>
        <p:spPr>
          <a:xfrm>
            <a:off x="826920" y="765000"/>
            <a:ext cx="77058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99564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960720" cy="280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609480"/>
            <a:ext cx="71434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3124080"/>
            <a:ext cx="3613320" cy="373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5257800" cy="322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67200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270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两幅图中，可以获得有关汽车运输的什么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建起汽车制造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志着中国汽车工业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路运输获得较快发展。表现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藏高原在内的许多偏远闭塞的山区也通了汽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路大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些河流上建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建立起比较密集的公路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801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０００年，中国汽车产量预计首次超过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２００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辆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世纪末，中国终于跻身世界汽车十强之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1714680"/>
            <a:ext cx="8209080" cy="517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9080" y="5804640"/>
            <a:ext cx="49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２０００年１２月１２日，赛欧下线，引发了无数中国人对家庭轿车的新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幅图片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汽车工业获得了巨大发展，已位居世界前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运输的发展也带来了交通拥堵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解决这一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面、地下和空中的路轨设计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面交通压力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展城市环线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市区的客流量的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行单向行驶的道路交通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车辆行驶障碍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力发展公共交通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车流数量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1917720"/>
            <a:ext cx="3889080" cy="3616200"/>
            <a:chOff x="324000" y="1917720"/>
            <a:chExt cx="3889080" cy="36162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24000" y="1917720"/>
              <a:ext cx="38890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812240" y="510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轮船招商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19720" y="1989000"/>
            <a:ext cx="4724280" cy="3522960"/>
            <a:chOff x="4419720" y="1989000"/>
            <a:chExt cx="4724280" cy="352296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5004000" y="1989000"/>
              <a:ext cx="3733560" cy="2971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5113080"/>
              <a:ext cx="47242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865</a:t>
              </a:r>
              <a:r>
                <a:rPr b="1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中国建成自行设计的第一艘轮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中国建成自行设计的第一艘轮船与中国以前的船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了蒸汽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船招商局是在什么背景下成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洋务派兴办军事工业后，运输上出现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鸦片战争后，西方列强纷纷在中国设立轮船公司，控制中国水上运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船招商局成立带来了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破了列强水上运输在中国的垄断局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程度上抵御了外国的经济侵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动了一批轮船公司的成立，推动了中国水上交通业的近代化进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5086440" cy="361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64000" y="1828440"/>
            <a:ext cx="28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庆三峡轮船股份有限公司游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460044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江轮船海外旅游总公司游轮神州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0" y="3098880"/>
            <a:ext cx="5219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的轮船应该发生在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以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以后，由于铁路、公路和民航事业的快速发展，轮船运输业开始萎缩，一些航线被取消，有的则转向高档旅游服务业。而这两艘轮船都是用来旅游的游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铁路、公路和民航事业的快速发展，就导致轮船运输业萎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轮船运输的速度比较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之前，轮船运输业发展的状况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较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统一管理的轮船运输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了什么经济的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划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古代，为什么南北方的交通工具会出现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方多水路 ，北方多旱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做这些交通工具的是些什么人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官员和有钱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百姓出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为步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交通运输工具有什么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708360" y="76500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5229360"/>
            <a:ext cx="83534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如，广东恩平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在美国试制成功中国第一架飞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所示的内容有什么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志着中国航空事业的开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之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近代航空事业的发展状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中国首条空中航线——北京至天津航线开通，中国民航拉开了序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中国民航共有国内外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航线总长度近八万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47980" b="0"/>
          <a:stretch/>
        </p:blipFill>
        <p:spPr>
          <a:xfrm>
            <a:off x="1258920" y="1557360"/>
            <a:ext cx="68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批飞机是哪个厂生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沈阳飞机制造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什么时间制造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五计划期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76280"/>
            <a:ext cx="1800360" cy="124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55240" y="333360"/>
            <a:ext cx="7898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客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325440" y="774720"/>
            <a:ext cx="4246560" cy="231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324000" y="3438360"/>
            <a:ext cx="4248000" cy="294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5"/>
          <a:stretch/>
        </p:blipFill>
        <p:spPr>
          <a:xfrm>
            <a:off x="5003640" y="3357720"/>
            <a:ext cx="3745080" cy="277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419640" y="1413000"/>
            <a:ext cx="5364000" cy="3571560"/>
            <a:chOff x="3419640" y="1413000"/>
            <a:chExt cx="5364000" cy="35715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3419640" y="1413000"/>
              <a:ext cx="536400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5640" y="1413000"/>
              <a:ext cx="132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空中客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3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rcRect l="0" t="17878" r="0" b="17797"/>
          <a:stretch/>
        </p:blipFill>
        <p:spPr>
          <a:xfrm>
            <a:off x="755640" y="1125360"/>
            <a:ext cx="201600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755640" y="2708280"/>
            <a:ext cx="2160720" cy="1736640"/>
            <a:chOff x="755640" y="2708280"/>
            <a:chExt cx="2160720" cy="173664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755640" y="2708280"/>
              <a:ext cx="201600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5640" y="407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南方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55640" y="4581360"/>
            <a:ext cx="2016000" cy="1737000"/>
            <a:chOff x="755640" y="4581360"/>
            <a:chExt cx="2016000" cy="1737000"/>
          </a:xfrm>
        </p:grpSpPr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755640" y="4581360"/>
              <a:ext cx="201600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29320" y="59500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东方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片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航业有了巨大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了图片中的表现，还有哪些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全国各大城市和一些中等城市、旅游胜地都有航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世界许多国家的大城市设有直通航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成为世界民航大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开放以后，逐步放宽并最终取消了这些限制，乘飞机出行的人越来越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机制造业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开放前，民航发展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航发展有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飞机有种种限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   李鸿章指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兵之道必以神速为贵，是以西方各国讲求枪炮之外，水路则有快轮船，陆路则有火轮车，而数万里海洋，欲通军信，则又有电报之法。”由于开设电报利于防务、外交和商务，清政府便下令沿海疆吏设法查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李鸿章架设了北塘直达天津的电报线。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经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努力，全国主要地区都开设了电报。                                  ——— 谢俊美《信息传递与辛亥革命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据材料，李鸿章对电报的态度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力主张在中国开设有线电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材料看，有线电报主要用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塘直达天津的电报线是不是中国最早的电报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丹麦的电报公司私自把电报线架设到上海，建起一个电报机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福建巡抚丁日昌在台湾主持架设中国第一条有线电报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材料，到甲午战争前夕，我国的电报事业有了怎样的发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主要地区都开设了电报，形成四通八达的电讯网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83739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五四以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说：“一纸电报点燃五四运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中的电报传递了什么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黎和会，中国外交的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电报是无线电报，还是有限电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线电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线电报何时在中国出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初，上海崇明还装置无线电台，设立无线电报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纸电报就能点燃五四运动”？此话强调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力：自然力、人力为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输量较少，速度较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近代，交通工具要进步的话，在动力会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自然力、人力为主发展到机械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类交通工具第一次使用机械力是什么交通工具的发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美国富尔顿发明蒸汽机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又有什么交通工具的发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英国史蒂芬孙发明蒸汽机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9640" y="90792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末，中国拥有的固定电话和移动电话数量跃居世界第一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440" y="2276640"/>
            <a:ext cx="4372200" cy="3279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749400" cy="3719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19120" y="448308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搜狐新闻中心就拜年方式进行了在线调查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内参加调查的有效选票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752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，结果表明，电话拜年和手机短信拜年已成为时下最流行的拜年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403280" y="476280"/>
            <a:ext cx="6248520" cy="3976560"/>
          </a:xfrm>
          <a:prstGeom prst="rect">
            <a:avLst/>
          </a:prstGeom>
          <a:ln w="0">
            <a:noFill/>
          </a:ln>
        </p:spPr>
      </p:pic>
      <p:pic>
        <p:nvPicPr>
          <p:cNvPr id="215" name="gif221" descr=""/>
          <p:cNvPicPr/>
          <p:nvPr/>
        </p:nvPicPr>
        <p:blipFill>
          <a:blip r:embed="rId4"/>
          <a:stretch/>
        </p:blipFill>
        <p:spPr>
          <a:xfrm>
            <a:off x="8537400" y="6453360"/>
            <a:ext cx="571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材料中，可获取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末，中国拥有的固定电话和移动电话数量跃居世界第一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话由奢侈晶变成日用品，成为百姓离不开的生活帮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这种状况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中国成立后，国家不断增加对电讯事业的投资，逐渐形成全国电讯网络。改革开放推动电讯产业快速发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3399"/>
                </a:solidFill>
                <a:latin typeface="Arial"/>
                <a:ea typeface="华文新魏"/>
              </a:rPr>
              <a:t>近代以来交通和通讯工具的发展，对人们的社会生活有什么样的影响？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方正舒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7804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加快了人们的生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高了生活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加快了信息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高了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深刻改变人们的思想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推动经济文化的发展和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132000" y="33336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3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3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533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0" y="260280"/>
            <a:ext cx="2782800" cy="24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78000" y="260280"/>
            <a:ext cx="3006720" cy="250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147480" y="335772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片反映的是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极影响：能源危机、环境污染、交通阻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交通工具为什么会传入中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鸦片战争后，西方列强在侵略中国的同时，客观上也将先进技术、机器、生产方式、交通工具传入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这些交通工具传入中国的命运是怎样的呢？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67960"/>
            <a:ext cx="8964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我国最早的铁路—沪淞铁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7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英国商人未经允许建造了一条从上海至吴淞的客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0"/>
            <a:ext cx="8640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近代中国出现了哪些新型交通运输工具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20640"/>
            <a:ext cx="604980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692280"/>
            <a:ext cx="237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：吴淞铁路在江湾附近压死一人，迷信风水的人说这条铁路会破坏上海的风水，要求清政府干涉。结果清政府把铁路给拆除了，机车和车辆沉入江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材料看，我国最早的铁路—沪淞铁路的结局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清政府拆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被拆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顽固保守人士的反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反对的理由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破坏风水，引起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早的铁路被拆除了，但是铁路还是在我国发展起来，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的发展需要便利的交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2:17:57Z</dcterms:created>
  <dc:creator>SDWM</dc:creator>
  <dc:description/>
  <dc:language>en-US</dc:language>
  <cp:lastModifiedBy>User</cp:lastModifiedBy>
  <dcterms:modified xsi:type="dcterms:W3CDTF">2013-12-12T15:15:23Z</dcterms:modified>
  <cp:revision>5</cp:revision>
  <dc:subject/>
  <dc:title>第15课  交通与通讯的变化</dc:title>
</cp:coreProperties>
</file>