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2.gif" ContentType="image/gif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5.jpeg" ContentType="image/jpeg"/>
  <Override PartName="/ppt/media/image30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9.jpeg" ContentType="image/jpeg"/>
  <Override PartName="/ppt/media/image11.jpeg" ContentType="image/jpeg"/>
  <Override PartName="/ppt/media/image31.png" ContentType="image/png"/>
  <Override PartName="/ppt/media/image32.jpeg" ContentType="image/jpeg"/>
  <Override PartName="/ppt/media/image5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40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3.gif" ContentType="image/gif"/>
  <Override PartName="/ppt/media/image45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26.jpeg" ContentType="image/jpeg"/>
  <Override PartName="/ppt/media/image42.png" ContentType="image/png"/>
  <Override PartName="/ppt/media/image13.gif" ContentType="image/gif"/>
  <Override PartName="/ppt/media/image16.jpeg" ContentType="image/jpeg"/>
  <Override PartName="/ppt/media/image4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DBD6A-43B5-480C-8BE3-17F1A1C0E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9FCE2-BDFB-49B7-A572-01848B19D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A69E3-26C4-43CC-B7B4-2A9FFECA7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970E8-6219-4AC0-B986-7C44D90BB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40D80-4FAF-428A-8DB4-96336DC3B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EF622-80BD-4D49-AF03-D6E535282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6DF9F-F8F7-454B-A645-5C476B7E5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61FB4-701F-4BD4-BCF9-D1525DA5D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B28B0-1039-4ECE-B9CB-49129105D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8DFAC-6EA7-4926-B878-2DAFC50B0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58902-804D-42D6-9B36-52691A98F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88B0D-A3E3-4492-9167-0BEE72EFA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74831-04EA-45D8-8121-41F41F5D21B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gif"/><Relationship Id="rId3" Type="http://schemas.openxmlformats.org/officeDocument/2006/relationships/slide" Target="slide26.xml"/><Relationship Id="rId4" Type="http://schemas.openxmlformats.org/officeDocument/2006/relationships/image" Target="../media/image13.gi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bbs.xyzm.com/dispbbs.asp?boardID=13&amp;ID=7999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hyperlink" Target="file:///&#39640;&#32771;&#36164;&#28304;&#32593;http:/www.ks5u.com" TargetMode="External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347443800&amp;tn=baiduimagedetail&amp;word=&#21335;&#26041;&#33322;&#31354;&#20844;&#21496;&amp;in=15" TargetMode="External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image" Target="../media/image35.jpeg"/><Relationship Id="rId6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2.png"/><Relationship Id="rId4" Type="http://schemas.openxmlformats.org/officeDocument/2006/relationships/image" Target="../media/image43.gif"/><Relationship Id="rId5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shtong.gov.cn/node2/node4/node2250/node2673/node13623/node14416/node61241/userobject1ai4189.html" TargetMode="External"/><Relationship Id="rId2" Type="http://schemas.openxmlformats.org/officeDocument/2006/relationships/image" Target="../media/image6.jpeg"/><Relationship Id="rId3" Type="http://schemas.openxmlformats.org/officeDocument/2006/relationships/hyperlink" Target="http://image.baidu.com/i?ct=503316480&amp;z=0&amp;tn=baiduimagedetail&amp;word=%E4%C1%BB%A6%CC%FA&#183;&amp;in=6337&amp;cl=2&amp;cm=1&amp;sc=0&amp;lm=-1&amp;pn=14&amp;rn=1&amp;di=913080940&amp;ln=35" TargetMode="External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cc0000"/>
                </a:solidFill>
                <a:latin typeface="华文彩云"/>
                <a:ea typeface="华文彩云"/>
              </a:rPr>
              <a:t>第</a:t>
            </a:r>
            <a:r>
              <a:rPr b="1" lang="zh-CN" sz="6600" spc="-1" strike="noStrike">
                <a:solidFill>
                  <a:srgbClr val="cc0000"/>
                </a:solidFill>
                <a:latin typeface="华文彩云"/>
                <a:ea typeface="华文彩云"/>
              </a:rPr>
              <a:t>15</a:t>
            </a:r>
            <a:r>
              <a:rPr b="1" lang="zh-CN" sz="6600" spc="-1" strike="noStrike">
                <a:solidFill>
                  <a:srgbClr val="cc0000"/>
                </a:solidFill>
                <a:latin typeface="华文彩云"/>
                <a:ea typeface="华文彩云"/>
              </a:rPr>
              <a:t>课 </a:t>
            </a:r>
            <a:br>
              <a:rPr sz="6600"/>
            </a:br>
            <a:r>
              <a:rPr b="1" lang="zh-CN" sz="6600" spc="-1" strike="noStrike">
                <a:solidFill>
                  <a:srgbClr val="cc0000"/>
                </a:solidFill>
                <a:latin typeface="华文彩云"/>
                <a:ea typeface="华文彩云"/>
              </a:rPr>
              <a:t>交通与通讯的变化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2895120"/>
            <a:ext cx="7391160" cy="1752840"/>
          </a:xfrm>
          <a:prstGeom prst="rect">
            <a:avLst/>
          </a:prstGeom>
          <a:noFill/>
          <a:ln cap="rnd" w="57240">
            <a:solidFill>
              <a:srgbClr val="008000"/>
            </a:solidFill>
            <a:custDash>
              <a:ds d="100000" sp="1000"/>
            </a:custDash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《课程标准》要求：了解中国近代以来交通、通讯工具的进步，认识其对人们社会生活的影响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唐胥铁路上马拉车运煤" descr=""/>
          <p:cNvPicPr/>
          <p:nvPr/>
        </p:nvPicPr>
        <p:blipFill>
          <a:blip r:embed="rId1"/>
          <a:stretch/>
        </p:blipFill>
        <p:spPr>
          <a:xfrm>
            <a:off x="0" y="907920"/>
            <a:ext cx="4032360" cy="29926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0" y="4005360"/>
            <a:ext cx="39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唐胥铁路上马拉车运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39640" y="4941720"/>
            <a:ext cx="7345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唐胥铁路，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188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年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月建成，为中国第一条自建铁路。铁路全长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1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公里，以后陆续延展至天津和山海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4643280" y="1484280"/>
            <a:ext cx="4500720" cy="2855880"/>
            <a:chOff x="4643280" y="1484280"/>
            <a:chExt cx="4500720" cy="2855880"/>
          </a:xfrm>
        </p:grpSpPr>
        <p:sp>
          <p:nvSpPr>
            <p:cNvPr id="69" name=""/>
            <p:cNvSpPr/>
            <p:nvPr/>
          </p:nvSpPr>
          <p:spPr>
            <a:xfrm>
              <a:off x="4643280" y="3819600"/>
              <a:ext cx="4461480" cy="5205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李鸿章视察唐胥铁路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0" name="中国第一条自建铁路——唐胥铁路通车仪式" descr=""/>
            <p:cNvPicPr/>
            <p:nvPr/>
          </p:nvPicPr>
          <p:blipFill>
            <a:blip r:embed="rId2"/>
            <a:stretch/>
          </p:blipFill>
          <p:spPr>
            <a:xfrm>
              <a:off x="4684320" y="1484280"/>
              <a:ext cx="4459680" cy="23320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唐胥铁路是因为什么而建的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开平煤矿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建成后，生产的煤需要运出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为什么会出现马拉车运煤的奇闻？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因为顽固派害怕惊天动地的火车头会震坏了“皇陵”的风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说明了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说明落后的封建迷信观念严重阻碍了先进科技的运用，也说明清政府中一些大臣思想落后，愚昧无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24000" y="260280"/>
            <a:ext cx="836280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材料一：甲午战争后，列强在中国疯狂抢夺铁路修筑权。到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91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年，中国共有铁路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960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多千米，其中，由帝国主义直接或间接投资经营的竟达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890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多千米，中国自主修筑铁路只有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60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多千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甲午战争后，列强为什么在中国疯狂抢夺铁路修筑权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甲午战争后，列强相继进入帝国主义阶段，国内出现剩余资本，需要对外输出。另外，修筑铁路，便于列强掠夺铁路沿线的矿产资源，同时方便其对中国的进一步侵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68000" y="476280"/>
            <a:ext cx="821844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根据材料，当时中国的铁路修建有什么特征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特点：中国人自筹自建铁路所占很小比例；帝国主义控制了中国铁路的建筑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体现了当时中国社会的什么性质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半殖民地半封建社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外国修筑的铁路客观上带来了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奠定了中国近代铁路网的基本格局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辛亥革命 的爆发与铁路有没有关系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正是四川的保路运动的爆发，为武昌起义的成功创造了条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5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材料二：光绪六年岁末，刘铭传力请修筑铁路，李鸿章立足中外，比较支持刘铭传的倡议，其词曰：“处今日各国皆有铁路时，而中国独无，譬犹居中古以后而摒弃舟车，其动辄后于人也必矣。”但更多的人却不但责骂刘铭传与李鸿章“直欲破坏列祖列宗之成法以乱天下”，而且宣称“铁路行之外夷则可，行之中国不可。”洋务派虽冲破阻力“毅然兴办”，但步履之难可以体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9640" y="476280"/>
            <a:ext cx="835344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由材料二可知，中国近代的铁路的发展必然是什么状况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困难重重，发展缓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缓慢发展的表现是到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世纪上半叶，西北、西南与内地之间，基本没有铁路交通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结合材料一二和所学知识分析，近代中国铁路发展缓慢的原因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帝国主义的侵略和控制。　②政局动荡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③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顽固落后势力的反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根本原因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中国半封建半殖民地的社会性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" dur="5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0" dur="5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" dur="500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0" dur="500"/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3640" y="333000"/>
            <a:ext cx="856908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顽固保守势力反对修铁路的理由是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夺民生计。“铁路一开，津通舟车尽废，水手、车夫、客店、负贩食力之人，终归饿莩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引起民怨 。“铁路所经之处，尽毁田庐坟墓，必致民变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3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有利于外敌入侵。“一旦祸起，即直达京师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4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破坏风水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特别是会惊动龙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5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耗费银两巨大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财政根本无法承担。且由于得购买外国原料、雇佣洋匠，导致白银外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有没有道理？该怎么批驳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2" dur="5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7" dur="500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7" dur="500"/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2" dur="500"/>
                                        <p:tgtEl>
                                          <p:spTgt spid="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7" dur="500"/>
                                        <p:tgtEl>
                                          <p:spTgt spid="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速度快、运力大、费用低廉而有利国计民生；是国民经济发展的动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中国只有顺应世界发展趋势，大力进行铁路建设，发展经济，改善人民生活，提高国力，这些问题就解决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5" descr="一五计划工业建设成就分布图"/>
          <p:cNvPicPr/>
          <p:nvPr/>
        </p:nvPicPr>
        <p:blipFill>
          <a:blip r:embed="rId1"/>
          <a:stretch/>
        </p:blipFill>
        <p:spPr>
          <a:xfrm>
            <a:off x="826920" y="765000"/>
            <a:ext cx="7705800" cy="547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835360" y="2048040"/>
            <a:ext cx="2120760" cy="1665000"/>
          </a:xfrm>
          <a:custGeom>
            <a:avLst/>
            <a:gdLst/>
            <a:ahLst/>
            <a:rect l="l" t="t" r="r" b="b"/>
            <a:pathLst>
              <a:path w="1336" h="1049">
                <a:moveTo>
                  <a:pt x="0" y="0"/>
                </a:moveTo>
                <a:cubicBezTo>
                  <a:pt x="34" y="6"/>
                  <a:pt x="109" y="15"/>
                  <a:pt x="138" y="35"/>
                </a:cubicBezTo>
                <a:cubicBezTo>
                  <a:pt x="161" y="50"/>
                  <a:pt x="207" y="81"/>
                  <a:pt x="207" y="81"/>
                </a:cubicBezTo>
                <a:cubicBezTo>
                  <a:pt x="231" y="116"/>
                  <a:pt x="259" y="132"/>
                  <a:pt x="288" y="162"/>
                </a:cubicBezTo>
                <a:cubicBezTo>
                  <a:pt x="299" y="196"/>
                  <a:pt x="302" y="235"/>
                  <a:pt x="322" y="265"/>
                </a:cubicBezTo>
                <a:cubicBezTo>
                  <a:pt x="360" y="323"/>
                  <a:pt x="399" y="380"/>
                  <a:pt x="437" y="438"/>
                </a:cubicBezTo>
                <a:cubicBezTo>
                  <a:pt x="498" y="530"/>
                  <a:pt x="528" y="582"/>
                  <a:pt x="622" y="645"/>
                </a:cubicBezTo>
                <a:cubicBezTo>
                  <a:pt x="681" y="685"/>
                  <a:pt x="728" y="732"/>
                  <a:pt x="794" y="761"/>
                </a:cubicBezTo>
                <a:cubicBezTo>
                  <a:pt x="816" y="771"/>
                  <a:pt x="841" y="776"/>
                  <a:pt x="864" y="784"/>
                </a:cubicBezTo>
                <a:cubicBezTo>
                  <a:pt x="875" y="788"/>
                  <a:pt x="898" y="795"/>
                  <a:pt x="898" y="795"/>
                </a:cubicBezTo>
                <a:cubicBezTo>
                  <a:pt x="910" y="803"/>
                  <a:pt x="921" y="812"/>
                  <a:pt x="933" y="818"/>
                </a:cubicBezTo>
                <a:cubicBezTo>
                  <a:pt x="944" y="823"/>
                  <a:pt x="957" y="824"/>
                  <a:pt x="967" y="830"/>
                </a:cubicBezTo>
                <a:cubicBezTo>
                  <a:pt x="1003" y="850"/>
                  <a:pt x="1031" y="887"/>
                  <a:pt x="1071" y="899"/>
                </a:cubicBezTo>
                <a:cubicBezTo>
                  <a:pt x="1078" y="901"/>
                  <a:pt x="1133" y="918"/>
                  <a:pt x="1140" y="922"/>
                </a:cubicBezTo>
                <a:cubicBezTo>
                  <a:pt x="1176" y="942"/>
                  <a:pt x="1209" y="968"/>
                  <a:pt x="1244" y="991"/>
                </a:cubicBezTo>
                <a:cubicBezTo>
                  <a:pt x="1276" y="1012"/>
                  <a:pt x="1309" y="1022"/>
                  <a:pt x="1336" y="1049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rcRect l="6320" t="9423" r="15954" b="0"/>
          <a:stretch/>
        </p:blipFill>
        <p:spPr>
          <a:xfrm>
            <a:off x="-1440" y="1440"/>
            <a:ext cx="9145440" cy="685656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706400" y="682560"/>
            <a:ext cx="184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F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50920" y="5516640"/>
            <a:ext cx="3419280" cy="581400"/>
          </a:xfrm>
          <a:prstGeom prst="rect">
            <a:avLst/>
          </a:prstGeom>
          <a:solidFill>
            <a:srgbClr val="bac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33"/>
                </a:solidFill>
                <a:latin typeface="Times New Roman"/>
                <a:ea typeface="隶书"/>
              </a:rPr>
              <a:t>十年建设时期的主要建设成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003640" y="5157720"/>
            <a:ext cx="648000" cy="3589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贵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564000" y="5589720"/>
            <a:ext cx="1512720" cy="503280"/>
          </a:xfrm>
          <a:prstGeom prst="wedgeRectCallout">
            <a:avLst>
              <a:gd name="adj1" fmla="val -43518"/>
              <a:gd name="adj2" fmla="val 7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817720" y="1922400"/>
            <a:ext cx="2306880" cy="1647720"/>
          </a:xfrm>
          <a:custGeom>
            <a:avLst/>
            <a:gdLst/>
            <a:ahLst/>
            <a:rect l="l" t="t" r="r" b="b"/>
            <a:pathLst>
              <a:path w="1453" h="1038">
                <a:moveTo>
                  <a:pt x="0" y="0"/>
                </a:moveTo>
                <a:cubicBezTo>
                  <a:pt x="113" y="29"/>
                  <a:pt x="198" y="101"/>
                  <a:pt x="294" y="164"/>
                </a:cubicBezTo>
                <a:cubicBezTo>
                  <a:pt x="315" y="178"/>
                  <a:pt x="343" y="174"/>
                  <a:pt x="364" y="188"/>
                </a:cubicBezTo>
                <a:cubicBezTo>
                  <a:pt x="435" y="235"/>
                  <a:pt x="506" y="281"/>
                  <a:pt x="576" y="329"/>
                </a:cubicBezTo>
                <a:cubicBezTo>
                  <a:pt x="586" y="336"/>
                  <a:pt x="600" y="335"/>
                  <a:pt x="611" y="341"/>
                </a:cubicBezTo>
                <a:cubicBezTo>
                  <a:pt x="694" y="387"/>
                  <a:pt x="766" y="464"/>
                  <a:pt x="858" y="493"/>
                </a:cubicBezTo>
                <a:cubicBezTo>
                  <a:pt x="908" y="544"/>
                  <a:pt x="982" y="560"/>
                  <a:pt x="1034" y="611"/>
                </a:cubicBezTo>
                <a:cubicBezTo>
                  <a:pt x="1046" y="623"/>
                  <a:pt x="1057" y="636"/>
                  <a:pt x="1070" y="646"/>
                </a:cubicBezTo>
                <a:cubicBezTo>
                  <a:pt x="1092" y="663"/>
                  <a:pt x="1140" y="693"/>
                  <a:pt x="1140" y="693"/>
                </a:cubicBezTo>
                <a:cubicBezTo>
                  <a:pt x="1202" y="787"/>
                  <a:pt x="1122" y="677"/>
                  <a:pt x="1199" y="752"/>
                </a:cubicBezTo>
                <a:cubicBezTo>
                  <a:pt x="1268" y="820"/>
                  <a:pt x="1171" y="754"/>
                  <a:pt x="1258" y="823"/>
                </a:cubicBezTo>
                <a:cubicBezTo>
                  <a:pt x="1280" y="840"/>
                  <a:pt x="1328" y="870"/>
                  <a:pt x="1328" y="870"/>
                </a:cubicBezTo>
                <a:cubicBezTo>
                  <a:pt x="1345" y="895"/>
                  <a:pt x="1370" y="915"/>
                  <a:pt x="1387" y="940"/>
                </a:cubicBezTo>
                <a:cubicBezTo>
                  <a:pt x="1453" y="1038"/>
                  <a:pt x="1346" y="919"/>
                  <a:pt x="1422" y="999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862440" y="2227320"/>
            <a:ext cx="3529080" cy="1720800"/>
          </a:xfrm>
          <a:custGeom>
            <a:avLst/>
            <a:gdLst/>
            <a:ahLst/>
            <a:rect l="l" t="t" r="r" b="b"/>
            <a:pathLst>
              <a:path w="2223" h="1084">
                <a:moveTo>
                  <a:pt x="0" y="678"/>
                </a:moveTo>
                <a:cubicBezTo>
                  <a:pt x="77" y="617"/>
                  <a:pt x="135" y="548"/>
                  <a:pt x="212" y="490"/>
                </a:cubicBezTo>
                <a:cubicBezTo>
                  <a:pt x="313" y="415"/>
                  <a:pt x="471" y="325"/>
                  <a:pt x="588" y="278"/>
                </a:cubicBezTo>
                <a:cubicBezTo>
                  <a:pt x="629" y="261"/>
                  <a:pt x="675" y="257"/>
                  <a:pt x="717" y="243"/>
                </a:cubicBezTo>
                <a:cubicBezTo>
                  <a:pt x="884" y="188"/>
                  <a:pt x="1039" y="137"/>
                  <a:pt x="1211" y="90"/>
                </a:cubicBezTo>
                <a:cubicBezTo>
                  <a:pt x="1249" y="80"/>
                  <a:pt x="1290" y="84"/>
                  <a:pt x="1329" y="78"/>
                </a:cubicBezTo>
                <a:cubicBezTo>
                  <a:pt x="1493" y="55"/>
                  <a:pt x="1658" y="34"/>
                  <a:pt x="1822" y="8"/>
                </a:cubicBezTo>
                <a:cubicBezTo>
                  <a:pt x="1958" y="16"/>
                  <a:pt x="2014" y="0"/>
                  <a:pt x="2104" y="90"/>
                </a:cubicBezTo>
                <a:cubicBezTo>
                  <a:pt x="2118" y="104"/>
                  <a:pt x="2130" y="120"/>
                  <a:pt x="2140" y="137"/>
                </a:cubicBezTo>
                <a:cubicBezTo>
                  <a:pt x="2158" y="167"/>
                  <a:pt x="2187" y="231"/>
                  <a:pt x="2187" y="231"/>
                </a:cubicBezTo>
                <a:cubicBezTo>
                  <a:pt x="2223" y="409"/>
                  <a:pt x="2164" y="477"/>
                  <a:pt x="2057" y="595"/>
                </a:cubicBezTo>
                <a:cubicBezTo>
                  <a:pt x="1966" y="695"/>
                  <a:pt x="1864" y="812"/>
                  <a:pt x="1752" y="889"/>
                </a:cubicBezTo>
                <a:cubicBezTo>
                  <a:pt x="1664" y="949"/>
                  <a:pt x="1553" y="974"/>
                  <a:pt x="1458" y="1019"/>
                </a:cubicBezTo>
                <a:cubicBezTo>
                  <a:pt x="1320" y="1084"/>
                  <a:pt x="1435" y="1058"/>
                  <a:pt x="1293" y="1077"/>
                </a:cubicBezTo>
                <a:cubicBezTo>
                  <a:pt x="1215" y="1069"/>
                  <a:pt x="1134" y="1074"/>
                  <a:pt x="1058" y="1054"/>
                </a:cubicBezTo>
                <a:cubicBezTo>
                  <a:pt x="1039" y="1049"/>
                  <a:pt x="1037" y="1021"/>
                  <a:pt x="1023" y="1007"/>
                </a:cubicBezTo>
                <a:cubicBezTo>
                  <a:pt x="1013" y="997"/>
                  <a:pt x="997" y="994"/>
                  <a:pt x="988" y="983"/>
                </a:cubicBezTo>
                <a:cubicBezTo>
                  <a:pt x="756" y="725"/>
                  <a:pt x="1008" y="980"/>
                  <a:pt x="882" y="854"/>
                </a:cubicBezTo>
                <a:cubicBezTo>
                  <a:pt x="854" y="770"/>
                  <a:pt x="872" y="804"/>
                  <a:pt x="835" y="748"/>
                </a:cubicBezTo>
                <a:cubicBezTo>
                  <a:pt x="798" y="493"/>
                  <a:pt x="811" y="210"/>
                  <a:pt x="1070" y="90"/>
                </a:cubicBezTo>
                <a:cubicBezTo>
                  <a:pt x="1147" y="54"/>
                  <a:pt x="1235" y="55"/>
                  <a:pt x="1317" y="43"/>
                </a:cubicBezTo>
                <a:cubicBezTo>
                  <a:pt x="1407" y="47"/>
                  <a:pt x="1497" y="49"/>
                  <a:pt x="1587" y="55"/>
                </a:cubicBezTo>
                <a:cubicBezTo>
                  <a:pt x="1607" y="56"/>
                  <a:pt x="1646" y="66"/>
                  <a:pt x="1646" y="66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835360" y="2011320"/>
            <a:ext cx="2249280" cy="1652760"/>
          </a:xfrm>
          <a:custGeom>
            <a:avLst/>
            <a:gdLst/>
            <a:ahLst/>
            <a:rect l="l" t="t" r="r" b="b"/>
            <a:pathLst>
              <a:path w="1417" h="1041">
                <a:moveTo>
                  <a:pt x="0" y="0"/>
                </a:moveTo>
                <a:cubicBezTo>
                  <a:pt x="41" y="28"/>
                  <a:pt x="90" y="54"/>
                  <a:pt x="138" y="69"/>
                </a:cubicBezTo>
                <a:cubicBezTo>
                  <a:pt x="149" y="77"/>
                  <a:pt x="159" y="86"/>
                  <a:pt x="172" y="92"/>
                </a:cubicBezTo>
                <a:cubicBezTo>
                  <a:pt x="194" y="102"/>
                  <a:pt x="242" y="115"/>
                  <a:pt x="242" y="115"/>
                </a:cubicBezTo>
                <a:cubicBezTo>
                  <a:pt x="253" y="123"/>
                  <a:pt x="264" y="132"/>
                  <a:pt x="276" y="138"/>
                </a:cubicBezTo>
                <a:cubicBezTo>
                  <a:pt x="287" y="144"/>
                  <a:pt x="300" y="144"/>
                  <a:pt x="311" y="150"/>
                </a:cubicBezTo>
                <a:cubicBezTo>
                  <a:pt x="335" y="163"/>
                  <a:pt x="380" y="196"/>
                  <a:pt x="380" y="196"/>
                </a:cubicBezTo>
                <a:cubicBezTo>
                  <a:pt x="441" y="288"/>
                  <a:pt x="496" y="388"/>
                  <a:pt x="564" y="473"/>
                </a:cubicBezTo>
                <a:cubicBezTo>
                  <a:pt x="595" y="512"/>
                  <a:pt x="614" y="547"/>
                  <a:pt x="656" y="576"/>
                </a:cubicBezTo>
                <a:cubicBezTo>
                  <a:pt x="678" y="641"/>
                  <a:pt x="748" y="674"/>
                  <a:pt x="806" y="703"/>
                </a:cubicBezTo>
                <a:cubicBezTo>
                  <a:pt x="818" y="709"/>
                  <a:pt x="828" y="720"/>
                  <a:pt x="841" y="726"/>
                </a:cubicBezTo>
                <a:cubicBezTo>
                  <a:pt x="886" y="748"/>
                  <a:pt x="942" y="750"/>
                  <a:pt x="990" y="761"/>
                </a:cubicBezTo>
                <a:cubicBezTo>
                  <a:pt x="1025" y="769"/>
                  <a:pt x="1060" y="784"/>
                  <a:pt x="1094" y="795"/>
                </a:cubicBezTo>
                <a:cubicBezTo>
                  <a:pt x="1135" y="822"/>
                  <a:pt x="1186" y="872"/>
                  <a:pt x="1232" y="887"/>
                </a:cubicBezTo>
                <a:cubicBezTo>
                  <a:pt x="1287" y="924"/>
                  <a:pt x="1346" y="956"/>
                  <a:pt x="1394" y="1002"/>
                </a:cubicBezTo>
                <a:cubicBezTo>
                  <a:pt x="1406" y="1041"/>
                  <a:pt x="1393" y="1037"/>
                  <a:pt x="1417" y="1037"/>
                </a:cubicBez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065560" y="2743200"/>
            <a:ext cx="822600" cy="914400"/>
          </a:xfrm>
          <a:custGeom>
            <a:avLst/>
            <a:gdLst/>
            <a:ahLst/>
            <a:rect l="l" t="t" r="r" b="b"/>
            <a:pathLst>
              <a:path w="518" h="576">
                <a:moveTo>
                  <a:pt x="0" y="576"/>
                </a:moveTo>
                <a:cubicBezTo>
                  <a:pt x="17" y="526"/>
                  <a:pt x="46" y="484"/>
                  <a:pt x="69" y="438"/>
                </a:cubicBezTo>
                <a:cubicBezTo>
                  <a:pt x="75" y="427"/>
                  <a:pt x="73" y="413"/>
                  <a:pt x="81" y="403"/>
                </a:cubicBezTo>
                <a:cubicBezTo>
                  <a:pt x="90" y="392"/>
                  <a:pt x="104" y="388"/>
                  <a:pt x="115" y="380"/>
                </a:cubicBezTo>
                <a:cubicBezTo>
                  <a:pt x="136" y="320"/>
                  <a:pt x="121" y="354"/>
                  <a:pt x="173" y="276"/>
                </a:cubicBezTo>
                <a:cubicBezTo>
                  <a:pt x="181" y="265"/>
                  <a:pt x="196" y="242"/>
                  <a:pt x="196" y="242"/>
                </a:cubicBezTo>
                <a:cubicBezTo>
                  <a:pt x="215" y="181"/>
                  <a:pt x="259" y="126"/>
                  <a:pt x="288" y="69"/>
                </a:cubicBezTo>
                <a:cubicBezTo>
                  <a:pt x="293" y="58"/>
                  <a:pt x="292" y="43"/>
                  <a:pt x="300" y="35"/>
                </a:cubicBezTo>
                <a:cubicBezTo>
                  <a:pt x="312" y="23"/>
                  <a:pt x="399" y="4"/>
                  <a:pt x="415" y="0"/>
                </a:cubicBezTo>
                <a:cubicBezTo>
                  <a:pt x="451" y="9"/>
                  <a:pt x="485" y="18"/>
                  <a:pt x="518" y="35"/>
                </a:cubicBez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37240" y="1628640"/>
            <a:ext cx="141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乌鲁木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433400" y="3506760"/>
            <a:ext cx="114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兰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401800" y="2492280"/>
            <a:ext cx="114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包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2771640" y="2421000"/>
            <a:ext cx="714600" cy="71424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3851280" y="2205000"/>
            <a:ext cx="1297080" cy="432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兰新铁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508720" y="3284640"/>
            <a:ext cx="1224000" cy="360360"/>
          </a:xfrm>
          <a:prstGeom prst="wedgeRoundRectCallout">
            <a:avLst>
              <a:gd name="adj1" fmla="val -57912"/>
              <a:gd name="adj2" fmla="val -94935"/>
              <a:gd name="adj3" fmla="val 1666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包兰铁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087920" y="3281400"/>
            <a:ext cx="1265400" cy="496440"/>
          </a:xfrm>
          <a:prstGeom prst="wedgeRoundRectCallout">
            <a:avLst>
              <a:gd name="adj1" fmla="val 138393"/>
              <a:gd name="adj2" fmla="val -129055"/>
              <a:gd name="adj3" fmla="val 16667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第一颗原子弹爆炸成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651640" y="1773360"/>
            <a:ext cx="1584360" cy="287280"/>
          </a:xfrm>
          <a:prstGeom prst="wedgeRectCallout">
            <a:avLst>
              <a:gd name="adj1" fmla="val -35370"/>
              <a:gd name="adj2" fmla="val 209666"/>
            </a:avLst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包头钢铁公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804000" y="620640"/>
            <a:ext cx="1152720" cy="360360"/>
          </a:xfrm>
          <a:prstGeom prst="wedgeRectCallout">
            <a:avLst>
              <a:gd name="adj1" fmla="val 39805"/>
              <a:gd name="adj2" fmla="val 201981"/>
            </a:avLst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大庆油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201800" y="1341360"/>
            <a:ext cx="114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大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6588000" y="2492280"/>
            <a:ext cx="432000" cy="4320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5906520" y="4149720"/>
            <a:ext cx="114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武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003640" y="4724280"/>
            <a:ext cx="1584360" cy="360360"/>
          </a:xfrm>
          <a:prstGeom prst="wedgeRectCallout">
            <a:avLst>
              <a:gd name="adj1" fmla="val 51402"/>
              <a:gd name="adj2" fmla="val -124888"/>
            </a:avLst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武汉钢铁公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492320" y="3933720"/>
            <a:ext cx="114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上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732720" y="4508640"/>
            <a:ext cx="2050920" cy="360360"/>
          </a:xfrm>
          <a:prstGeom prst="wedgeRectCallout">
            <a:avLst>
              <a:gd name="adj1" fmla="val 2939"/>
              <a:gd name="adj2" fmla="val -135902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人工合成牛胰岛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596360" y="2133720"/>
            <a:ext cx="1152360" cy="360360"/>
          </a:xfrm>
          <a:prstGeom prst="wedgeRectCallout">
            <a:avLst>
              <a:gd name="adj1" fmla="val -86365"/>
              <a:gd name="adj2" fmla="val 147796"/>
            </a:avLst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大港油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627240" y="2492280"/>
            <a:ext cx="114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天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122520" y="2349360"/>
            <a:ext cx="114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Times New Roman"/>
              </a:rPr>
              <a:t>北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486400" y="5138640"/>
            <a:ext cx="566640" cy="274680"/>
          </a:xfrm>
          <a:custGeom>
            <a:avLst/>
            <a:gdLst/>
            <a:ahLst/>
            <a:rect l="l" t="t" r="r" b="b"/>
            <a:pathLst>
              <a:path w="357" h="173">
                <a:moveTo>
                  <a:pt x="0" y="23"/>
                </a:moveTo>
                <a:cubicBezTo>
                  <a:pt x="66" y="2"/>
                  <a:pt x="72" y="0"/>
                  <a:pt x="150" y="12"/>
                </a:cubicBezTo>
                <a:cubicBezTo>
                  <a:pt x="202" y="47"/>
                  <a:pt x="178" y="57"/>
                  <a:pt x="230" y="92"/>
                </a:cubicBezTo>
                <a:cubicBezTo>
                  <a:pt x="266" y="148"/>
                  <a:pt x="240" y="123"/>
                  <a:pt x="323" y="150"/>
                </a:cubicBezTo>
                <a:cubicBezTo>
                  <a:pt x="336" y="154"/>
                  <a:pt x="357" y="173"/>
                  <a:pt x="357" y="173"/>
                </a:cubicBez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690520" y="5300640"/>
            <a:ext cx="114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柳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716360" y="5661000"/>
            <a:ext cx="1297080" cy="432000"/>
          </a:xfrm>
          <a:prstGeom prst="wedgeRoundRectCallout">
            <a:avLst>
              <a:gd name="adj1" fmla="val 30291"/>
              <a:gd name="adj2" fmla="val -138236"/>
              <a:gd name="adj3" fmla="val 1666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黔桂铁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380360" y="3500280"/>
            <a:ext cx="1152360" cy="360360"/>
          </a:xfrm>
          <a:prstGeom prst="wedgeRectCallout">
            <a:avLst>
              <a:gd name="adj1" fmla="val -54134"/>
              <a:gd name="adj2" fmla="val -143393"/>
            </a:avLst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胜利油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81040" y="2859120"/>
            <a:ext cx="114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东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rcRect l="8004" t="8030" r="12002" b="0"/>
          <a:stretch/>
        </p:blipFill>
        <p:spPr>
          <a:xfrm>
            <a:off x="4495680" y="3139920"/>
            <a:ext cx="4648320" cy="37180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380880"/>
            <a:ext cx="4572000" cy="34545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295280" y="388620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ff"/>
                </a:solidFill>
                <a:latin typeface="Arial"/>
              </a:rPr>
              <a:t>南方舟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019920" y="2438280"/>
            <a:ext cx="236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ff"/>
                </a:solidFill>
                <a:latin typeface="Arial"/>
              </a:rPr>
              <a:t>北方马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68000" y="333000"/>
            <a:ext cx="849636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根据两幅地图，西南、西北地区铁路建设发生了什么变化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建成宝成、兰新 铁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起了什么作用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加强了内地与西北、西南地区的沟通 。促进了这些地区经济的发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在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953——195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年，西宁和拉萨之间修建了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青藏公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现在修建了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青藏铁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是何时全线通车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00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有什么意义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4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4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9" dur="5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4" dur="5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9" dur="500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4" dur="5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9" dur="500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4" dur="500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9" dur="500"/>
                                        <p:tgtEl>
                                          <p:spTgt spid="1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4" dur="500"/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青藏铁路是世界上海拔最高、线路最长、气候条件最恶劣的高原铁路。中国铁路建设者破解并攻克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多年冻土、高寒缺氧和生态脆弱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“三大难题”的严峻挑战。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充分体现了中国人民的伟大创新精神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它的全线通车，给拉萨的旅游业和商业带来繁荣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6360" y="0"/>
            <a:ext cx="907272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3918960" y="62064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中国铁路交通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68360" y="333000"/>
            <a:ext cx="8229600" cy="546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此图能说明什么问题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国的铁路建设取得了巨大成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表现在什么地方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到“九五”期末，中国的铁路营运总里程已跃居亚洲第一位、世界第四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取得巨大成就的原因有哪些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国民经济发展的需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政府的重视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世纪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9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年代，国家更投入巨额资金，加快铁路建设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6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1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6" dur="5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1" dur="5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6" dur="5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1" dur="5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5791320" y="4495680"/>
            <a:ext cx="3276360" cy="211608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0" y="620640"/>
            <a:ext cx="3429000" cy="210492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843280" y="-360"/>
            <a:ext cx="3581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黑体"/>
                <a:ea typeface="黑体"/>
              </a:rPr>
              <a:t>火车机车演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5715000" y="620640"/>
            <a:ext cx="3429000" cy="208116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4"/>
          <a:stretch/>
        </p:blipFill>
        <p:spPr>
          <a:xfrm>
            <a:off x="2771640" y="2708280"/>
            <a:ext cx="3276720" cy="217980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5"/>
          <a:stretch/>
        </p:blipFill>
        <p:spPr>
          <a:xfrm>
            <a:off x="0" y="4805280"/>
            <a:ext cx="3733920" cy="20527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250920" y="1159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幼圆"/>
                <a:ea typeface="幼圆"/>
              </a:rPr>
              <a:t>蒸汽机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348240" y="4428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幼圆"/>
                <a:ea typeface="幼圆"/>
              </a:rPr>
              <a:t>内燃机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492360" y="22050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幼圆"/>
                <a:ea typeface="幼圆"/>
              </a:rPr>
              <a:t>电力机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0920" y="42210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幼圆"/>
                <a:ea typeface="幼圆"/>
              </a:rPr>
              <a:t>高速列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781680" y="3962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幼圆"/>
                <a:ea typeface="幼圆"/>
              </a:rPr>
              <a:t>磁悬浮列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2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7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5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5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8360" y="836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图片表达的意思是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机车制造 技术不断进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会带来什么结果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运行速度加快，运行效率提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给国民经济发展、百姓生活带来怎样的影响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方便百姓出行，利于物资运输、商品交流，加快经济发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2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7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2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7" dur="5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2" dur="5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7" dur="500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汽车是何时出现的？由谁发明的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传入中国的时间是何时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世纪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最初在哪个城市出现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上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什么人使用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权贵、富绅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此后，汽车在中国的使用情况是怎样的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4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9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4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9" dur="5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4" dur="5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9" dur="500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4" dur="500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9" dur="500"/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外国近代筑路技术传人中国，民国时期陆续修建了一些公路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但发展缓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缓慢发展的原因是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政治腐败、政局动荡、民生凋敝，汽车和油料几乎全部依赖进口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6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1" dur="5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6" dur="5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5" descr="一五计划工业建设成就分布图"/>
          <p:cNvPicPr/>
          <p:nvPr/>
        </p:nvPicPr>
        <p:blipFill>
          <a:blip r:embed="rId1"/>
          <a:stretch/>
        </p:blipFill>
        <p:spPr>
          <a:xfrm>
            <a:off x="826920" y="765000"/>
            <a:ext cx="7705800" cy="547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0" y="1981080"/>
            <a:ext cx="3995640" cy="282888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4648320" y="2133720"/>
            <a:ext cx="3960720" cy="28051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990720" y="609480"/>
            <a:ext cx="7143480" cy="576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3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6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1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5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116000" y="3124080"/>
            <a:ext cx="3613320" cy="37339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52280" y="76320"/>
            <a:ext cx="5257800" cy="32209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5292720" y="3716280"/>
            <a:ext cx="3672000" cy="26780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5867280" y="270828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轿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68360" y="90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从两幅图中，可以获得有关汽车运输的什么信息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中国建起汽车制造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标志着中国汽车工业的诞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公路运输获得较快发展。表现有哪些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青藏高原在内的许多偏远闭塞的山区也通了汽车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公路大桥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在一些河流上建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全国建立起比较密集的公路网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4" dur="indefinite" restart="never" nodeType="tmRoot">
          <p:childTnLst>
            <p:seq>
              <p:cTn id="565" dur="indefinite" nodeType="mainSeq">
                <p:childTnLst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0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5" dur="5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0" dur="5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5" dur="5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0" dur="500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5" dur="500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684360" y="801720"/>
            <a:ext cx="756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２０００年，中国汽车产量预计首次超过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  <a:ea typeface="黑体"/>
              </a:rPr>
              <a:t>２００万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辆。</a:t>
            </a:r>
            <a:br>
              <a:rPr sz="2400"/>
            </a:br>
            <a:r>
              <a:rPr b="1" lang="zh-CN" sz="2400" spc="-1" strike="noStrike">
                <a:solidFill>
                  <a:srgbClr val="ff0066"/>
                </a:solidFill>
                <a:latin typeface="Arial"/>
                <a:ea typeface="黑体"/>
              </a:rPr>
              <a:t>世纪末，中国终于跻身世界汽车十强之列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3" descr=""/>
          <p:cNvPicPr/>
          <p:nvPr/>
        </p:nvPicPr>
        <p:blipFill>
          <a:blip r:embed="rId1"/>
          <a:stretch/>
        </p:blipFill>
        <p:spPr>
          <a:xfrm>
            <a:off x="395280" y="1714680"/>
            <a:ext cx="8209080" cy="51703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909080" y="5804640"/>
            <a:ext cx="490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２０００年１２月１２日，赛欧下线，引发了无数中国人对家庭轿车的新梦想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250920" y="189000"/>
            <a:ext cx="18000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华文新魏"/>
              </a:rPr>
              <a:t>图说历史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华文新魏"/>
              <a:ea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6" dur="indefinite" restart="never" nodeType="tmRoot">
          <p:childTnLst>
            <p:seq>
              <p:cTn id="597" dur="indefinite" nodeType="mainSeq">
                <p:childTnLst>
                  <p:par>
                    <p:cTn id="598" fill="hold">
                      <p:stCondLst>
                        <p:cond delay="0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60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605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6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608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826920" y="907920"/>
            <a:ext cx="7345440" cy="522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9" dur="indefinite" restart="never" nodeType="tmRoot">
          <p:childTnLst>
            <p:seq>
              <p:cTn id="610" dur="indefinite" nodeType="mainSeq">
                <p:childTnLst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5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两幅图片说明了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国汽车工业获得了巨大发展，已位居世界前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汽车运输的发展也带来了交通拥堵问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怎么解决这一问题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6" dur="indefinite" restart="never" nodeType="tmRoot">
          <p:childTnLst>
            <p:seq>
              <p:cTn id="617" dur="indefinite" nodeType="mainSeq">
                <p:childTnLst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2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7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2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7" dur="5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地面、地下和空中的路轨设计，实现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地面交通压力最小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发展城市环线，实现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市区的客流量的最小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实行单向行驶的道路交通，实现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车辆行驶障碍最小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大力发展公共交通，实现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车流数量最小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8" dur="indefinite" restart="never" nodeType="tmRoot">
          <p:childTnLst>
            <p:seq>
              <p:cTn id="639" dur="indefinite" nodeType="mainSeq">
                <p:childTnLst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4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9" dur="5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4" dur="5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9" dur="5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0" name=""/>
          <p:cNvGrpSpPr/>
          <p:nvPr/>
        </p:nvGrpSpPr>
        <p:grpSpPr>
          <a:xfrm>
            <a:off x="324000" y="1917720"/>
            <a:ext cx="3889080" cy="3616200"/>
            <a:chOff x="324000" y="1917720"/>
            <a:chExt cx="3889080" cy="3616200"/>
          </a:xfrm>
        </p:grpSpPr>
        <p:pic>
          <p:nvPicPr>
            <p:cNvPr id="161" name="" descr=""/>
            <p:cNvPicPr/>
            <p:nvPr/>
          </p:nvPicPr>
          <p:blipFill>
            <a:blip r:embed="rId1"/>
            <a:stretch/>
          </p:blipFill>
          <p:spPr>
            <a:xfrm>
              <a:off x="324000" y="1917720"/>
              <a:ext cx="3889080" cy="361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1812240" y="5103360"/>
              <a:ext cx="86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0000"/>
                  </a:solidFill>
                  <a:latin typeface="Arial"/>
                </a:rPr>
                <a:t>轮船招商局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419720" y="1989000"/>
            <a:ext cx="4724280" cy="3522960"/>
            <a:chOff x="4419720" y="1989000"/>
            <a:chExt cx="4724280" cy="3522960"/>
          </a:xfrm>
        </p:grpSpPr>
        <p:pic>
          <p:nvPicPr>
            <p:cNvPr id="164" name="" descr=""/>
            <p:cNvPicPr/>
            <p:nvPr/>
          </p:nvPicPr>
          <p:blipFill>
            <a:blip r:embed="rId2"/>
            <a:stretch/>
          </p:blipFill>
          <p:spPr>
            <a:xfrm>
              <a:off x="5004000" y="1989000"/>
              <a:ext cx="3733560" cy="2971800"/>
            </a:xfrm>
            <a:prstGeom prst="rect">
              <a:avLst/>
            </a:prstGeom>
            <a:ln w="9360">
              <a:solidFill>
                <a:srgbClr val="0000ff"/>
              </a:solidFill>
              <a:miter/>
            </a:ln>
          </p:spPr>
        </p:pic>
        <p:sp>
          <p:nvSpPr>
            <p:cNvPr id="165" name=""/>
            <p:cNvSpPr/>
            <p:nvPr/>
          </p:nvSpPr>
          <p:spPr>
            <a:xfrm>
              <a:off x="4419720" y="5113080"/>
              <a:ext cx="4724280" cy="398880"/>
            </a:xfrm>
            <a:prstGeom prst="rect">
              <a:avLst/>
            </a:pr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隶书"/>
                  <a:ea typeface="隶书"/>
                </a:rPr>
                <a:t>1865</a:t>
              </a:r>
              <a:r>
                <a:rPr b="1" lang="zh-CN" sz="2000" spc="-1" strike="noStrike">
                  <a:solidFill>
                    <a:srgbClr val="ff0000"/>
                  </a:solidFill>
                  <a:latin typeface="隶书"/>
                  <a:ea typeface="隶书"/>
                </a:rPr>
                <a:t>年中国建成自行设计的第一艘轮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0" dur="indefinite" restart="never" nodeType="tmRoot">
          <p:childTnLst>
            <p:seq>
              <p:cTn id="661" dur="indefinite" nodeType="mainSeq">
                <p:childTnLst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6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24000" y="333360"/>
            <a:ext cx="864072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86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年中国建成自行设计的第一艘轮船与中国以前的船有什么不同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使用了蒸汽动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轮船招商局是在什么背景下成立的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洋务派兴办军事工业后，运输上出现困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鸦片战争后，西方列强纷纷在中国设立轮船公司，控制中国水上运输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轮船招商局成立带来了什么影响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打破了列强水上运输在中国的垄断局面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定程度上抵御了外国的经济侵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带动了一批轮船公司的成立，推动了中国水上交通业的近代化进程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0" dur="indefinite" restart="never" nodeType="tmRoot">
          <p:childTnLst>
            <p:seq>
              <p:cTn id="671" dur="indefinite" nodeType="mainSeq">
                <p:childTnLst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6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1" dur="5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6" dur="5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1" dur="5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6" dur="5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1" dur="500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6" dur="500"/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1" dur="500"/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2" descr=""/>
          <p:cNvPicPr/>
          <p:nvPr/>
        </p:nvPicPr>
        <p:blipFill>
          <a:blip r:embed="rId1"/>
          <a:stretch/>
        </p:blipFill>
        <p:spPr>
          <a:xfrm>
            <a:off x="108000" y="0"/>
            <a:ext cx="5086440" cy="361944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5364000" y="1828440"/>
            <a:ext cx="2814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重庆三峡轮船股份有限公司游轮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435640" y="4600440"/>
            <a:ext cx="309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长江轮船海外旅游总公司游轮神州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250920" y="189000"/>
            <a:ext cx="18000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华文新魏"/>
              </a:rPr>
              <a:t>图说历史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pic>
        <p:nvPicPr>
          <p:cNvPr id="172" name="Picture 6" descr=""/>
          <p:cNvPicPr/>
          <p:nvPr/>
        </p:nvPicPr>
        <p:blipFill>
          <a:blip r:embed="rId2"/>
          <a:stretch/>
        </p:blipFill>
        <p:spPr>
          <a:xfrm>
            <a:off x="0" y="3098880"/>
            <a:ext cx="5219640" cy="37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2" dur="indefinite" restart="never" nodeType="tmRoot">
          <p:childTnLst>
            <p:seq>
              <p:cTn id="713" dur="indefinite" nodeType="mainSeq">
                <p:childTnLst>
                  <p:par>
                    <p:cTn id="714" fill="hold">
                      <p:stCondLst>
                        <p:cond delay="0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8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4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50560" y="0"/>
            <a:ext cx="8713800" cy="63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这样的轮船应该发生在什么时间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世纪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9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年代以后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判断的依据是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世纪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9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年代以后，由于铁路、公路和民航事业的快速发展，轮船运输业开始萎缩，一些航线被取消，有的则转向高档旅游服务业。而这两艘轮船都是用来旅游的游轮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为什么铁路、公路和民航事业的快速发展，就导致轮船运输业萎缩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轮船运输的速度比较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世纪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9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年代之前，轮船运输业发展的状况是怎样的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发展较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原因是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国家统一管理的轮船运输业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8" dur="indefinite" restart="never" nodeType="tmRoot">
          <p:childTnLst>
            <p:seq>
              <p:cTn id="729" dur="indefinite" nodeType="mainSeq">
                <p:childTnLst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4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9" dur="5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4" dur="5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9" dur="5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4" dur="5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9" dur="5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4" dur="500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9" dur="500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4" dur="500"/>
                                        <p:tgtEl>
                                          <p:spTgt spid="1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9" dur="500"/>
                                        <p:tgtEl>
                                          <p:spTgt spid="1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体现了什么经济的特征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计划经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0" dur="indefinite" restart="never" nodeType="tmRoot">
          <p:childTnLst>
            <p:seq>
              <p:cTn id="781" dur="indefinite" nodeType="mainSeq">
                <p:childTnLst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6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1" dur="5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在古代，为什么南北方的交通工具会出现差别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南方多水路 ，北方多旱路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能做这些交通工具的是些什么人？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官员和有钱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老百姓出行怎么办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多为步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这些交通运输工具有什么特点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"/>
          <p:cNvPicPr/>
          <p:nvPr/>
        </p:nvPicPr>
        <p:blipFill>
          <a:blip r:embed="rId1"/>
          <a:stretch/>
        </p:blipFill>
        <p:spPr>
          <a:xfrm>
            <a:off x="250920" y="836640"/>
            <a:ext cx="3024000" cy="417672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3" descr=""/>
          <p:cNvPicPr/>
          <p:nvPr/>
        </p:nvPicPr>
        <p:blipFill>
          <a:blip r:embed="rId2"/>
          <a:stretch/>
        </p:blipFill>
        <p:spPr>
          <a:xfrm>
            <a:off x="3708360" y="765000"/>
            <a:ext cx="4897440" cy="43927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324000" y="5229360"/>
            <a:ext cx="8353440" cy="5205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冯如，广东恩平人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909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年，在美国试制成功中国第一架飞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2" dur="indefinite" restart="never" nodeType="tmRoot">
          <p:childTnLst>
            <p:seq>
              <p:cTn id="793" dur="indefinite" nodeType="mainSeq">
                <p:childTnLst>
                  <p:par>
                    <p:cTn id="794" fill="hold">
                      <p:stCondLst>
                        <p:cond delay="0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图中所示的内容有什么意义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标志着中国航空事业的开始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在这之后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中国近代航空事业的发展状况是怎样的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92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年，中国首条空中航线——北京至天津航线开通，中国民航拉开了序幕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949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年，中国民航共有国内外航线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5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条，航线总长度近八万千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0" dur="indefinite" restart="never" nodeType="tmRoot">
          <p:childTnLst>
            <p:seq>
              <p:cTn id="801" dur="indefinite" nodeType="mainSeq">
                <p:childTnLst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6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1" dur="5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6" dur="5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1" dur="500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6" dur="500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47980" b="0"/>
          <a:stretch/>
        </p:blipFill>
        <p:spPr>
          <a:xfrm>
            <a:off x="1258920" y="1557360"/>
            <a:ext cx="684216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这批飞机是哪个厂生产的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沈阳飞机制造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是什么时间制造出来的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一五计划期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3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8" dur="50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3" dur="500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8" dur="500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2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04000" y="476280"/>
            <a:ext cx="1800360" cy="124632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5655240" y="333360"/>
            <a:ext cx="78984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中国客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4" descr=""/>
          <p:cNvPicPr/>
          <p:nvPr/>
        </p:nvPicPr>
        <p:blipFill>
          <a:blip r:embed="rId3"/>
          <a:stretch/>
        </p:blipFill>
        <p:spPr>
          <a:xfrm>
            <a:off x="325440" y="774720"/>
            <a:ext cx="4246560" cy="231300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5" descr=""/>
          <p:cNvPicPr/>
          <p:nvPr/>
        </p:nvPicPr>
        <p:blipFill>
          <a:blip r:embed="rId4"/>
          <a:stretch/>
        </p:blipFill>
        <p:spPr>
          <a:xfrm>
            <a:off x="324000" y="3438360"/>
            <a:ext cx="4248000" cy="294336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6" descr=""/>
          <p:cNvPicPr/>
          <p:nvPr/>
        </p:nvPicPr>
        <p:blipFill>
          <a:blip r:embed="rId5"/>
          <a:stretch/>
        </p:blipFill>
        <p:spPr>
          <a:xfrm>
            <a:off x="5003640" y="3357720"/>
            <a:ext cx="3745080" cy="277632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 txBox="1"/>
          <p:nvPr/>
        </p:nvSpPr>
        <p:spPr>
          <a:xfrm>
            <a:off x="250920" y="189000"/>
            <a:ext cx="18000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华文新魏"/>
              </a:rPr>
              <a:t>图说历史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华文新魏"/>
              <a:ea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855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6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858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861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2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864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5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86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419640" y="1413000"/>
            <a:ext cx="5364000" cy="3571560"/>
            <a:chOff x="3419640" y="1413000"/>
            <a:chExt cx="5364000" cy="3571560"/>
          </a:xfrm>
        </p:grpSpPr>
        <p:pic>
          <p:nvPicPr>
            <p:cNvPr id="193" name="" descr=""/>
            <p:cNvPicPr/>
            <p:nvPr/>
          </p:nvPicPr>
          <p:blipFill>
            <a:blip r:embed="rId1"/>
            <a:stretch/>
          </p:blipFill>
          <p:spPr>
            <a:xfrm>
              <a:off x="3419640" y="1413000"/>
              <a:ext cx="5364000" cy="35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" name=""/>
            <p:cNvSpPr/>
            <p:nvPr/>
          </p:nvSpPr>
          <p:spPr>
            <a:xfrm>
              <a:off x="5525640" y="1413000"/>
              <a:ext cx="1328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空中客车</a:t>
              </a: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A38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5" name="" descr=""/>
          <p:cNvPicPr/>
          <p:nvPr/>
        </p:nvPicPr>
        <p:blipFill>
          <a:blip r:embed="rId2"/>
          <a:srcRect l="0" t="17878" r="0" b="17797"/>
          <a:stretch/>
        </p:blipFill>
        <p:spPr>
          <a:xfrm>
            <a:off x="755640" y="1125360"/>
            <a:ext cx="2016000" cy="1297080"/>
          </a:xfrm>
          <a:prstGeom prst="rect">
            <a:avLst/>
          </a:prstGeom>
          <a:ln w="0">
            <a:noFill/>
          </a:ln>
        </p:spPr>
      </p:pic>
      <p:grpSp>
        <p:nvGrpSpPr>
          <p:cNvPr id="196" name=""/>
          <p:cNvGrpSpPr/>
          <p:nvPr/>
        </p:nvGrpSpPr>
        <p:grpSpPr>
          <a:xfrm>
            <a:off x="755640" y="2708280"/>
            <a:ext cx="2160720" cy="1736640"/>
            <a:chOff x="755640" y="2708280"/>
            <a:chExt cx="2160720" cy="1736640"/>
          </a:xfrm>
        </p:grpSpPr>
        <p:pic>
          <p:nvPicPr>
            <p:cNvPr id="197" name="" descr=""/>
            <p:cNvPicPr/>
            <p:nvPr/>
          </p:nvPicPr>
          <p:blipFill>
            <a:blip r:embed="rId3"/>
            <a:stretch/>
          </p:blipFill>
          <p:spPr>
            <a:xfrm>
              <a:off x="755640" y="2708280"/>
              <a:ext cx="2016000" cy="163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8" name=""/>
            <p:cNvSpPr/>
            <p:nvPr/>
          </p:nvSpPr>
          <p:spPr>
            <a:xfrm>
              <a:off x="755640" y="4076640"/>
              <a:ext cx="216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中国南方航空公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755640" y="4581360"/>
            <a:ext cx="2016000" cy="1737000"/>
            <a:chOff x="755640" y="4581360"/>
            <a:chExt cx="2016000" cy="1737000"/>
          </a:xfrm>
        </p:grpSpPr>
        <p:pic>
          <p:nvPicPr>
            <p:cNvPr id="200" name="" descr=""/>
            <p:cNvPicPr/>
            <p:nvPr/>
          </p:nvPicPr>
          <p:blipFill>
            <a:blip r:embed="rId4"/>
            <a:stretch/>
          </p:blipFill>
          <p:spPr>
            <a:xfrm>
              <a:off x="755640" y="4581360"/>
              <a:ext cx="2016000" cy="169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"/>
            <p:cNvSpPr/>
            <p:nvPr/>
          </p:nvSpPr>
          <p:spPr>
            <a:xfrm>
              <a:off x="1129320" y="5950080"/>
              <a:ext cx="127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中国东方航空公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8" dur="indefinite" restart="never" nodeType="tmRoot">
          <p:childTnLst>
            <p:seq>
              <p:cTn id="869" dur="indefinite" nodeType="mainSeq">
                <p:childTnLst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74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7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80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83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24000" y="333000"/>
            <a:ext cx="835344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图片说明了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民航业有了巨大发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除了图片中的表现，还有哪些表现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现在全国各大城市和一些中等城市、旅游胜地都有航线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与世界许多国家的大城市设有直通航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中国成为世界民航大国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发展的原因是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改革开放以后，逐步放宽并最终取消了这些限制，乘飞机出行的人越来越多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飞机制造业的发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改革开放前，民航发展是怎样的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民航发展有限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原因是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乘飞机有种种限制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4" dur="indefinite" restart="never" nodeType="tmRoot">
          <p:childTnLst>
            <p:seq>
              <p:cTn id="885" dur="indefinite" nodeType="mainSeq">
                <p:childTnLst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0" dur="5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5" dur="5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0" dur="500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5" dur="500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0" dur="500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5" dur="500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fill="hold">
                      <p:stCondLst>
                        <p:cond delay="indefinite"/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0" dur="500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5" dur="500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0" dur="500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5" dur="500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0" dur="500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5" dur="500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0" dur="500"/>
                                        <p:tgtEl>
                                          <p:spTgt spid="20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95280" y="333360"/>
            <a:ext cx="8424720" cy="59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材料一   李鸿章指出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: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用兵之道必以神速为贵，是以西方各国讲求枪炮之外，水路则有快轮船，陆路则有火轮车，而数万里海洋，欲通军信，则又有电报之法。”由于开设电报利于防务、外交和商务，清政府便下令沿海疆吏设法查办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88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年，李鸿章架设了北塘直达天津的电报线。到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89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年，经过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多年努力，全国主要地区都开设了电报。                                  ——— 谢俊美《信息传递与辛亥革命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据材料，李鸿章对电报的态度是怎样的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极力主张在中国开设有线电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从材料看，有线电报主要用于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用于军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北塘直达天津的电报线是不是中国最早的电报线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1" dur="indefinite" restart="never" nodeType="tmRoot">
          <p:childTnLst>
            <p:seq>
              <p:cTn id="952" dur="indefinite" nodeType="mainSeq">
                <p:childTnLst>
                  <p:par>
                    <p:cTn id="953" fill="hold">
                      <p:stCondLst>
                        <p:cond delay="indefinite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7" dur="50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2" dur="500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7" dur="500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2" dur="500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fill="hold">
                      <p:stCondLst>
                        <p:cond delay="indefinite"/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7" dur="500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68360" y="69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9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世纪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7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年代，丹麦的电报公司私自把电报线架设到上海，建起一个电报机房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877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年，福建巡抚丁日昌在台湾主持架设中国第一条有线电报线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据材料，到甲午战争前夕，我国的电报事业有了怎样的发展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全国主要地区都开设了电报，形成四通八达的电讯网络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8" dur="indefinite" restart="never" nodeType="tmRoot">
          <p:childTnLst>
            <p:seq>
              <p:cTn id="979" dur="indefinite" nodeType="mainSeq">
                <p:childTnLst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4" dur="5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5" fill="hold">
                      <p:stCondLst>
                        <p:cond delay="indefinite"/>
                      </p:stCondLst>
                      <p:childTnLst>
                        <p:par>
                          <p:cTn id="986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9" dur="500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0" fill="hold">
                      <p:stCondLst>
                        <p:cond delay="indefinite"/>
                      </p:stCondLst>
                      <p:childTnLst>
                        <p:par>
                          <p:cTn id="991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4" dur="500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9" dur="500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23640" y="333360"/>
            <a:ext cx="8373960" cy="49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材料：五四以后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有人说：“一纸电报点燃五四运动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材料中的电报传递了什么信息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巴黎和会，中国外交的失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中国电报是无线电报，还是有限电报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无线电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无线电报何时在中国出现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世纪初，上海崇明还装置无线电台，设立无线电报局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纸电报就能点燃五四运动”？此话强调了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0" dur="indefinite" restart="never" nodeType="tmRoot">
          <p:childTnLst>
            <p:seq>
              <p:cTn id="1001" dur="indefinite" nodeType="mainSeq">
                <p:childTnLst>
                  <p:par>
                    <p:cTn id="1002" fill="hold">
                      <p:stCondLst>
                        <p:cond delay="indefinite"/>
                      </p:stCondLst>
                      <p:childTnLst>
                        <p:par>
                          <p:cTn id="1003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6" dur="5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1" dur="500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6" dur="500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fill="hold">
                      <p:stCondLst>
                        <p:cond delay="indefinite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1" dur="500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6" dur="500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7" fill="hold">
                      <p:stCondLst>
                        <p:cond delay="indefinite"/>
                      </p:stCondLst>
                      <p:childTnLst>
                        <p:par>
                          <p:cTn id="1028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1" dur="500"/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2" fill="hold">
                      <p:stCondLst>
                        <p:cond delay="indefinite"/>
                      </p:stCondLst>
                      <p:childTnLst>
                        <p:par>
                          <p:cTn id="1033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6" dur="500"/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fill="hold">
                      <p:stCondLst>
                        <p:cond delay="indefinite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1" dur="500"/>
                                        <p:tgtEl>
                                          <p:spTgt spid="2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24000" y="476280"/>
            <a:ext cx="83628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动力：自然力、人力为主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运输量较少，速度较慢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到近代，交通工具要进步的话，在动力会有什么变化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从自然力、人力为主发展到机械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人类交通工具第一次使用机械力是什么交通工具的发明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805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年美国富尔顿发明蒸汽机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后来又有什么交通工具的发明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814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年，英国史蒂芬孙发明蒸汽机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3959640" y="907920"/>
            <a:ext cx="153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200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年末，中国拥有的固定电话和移动电话数量跃居世界第一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55440" y="2276640"/>
            <a:ext cx="4372200" cy="327960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4500720" y="1916280"/>
            <a:ext cx="3749400" cy="371952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519120" y="4483080"/>
            <a:ext cx="8229600" cy="581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2002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年，搜狐新闻中心就拜年方式进行了在线调查。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5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天内参加调查的有效选票为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7520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张，结果表明，电话拜年和手机短信拜年已成为时下最流行的拜年方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3"/>
          <a:stretch/>
        </p:blipFill>
        <p:spPr>
          <a:xfrm>
            <a:off x="1403280" y="476280"/>
            <a:ext cx="6248520" cy="3976560"/>
          </a:xfrm>
          <a:prstGeom prst="rect">
            <a:avLst/>
          </a:prstGeom>
          <a:ln w="0">
            <a:noFill/>
          </a:ln>
        </p:spPr>
      </p:pic>
      <p:pic>
        <p:nvPicPr>
          <p:cNvPr id="215" name="gif221" descr=""/>
          <p:cNvPicPr/>
          <p:nvPr/>
        </p:nvPicPr>
        <p:blipFill>
          <a:blip r:embed="rId4"/>
          <a:stretch/>
        </p:blipFill>
        <p:spPr>
          <a:xfrm>
            <a:off x="8537400" y="6453360"/>
            <a:ext cx="571680" cy="42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2" dur="indefinite" restart="never" nodeType="tmRoot">
          <p:childTnLst>
            <p:seq>
              <p:cTn id="1043" dur="indefinite" nodeType="mainSeq">
                <p:childTnLst>
                  <p:par>
                    <p:cTn id="1044" fill="hold">
                      <p:stCondLst>
                        <p:cond delay="indefinite"/>
                      </p:stCondLst>
                      <p:childTnLst>
                        <p:par>
                          <p:cTn id="1045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8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9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0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55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58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9" fill="hold">
                      <p:stCondLst>
                        <p:cond delay="indefinite"/>
                      </p:stCondLst>
                      <p:childTnLst>
                        <p:par>
                          <p:cTn id="1060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7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8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9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2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3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4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从材料中，可获取哪些信息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到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00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年末，中国拥有的固定电话和移动电话数量跃居世界第一位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电话由奢侈晶变成日用品，成为百姓离不开的生活帮手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出现这种状况的原因是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新中国成立后，国家不断增加对电讯事业的投资，逐渐形成全国电讯网络。改革开放推动电讯产业快速发展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5" dur="indefinite" restart="never" nodeType="tmRoot">
          <p:childTnLst>
            <p:seq>
              <p:cTn id="1076" dur="indefinite" nodeType="mainSeq">
                <p:childTnLst>
                  <p:par>
                    <p:cTn id="1077" fill="hold">
                      <p:stCondLst>
                        <p:cond delay="indefinite"/>
                      </p:stCondLst>
                      <p:childTnLst>
                        <p:par>
                          <p:cTn id="1078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1" dur="5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2" fill="hold">
                      <p:stCondLst>
                        <p:cond delay="indefinite"/>
                      </p:stCondLst>
                      <p:childTnLst>
                        <p:par>
                          <p:cTn id="1083" fill="hold">
                            <p:stCondLst>
                              <p:cond delay="0"/>
                            </p:stCondLst>
                            <p:childTnLst>
                              <p:par>
                                <p:cTn id="10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6" dur="500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1" dur="500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6" dur="500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7" fill="hold">
                      <p:stCondLst>
                        <p:cond delay="indefinite"/>
                      </p:stCondLst>
                      <p:childTnLst>
                        <p:par>
                          <p:cTn id="1098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1" dur="500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68360" y="134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333399"/>
                </a:solidFill>
                <a:latin typeface="Arial"/>
                <a:ea typeface="华文新魏"/>
              </a:rPr>
              <a:t>近代以来交通和通讯工具的发展，对人们的社会生活有什么样的影响？</a:t>
            </a:r>
            <a:r>
              <a:rPr b="0" lang="zh-CN" sz="3500" spc="-1" strike="noStrike">
                <a:solidFill>
                  <a:srgbClr val="000000"/>
                </a:solidFill>
                <a:latin typeface="Arial"/>
                <a:ea typeface="方正舒体"/>
              </a:rPr>
              <a:t>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39280" y="2707920"/>
            <a:ext cx="7804440" cy="36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加快了人们的生活节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提高了生活质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加快了信息传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提高了效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深刻改变人们的思想观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推动经济文化的发展和交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3132000" y="333360"/>
            <a:ext cx="3024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小结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p:timing>
    <p:tnLst>
      <p:par>
        <p:cTn id="1102" dur="indefinite" restart="never" nodeType="tmRoot">
          <p:childTnLst>
            <p:seq>
              <p:cTn id="1103" dur="indefinite" nodeType="mainSeq">
                <p:childTnLst>
                  <p:par>
                    <p:cTn id="1104" fill="hold">
                      <p:stCondLst>
                        <p:cond delay="indefinite"/>
                      </p:stCondLst>
                      <p:childTnLst>
                        <p:par>
                          <p:cTn id="1105" fill="hold">
                            <p:stCondLst>
                              <p:cond delay="0"/>
                            </p:stCondLst>
                            <p:childTnLst>
                              <p:par>
                                <p:cTn id="110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08" dur="20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13" dur="2000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18" dur="2000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9" fill="hold">
                      <p:stCondLst>
                        <p:cond delay="indefinite"/>
                      </p:stCondLst>
                      <p:childTnLst>
                        <p:par>
                          <p:cTn id="1120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23" dur="2000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4" fill="hold">
                      <p:stCondLst>
                        <p:cond delay="indefinite"/>
                      </p:stCondLst>
                      <p:childTnLst>
                        <p:par>
                          <p:cTn id="1125" fill="hold">
                            <p:stCondLst>
                              <p:cond delay="0"/>
                            </p:stCondLst>
                            <p:childTnLst>
                              <p:par>
                                <p:cTn id="11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28" dur="2000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9" fill="hold">
                      <p:stCondLst>
                        <p:cond delay="indefinite"/>
                      </p:stCondLst>
                      <p:childTnLst>
                        <p:par>
                          <p:cTn id="1130" fill="hold">
                            <p:stCondLst>
                              <p:cond delay="0"/>
                            </p:stCondLst>
                            <p:childTnLst>
                              <p:par>
                                <p:cTn id="11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33" dur="2000"/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6372360" y="260280"/>
            <a:ext cx="2771640" cy="253368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2"/>
          <a:stretch/>
        </p:blipFill>
        <p:spPr>
          <a:xfrm>
            <a:off x="34920" y="260280"/>
            <a:ext cx="2782800" cy="249552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3"/>
          <a:stretch/>
        </p:blipFill>
        <p:spPr>
          <a:xfrm>
            <a:off x="3078000" y="260280"/>
            <a:ext cx="3006720" cy="250668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3147480" y="3357720"/>
            <a:ext cx="286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图片反映的是什么影响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消极影响：能源危机、环境污染、交通阻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4" dur="indefinite" restart="never" nodeType="tmRoot">
          <p:childTnLst>
            <p:seq>
              <p:cTn id="1135" dur="indefinite" nodeType="mainSeq">
                <p:childTnLst>
                  <p:par>
                    <p:cTn id="1136" fill="hold">
                      <p:stCondLst>
                        <p:cond delay="indefinite"/>
                      </p:stCondLst>
                      <p:childTnLst>
                        <p:par>
                          <p:cTn id="1137" fill="hold">
                            <p:stCondLst>
                              <p:cond delay="0"/>
                            </p:stCondLst>
                            <p:childTnLst>
                              <p:par>
                                <p:cTn id="11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2" fill="hold">
                      <p:stCondLst>
                        <p:cond delay="indefinite"/>
                      </p:stCondLst>
                      <p:childTnLst>
                        <p:par>
                          <p:cTn id="1143" fill="hold">
                            <p:stCondLst>
                              <p:cond delay="0"/>
                            </p:stCondLst>
                            <p:childTnLst>
                              <p:par>
                                <p:cTn id="11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7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8" fill="hold">
                      <p:stCondLst>
                        <p:cond delay="indefinite"/>
                      </p:stCondLst>
                      <p:childTnLst>
                        <p:par>
                          <p:cTn id="1149" fill="hold">
                            <p:stCondLst>
                              <p:cond delay="0"/>
                            </p:stCondLst>
                            <p:childTnLst>
                              <p:par>
                                <p:cTn id="11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3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4" fill="hold">
                      <p:stCondLst>
                        <p:cond delay="indefinite"/>
                      </p:stCondLst>
                      <p:childTnLst>
                        <p:par>
                          <p:cTn id="1155" fill="hold">
                            <p:stCondLst>
                              <p:cond delay="0"/>
                            </p:stCondLst>
                            <p:childTnLst>
                              <p:par>
                                <p:cTn id="1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8" dur="5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3" dur="500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这些交通工具为什么会传入中国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鸦片战争后，西方列强在侵略中国的同时，客观上也将先进技术、机器、生产方式、交通工具传入中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那么这些交通工具传入中国的命运是怎样的呢？请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79280" y="5367960"/>
            <a:ext cx="8964720" cy="1312920"/>
          </a:xfrm>
          <a:prstGeom prst="rect">
            <a:avLst/>
          </a:prstGeom>
          <a:solidFill>
            <a:srgbClr val="ffff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（我国最早的铁路—沪淞铁路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黑体"/>
                <a:ea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1876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，英国商人未经允许建造了一条从上海至吴淞的客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铁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50920" y="0"/>
            <a:ext cx="864072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近代中国出现了哪些新型交通运输工具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0920" y="620640"/>
            <a:ext cx="6049800" cy="43927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516720" y="692280"/>
            <a:ext cx="2376360" cy="42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24000" y="476280"/>
            <a:ext cx="83628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材料：吴淞铁路在江湾附近压死一人，迷信风水的人说这条铁路会破坏上海的风水，要求清政府干涉。结果清政府把铁路给拆除了，机车和车辆沉入江底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从材料看，我国最早的铁路—沪淞铁路的结局是怎样的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被清政府拆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为什么被拆除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顽固保守人士的反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他们反对的理由是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破坏风水，引起灾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我国最早的铁路被拆除了，但是铁路还是在我国发展起来，原因是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经济的发展需要便利的交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11T12:17:57Z</dcterms:created>
  <dc:creator>SDWM</dc:creator>
  <dc:description/>
  <dc:language>en-US</dc:language>
  <cp:lastModifiedBy>User</cp:lastModifiedBy>
  <dcterms:modified xsi:type="dcterms:W3CDTF">2013-12-12T15:15:23Z</dcterms:modified>
  <cp:revision>5</cp:revision>
  <dc:subject/>
  <dc:title>第15课  交通与通讯的变化</dc:title>
</cp:coreProperties>
</file>