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D04-2025-4EB3-9084-AB026D5D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2EE-3770-4E9A-BFCE-0DE40970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45B-484F-4498-B9F9-C1F2ADFE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FAF-43B7-4EC8-9815-2510F479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7AF-180A-40FE-B87D-2C0A9BE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A00-8D0C-42EF-A0BF-F4455E93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958-FFAF-4159-84F4-AC87C435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401-883F-451D-9EE0-584DFC7D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634-CDD0-4367-BBD9-B6BFC988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EC9-FAF1-4C8D-82A9-F7504FD7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4F2-46F0-47E4-BE09-87AF9F89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645-210D-41D0-AC73-BDBE594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006-E477-46C4-915B-6B141EA23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" y="2133720"/>
            <a:ext cx="9002520" cy="1152360"/>
          </a:xfrm>
          <a:prstGeom prst="horizontalScroll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诗画益彰说历史——毛泽东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344040" y="2194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5240" y="4295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08000" y="406440"/>
            <a:ext cx="6145200" cy="2878920"/>
            <a:chOff x="-108000" y="406440"/>
            <a:chExt cx="6145200" cy="2878920"/>
          </a:xfrm>
        </p:grpSpPr>
        <p:sp>
          <p:nvSpPr>
            <p:cNvPr id="108" name=""/>
            <p:cNvSpPr/>
            <p:nvPr/>
          </p:nvSpPr>
          <p:spPr>
            <a:xfrm>
              <a:off x="-108000" y="4064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经济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08000" y="909720"/>
              <a:ext cx="164304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08000" y="227664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毛泽东考察</a:t>
              </a:r>
              <a:r>
                <a:rPr b="1" lang="zh-CN" sz="2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农业</a:t>
              </a: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合作社的情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908000" y="909720"/>
              <a:ext cx="187812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98720" y="2347920"/>
              <a:ext cx="156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Garamond"/>
                  <a:ea typeface="楷体_GB2312"/>
                </a:rPr>
                <a:t>手工业</a:t>
              </a:r>
              <a:r>
                <a:rPr b="1" lang="zh-CN" sz="20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者踊跃报名入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995640" y="907920"/>
              <a:ext cx="180036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51280" y="2276640"/>
              <a:ext cx="2185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Garamond"/>
                  <a:ea typeface="楷体_GB2312"/>
                </a:rPr>
                <a:t>工商界</a:t>
              </a:r>
              <a:r>
                <a:rPr b="1" lang="zh-CN" sz="20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代表在天安门城楼上为实现社会主义改造向毛主席报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-36360" y="0"/>
            <a:ext cx="2447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社会主义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3500280"/>
            <a:ext cx="28080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社会主义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4097160"/>
            <a:ext cx="3816360" cy="2763000"/>
            <a:chOff x="0" y="4097160"/>
            <a:chExt cx="3816360" cy="2763000"/>
          </a:xfrm>
        </p:grpSpPr>
        <p:sp>
          <p:nvSpPr>
            <p:cNvPr id="118" name=""/>
            <p:cNvSpPr/>
            <p:nvPr/>
          </p:nvSpPr>
          <p:spPr>
            <a:xfrm>
              <a:off x="0" y="409716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经济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1297080" y="4168440"/>
              <a:ext cx="17460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08000" y="64004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《论十大关系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32000" y="4005360"/>
            <a:ext cx="3672000" cy="2490120"/>
            <a:chOff x="3132000" y="4005360"/>
            <a:chExt cx="3672000" cy="2490120"/>
          </a:xfrm>
        </p:grpSpPr>
        <p:sp>
          <p:nvSpPr>
            <p:cNvPr id="122" name=""/>
            <p:cNvSpPr/>
            <p:nvPr/>
          </p:nvSpPr>
          <p:spPr>
            <a:xfrm>
              <a:off x="3779640" y="603576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《关于正确处理人民内部矛盾的问题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132000" y="4005360"/>
              <a:ext cx="2779560" cy="2187360"/>
              <a:chOff x="3132000" y="4005360"/>
              <a:chExt cx="2779560" cy="2187360"/>
            </a:xfrm>
          </p:grpSpPr>
          <p:pic>
            <p:nvPicPr>
              <p:cNvPr id="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11280" y="4005360"/>
                <a:ext cx="1700280" cy="21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3132000" y="4076640"/>
                <a:ext cx="151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政治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6064200" y="843120"/>
            <a:ext cx="42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Garamond"/>
              </a:rPr>
              <a:t>图片反映出社会主义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Garamond"/>
              </a:rPr>
              <a:t>采取什么方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32480" y="170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Garamond"/>
              </a:rPr>
              <a:t>和平改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68360" y="260280"/>
            <a:ext cx="82072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毛泽东思想的发展脉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268280"/>
          <a:ext cx="8424720" cy="5594400"/>
        </p:xfrm>
        <a:graphic>
          <a:graphicData uri="http://schemas.openxmlformats.org/drawingml/2006/table">
            <a:tbl>
              <a:tblPr/>
              <a:tblGrid>
                <a:gridCol w="720720"/>
                <a:gridCol w="1079640"/>
                <a:gridCol w="2301840"/>
                <a:gridCol w="43225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历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时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著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内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萌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《中国社会各阶级的析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《湖南农民运动考察报告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形成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《中国的红色政权为什么能够存在》《井冈山的斗争》《星星之火，可以燎原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成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1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发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  <a:ea typeface="仿宋_GB2312"/>
                        </a:rPr>
                        <a:t>《论十大关系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  <a:ea typeface="仿宋_GB2312"/>
                        </a:rPr>
                        <a:t>《关于正确处理人民内部矛盾的问题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9"/>
          <p:cNvSpPr/>
          <p:nvPr/>
        </p:nvSpPr>
        <p:spPr>
          <a:xfrm>
            <a:off x="1116000" y="2079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大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1258920" y="350028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土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1187280" y="43657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抗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187280" y="530064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解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1187280" y="6156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时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2124000" y="4581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《新民主主义论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2124000" y="5084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七届二中全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人民民主专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340000" y="537372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4572000" y="2276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中国革命的领导、主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4643280" y="2997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符合中国国情的革命道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工作重心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4572000" y="4508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中国革命完整的理论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4500720" y="5157720"/>
            <a:ext cx="40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工作重心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新中国政权建设（国家学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4572000" y="6093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初步探索符合国情的社会主义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方红，太阳升，中国出了个毛泽东，他为人民谋幸福，他是人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大救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毛主席爱人民，他是我们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带路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为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建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新中国，领导我们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向前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923400">
            <a:off x="250560" y="333000"/>
            <a:ext cx="1076400" cy="126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620640"/>
            <a:ext cx="3372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探究一：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822240" y="4214880"/>
            <a:ext cx="74995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合所学知识及相关材料分析，毛泽东思想对近现代中国有何深远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4920" y="53690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黑体"/>
              </a:rPr>
              <a:t>材料三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：毛泽东思想……为</a:t>
            </a: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邓小平理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提供了借鉴和启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迪，……关于中国社会主义建设的许多重要思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想，……而成为邓小平理论的有机组成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5516640"/>
            <a:ext cx="561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毛泽东思想是建设中国特色社会主义理论的思想渊源和理论先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97800" y="443700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参加北京市基层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选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4335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在一届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协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议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429264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主持起草《中华人民共和国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宪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920" y="2565360"/>
            <a:ext cx="8647200" cy="1871640"/>
            <a:chOff x="34920" y="2565360"/>
            <a:chExt cx="8647200" cy="1871640"/>
          </a:xfrm>
        </p:grpSpPr>
        <p:pic>
          <p:nvPicPr>
            <p:cNvPr id="153" name="" descr="&amp;$&lt;br&gt;&amp;$1950年，毛泽东在政协一届二次会议上"/>
            <p:cNvPicPr/>
            <p:nvPr/>
          </p:nvPicPr>
          <p:blipFill>
            <a:blip r:embed="rId1"/>
            <a:stretch/>
          </p:blipFill>
          <p:spPr>
            <a:xfrm>
              <a:off x="1401840" y="2708280"/>
              <a:ext cx="172548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989520" y="2698920"/>
              <a:ext cx="2166840" cy="16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6877080" y="2637000"/>
              <a:ext cx="18050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4920" y="2565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Garamond"/>
                  <a:ea typeface="黑体"/>
                </a:rPr>
                <a:t>材料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763640" y="3284640"/>
            <a:ext cx="5616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毛泽东思想是社会主义中国立国建国的思想政治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649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材料一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：毛泽东思想正确解决了有关中国革命的一系列基本问题，从而指明了中国革命胜利发展的道路。正是在毛泽东思想指引下，在中国共产党领导下，中国人民才推翻了内外反动派，建立了中华人民共和国，取得了中国从古未有的人民革命的大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1052640"/>
            <a:ext cx="5618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毛泽东思想是夺取中国革命胜利的理论武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2000" y="69228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某班历史学习兴趣小组，在学习了本课内容后，进行了以下的探究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923400">
            <a:off x="250560" y="115560"/>
            <a:ext cx="1076400" cy="1266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771640" y="115920"/>
            <a:ext cx="3372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探究二：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6416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你认为该小组要了解毛泽东思想，除了教材中提到的论著，还有哪些形态的材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924280"/>
            <a:ext cx="85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探究中，同学们发现毛泽东思想与三民主义的实践一成一败，你认为毛泽东思想成功实践的精髓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461160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在以毛泽东为代表的中国共产党人为民族解放、社会进步和人民幸福的探索中，我们可以感悟到哪些优秀的精神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1773360"/>
            <a:ext cx="6912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毛泽东的诗词，其他人的论著（如，刘少奇等），口述、追忆、影像资料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3645000"/>
            <a:ext cx="6985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实事求是、群众路线、独立自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5373720"/>
            <a:ext cx="70578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不断奋斗、勇于探索、不怕牺牲、与时俱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1036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四、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研究“大革命失败后，毛泽东找到了一条符合中国国情的革命道路”这一问题时，下列哪项内容不能成为其佐证的材料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武装夺取政权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进行土地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农村包围城市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习苏俄的革命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重庆）毛泽东思想被确立为中国共产党的指导思想是在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国民革命运动时期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土地革命战争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抗日战争时期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放战争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1773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42354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4000" y="404640"/>
            <a:ext cx="8820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美国记者斯诺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代访问中国时，惊奇地发现“在贫瘠的中国西北部闪耀着希望和抗战胜利的曙光。”当时中国西北部的希望之中心应该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西安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西柏坡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延安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毛泽东为代表的中国共产党人，创造性运用马克思理论体现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提出“工农武装割据”的思想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武装反抗法西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民族资产阶级实行赎买政策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提出改造与建设并举的过渡时期总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①②③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①③④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①②③④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85080" y="119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916360" y="321300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毛泽东思想的精髓是实事求是。在毛泽东思想的理论体系中，创造性地发展了马克思主义国家学说的是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“工农武装割据”的理论   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“人民民主专政”的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“新民主主义革命”的理论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社会主义条件下两类矛盾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列有关毛泽东思想的表述，正确的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毛泽东思想是毛泽东同志一生思想的总结②主要来自于新民主主义革命、社会主义革命和全面建设社会主义时期③是夺取中国革命胜利的理论武器 ④是建设中国特色社会主义理论的思想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 ①②③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      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 ①③④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②③④  　　 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 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10587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2997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毛泽东为构建社会主义和谐社会创造了政治基础，主要体现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树立当家作主的政治理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立全国人民代表大会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立中共领导下的多党合作和政治协商制度      ④确立民族区域自治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①②③④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①③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②④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①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2720" y="1058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学习目标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归纳毛泽东思想的形成过程及主要内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探究毛泽东思想对近现代中国的深远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2920" y="1744200"/>
            <a:ext cx="6213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、基础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二、重点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三、问题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四、巩固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5121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思想是马克思列宁主义在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国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和发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被实践证明了的关于中国革命和建设的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正确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理论原则和经验总结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中国共产党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集体智慧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92360" y="4362480"/>
            <a:ext cx="5851440" cy="581400"/>
            <a:chOff x="1692360" y="4362480"/>
            <a:chExt cx="5851440" cy="581400"/>
          </a:xfrm>
        </p:grpSpPr>
        <p:sp>
          <p:nvSpPr>
            <p:cNvPr id="47" name=""/>
            <p:cNvSpPr/>
            <p:nvPr/>
          </p:nvSpPr>
          <p:spPr>
            <a:xfrm>
              <a:off x="1692360" y="4362480"/>
              <a:ext cx="585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毛泽东思想           毛泽东的思想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27440" y="4578120"/>
              <a:ext cx="79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27440" y="4721040"/>
              <a:ext cx="79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924360" y="4437000"/>
            <a:ext cx="431640" cy="4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0" y="47628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、革命道路的探索 —毛泽东思想形成  土地革命时期（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1927-1937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5280" y="981000"/>
            <a:ext cx="8497800" cy="2033640"/>
            <a:chOff x="395280" y="981000"/>
            <a:chExt cx="8497800" cy="2033640"/>
          </a:xfrm>
        </p:grpSpPr>
        <p:sp>
          <p:nvSpPr>
            <p:cNvPr id="53" name=""/>
            <p:cNvSpPr/>
            <p:nvPr/>
          </p:nvSpPr>
          <p:spPr>
            <a:xfrm>
              <a:off x="4284720" y="981000"/>
              <a:ext cx="4608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材料一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军叫工农革命，旗号镰刀斧头，修铜一带不停留，便向平浏直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地主重重压迫，农民个个同仇，秋收时节暮云沉，霹雳一声暴动。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《西江月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·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秋收暴动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95280" y="1197000"/>
              <a:ext cx="3672000" cy="18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324000" y="3141720"/>
            <a:ext cx="8532720" cy="1971720"/>
            <a:chOff x="324000" y="3141720"/>
            <a:chExt cx="8532720" cy="1971720"/>
          </a:xfrm>
        </p:grpSpPr>
        <p:sp>
          <p:nvSpPr>
            <p:cNvPr id="56" name=""/>
            <p:cNvSpPr/>
            <p:nvPr/>
          </p:nvSpPr>
          <p:spPr>
            <a:xfrm>
              <a:off x="4284720" y="314172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材料二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山下旌旗在望，山头鼓角相闻。敌人围困万千重，我自岿然不动。 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早已森严壁垒，更加众志成城。黄洋界上炮声隆，报道敌军宵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《西江月 井冈山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24000" y="3162240"/>
              <a:ext cx="3816360" cy="19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395280" y="53006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探究：结合材料及图片信息，归纳此时期毛泽东领 导了哪些革命活动？材料二的革命活动有何重要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093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领导秋收起义、创建井冈山革命根据地；开始探索新的革命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4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黑体"/>
              </a:rPr>
              <a:t>二、重难点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20" y="40968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材料一：南昌起义爆发后，汪精卫急令张发奎、朱培德等部向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南昌进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收起义爆发，工农革命军分别从修水、安源、铜鼓等地出发，向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长沙进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521080" cy="19083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083280" y="-27000"/>
            <a:ext cx="2736720" cy="4827240"/>
            <a:chOff x="6083280" y="-27000"/>
            <a:chExt cx="2736720" cy="4827240"/>
          </a:xfrm>
        </p:grpSpPr>
        <p:grpSp>
          <p:nvGrpSpPr>
            <p:cNvPr id="64" name=""/>
            <p:cNvGrpSpPr/>
            <p:nvPr/>
          </p:nvGrpSpPr>
          <p:grpSpPr>
            <a:xfrm>
              <a:off x="6124680" y="547560"/>
              <a:ext cx="2695320" cy="4252680"/>
              <a:chOff x="6124680" y="547560"/>
              <a:chExt cx="2695320" cy="425268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24680" y="547560"/>
                <a:ext cx="2695320" cy="34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6195600" y="3974760"/>
                <a:ext cx="259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Garamond"/>
                  </a:rPr>
                  <a:t>1929——1932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Garamond"/>
                  </a:rPr>
                  <a:t>年革命根据地分布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083280" y="-270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材料二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8000" y="3284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探究：从材料一到材料二，反映大革命失败后，中国革命道路发生了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013360"/>
            <a:ext cx="5327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由“城市中心论”到“农村包围城市，武装夺取政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6360" y="227664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长征后，中央红军转战陕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66560"/>
            <a:ext cx="68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第五次反“围剿”的失败，中央红军受到了极大损失，不得不开始了战略性的大转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4176720" cy="388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5805360"/>
            <a:ext cx="8713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二）、毛泽东思想成熟   抗战时期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93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94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8120" y="189000"/>
            <a:ext cx="4079880" cy="56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71640" y="6093000"/>
            <a:ext cx="35290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  <a:ea typeface="黑体"/>
              </a:rPr>
              <a:t>《新民主主义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68360" y="69228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《新民主主义论》标志着毛泽东思想的成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1773360"/>
          <a:ext cx="8135640" cy="3671640"/>
        </p:xfrm>
        <a:graphic>
          <a:graphicData uri="http://schemas.openxmlformats.org/drawingml/2006/table">
            <a:tbl>
              <a:tblPr/>
              <a:tblGrid>
                <a:gridCol w="1523880"/>
                <a:gridCol w="661176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社会性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主要矛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任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性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动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领导阶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阶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前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33"/>
          <p:cNvSpPr/>
          <p:nvPr/>
        </p:nvSpPr>
        <p:spPr>
          <a:xfrm>
            <a:off x="2268360" y="1773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半殖民地半封建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2268360" y="2239920"/>
            <a:ext cx="68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帝国主义和中华民族矛盾、封建主义和人民大众的矛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2340000" y="27018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反对帝国主义、封建主义与官僚资本主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2340000" y="31766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资产阶级（民族）民主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2340000" y="3608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工、农、小资产阶级、民族资产阶级等（统一战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2340000" y="4111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无产阶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2340000" y="4581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两步走：民主主义革命、社会主义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2340000" y="49766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新民主主义——社会主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826920" y="558972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标志着新民主主义革命的理论形成了一个完整的体系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5000" y="630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5280" y="836640"/>
            <a:ext cx="8353080" cy="5040000"/>
            <a:chOff x="395280" y="836640"/>
            <a:chExt cx="8353080" cy="5040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4961160" cy="28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14520" y="866160"/>
              <a:ext cx="1833840" cy="5010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钟山风雨起苍黄，百万雄师过大江。虎踞龙盘今胜昔，天翻地覆慨而慷。　宜将胜勇追穷寇，不可沽名学霸王。天若有情天亦老，人间正道是沧桑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——</a:t>
              </a: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《七律　人民解放军占领南京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6360" y="5877000"/>
            <a:ext cx="892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86064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Garamond"/>
              </a:rPr>
              <a:t>以上资料反映哪一历史事件？有何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8320" y="4581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渡江战役，解放南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推翻国民政府的反对统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新民主主义革命基本胜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三）、毛泽东思想发展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949-196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（建国，社会主义革命及建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ls00300021"/>
          <p:cNvPicPr/>
          <p:nvPr/>
        </p:nvPicPr>
        <p:blipFill>
          <a:blip r:embed="rId1"/>
          <a:stretch/>
        </p:blipFill>
        <p:spPr>
          <a:xfrm>
            <a:off x="468360" y="1773360"/>
            <a:ext cx="3624120" cy="258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200609250944345148691832"/>
          <p:cNvPicPr/>
          <p:nvPr/>
        </p:nvPicPr>
        <p:blipFill>
          <a:blip r:embed="rId2"/>
          <a:stretch/>
        </p:blipFill>
        <p:spPr>
          <a:xfrm>
            <a:off x="4284720" y="1413000"/>
            <a:ext cx="2338200" cy="32511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264360" y="1413000"/>
            <a:ext cx="2879640" cy="2341800"/>
            <a:chOff x="6264360" y="1413000"/>
            <a:chExt cx="2879640" cy="2341800"/>
          </a:xfrm>
        </p:grpSpPr>
        <p:grpSp>
          <p:nvGrpSpPr>
            <p:cNvPr id="98" name=""/>
            <p:cNvGrpSpPr/>
            <p:nvPr/>
          </p:nvGrpSpPr>
          <p:grpSpPr>
            <a:xfrm>
              <a:off x="6912000" y="1555920"/>
              <a:ext cx="2232000" cy="2198880"/>
              <a:chOff x="6912000" y="1555920"/>
              <a:chExt cx="2232000" cy="2198880"/>
            </a:xfrm>
          </p:grpSpPr>
          <p:sp>
            <p:nvSpPr>
              <p:cNvPr id="99" name=""/>
              <p:cNvSpPr/>
              <p:nvPr/>
            </p:nvSpPr>
            <p:spPr>
              <a:xfrm>
                <a:off x="6912000" y="3355920"/>
                <a:ext cx="22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1949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年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6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月毛泽东发表专著《论人民民主专政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2360" y="1555920"/>
                <a:ext cx="1384560" cy="172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"/>
            <p:cNvSpPr/>
            <p:nvPr/>
          </p:nvSpPr>
          <p:spPr>
            <a:xfrm>
              <a:off x="6264360" y="1413000"/>
              <a:ext cx="2448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35160" y="1019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Garamond"/>
              </a:rPr>
              <a:t>建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1680" y="465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根据图片说明毛泽东为新中国的成立作了哪些政治准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4680" y="53737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召开七届二中全会，毛泽东作了重要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发表了《论人民民主专政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16:58Z</dcterms:created>
  <dc:creator> </dc:creator>
  <dc:description/>
  <dc:language>en-US</dc:language>
  <cp:lastModifiedBy>Sky123.Org</cp:lastModifiedBy>
  <dcterms:modified xsi:type="dcterms:W3CDTF">2013-11-29T03:48:28Z</dcterms:modified>
  <cp:revision>17</cp:revision>
  <dc:subject> </dc:subject>
  <dc:title>幻灯片 1</dc:title>
</cp:coreProperties>
</file>