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1.png" ContentType="image/png"/>
  <Override PartName="/ppt/media/image9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wmf" ContentType="image/x-wmf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26FA-0786-4E68-9599-816F33159CC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D432-C387-4C7E-BC19-4B28FF42D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黄帝打败炎帝，炎帝避往南方，炎帝部族多归属黄帝；后黄帝又打败在南方反叛的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PMingLiU"/>
              </a:rPr>
              <a:t>蚩尤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迎回炎帝，和黄炎两部落联盟和睦相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50FE-06BB-491A-9FD7-96D65479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935B-F878-4AF2-B6B6-E544ADAA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98BF-6293-4E8F-BB9A-E8EC89E0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7ABF-CFE3-4E25-AA1A-80BEFB9D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87BF-B6FF-4C77-B493-5D9D5CED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6BD1-B172-4EE9-A372-193E8226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F137-3EE2-48FF-BF8E-F7BF9C50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0672-2B2A-4C68-BFDE-0E4D528C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1874-5700-4D20-9872-D606253E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4860-C810-4269-BEC9-0A4749A5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4857-57E6-4244-ADB6-C2706B1E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8E67-7B37-417A-951F-197F67F8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F3A3-C6D6-47D0-AB74-2159F3B0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0093-EF2F-47C0-9E06-4579157D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DAB3-21F7-4C63-87C9-9999815E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3218-FAF8-47CC-B2EB-D4910583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E85F-3302-4888-B367-9F66E99F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4CAE-D00D-4B8A-80AF-53CA245B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FD2-3828-4784-8230-BA498637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57BB-C94B-424F-995A-CD457E3F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9092-DE38-44CC-A94B-B9DA8A94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B2C0-187F-498C-946C-75B66654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ABF7-1AD8-4B99-98B1-6B9F18E9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BA22-38AC-4F04-AC3F-A422ED78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F850-793A-4F49-B946-E2E16C4B8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2904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F075-0602-4121-9D1E-2E74F31239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42640"/>
            <a:ext cx="8785440" cy="30718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对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018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届全国卷文综历史备考知识层面的思考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研究命题、关注学术、还原历史</a:t>
            </a:r>
            <a:br>
              <a:rPr sz="2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87280" y="4797360"/>
            <a:ext cx="7390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华南师大附属中学   历史科  高级教师  李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2743200" y="3338640"/>
          <a:ext cx="3657600" cy="18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338640"/>
                    <a:ext cx="36576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8280" y="60120"/>
            <a:ext cx="8579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00"/>
                </a:solidFill>
                <a:latin typeface="Arial"/>
              </a:rPr>
              <a:t>人民版对夏商政治特点如何概括？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20060429172455919"/>
          <p:cNvPicPr/>
          <p:nvPr/>
        </p:nvPicPr>
        <p:blipFill>
          <a:blip r:embed="rId1"/>
          <a:srcRect l="30226" t="9610" r="4011" b="72890"/>
          <a:stretch/>
        </p:blipFill>
        <p:spPr>
          <a:xfrm>
            <a:off x="469800" y="4653000"/>
            <a:ext cx="7704360" cy="2160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20060429172455722"/>
          <p:cNvPicPr/>
          <p:nvPr/>
        </p:nvPicPr>
        <p:blipFill>
          <a:blip r:embed="rId2"/>
          <a:srcRect l="5905" t="62892" r="27207" b="4671"/>
          <a:stretch/>
        </p:blipFill>
        <p:spPr>
          <a:xfrm>
            <a:off x="469800" y="835200"/>
            <a:ext cx="77043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7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岳麓版的描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20071127133540186"/>
          <p:cNvPicPr/>
          <p:nvPr/>
        </p:nvPicPr>
        <p:blipFill>
          <a:blip r:embed="rId1"/>
          <a:srcRect l="8886" t="25370" r="10742" b="33087"/>
          <a:stretch/>
        </p:blipFill>
        <p:spPr>
          <a:xfrm>
            <a:off x="1547640" y="835200"/>
            <a:ext cx="7272360" cy="59464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1104840" y="60480"/>
            <a:ext cx="7715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00"/>
                </a:solidFill>
                <a:latin typeface="Franklin Gothic Book"/>
              </a:rPr>
              <a:t>岳麓版对夏商政治特点如何概括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认为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中国国家应该从何开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夏商时期的国家应该指什么类型的国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4596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大国前奏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——从各自为阵到小国联盟的民主禅让时代（距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00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至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00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年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44440" y="1484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新石器时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519280" y="147780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万年前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——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5000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年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44440" y="2043000"/>
            <a:ext cx="88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农业出现、陶器普及，人类走向定居、居民村落普及，氏族制度的形成，是新石器时代的主要特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44440" y="3003480"/>
          <a:ext cx="8858160" cy="3378240"/>
        </p:xfrm>
        <a:graphic>
          <a:graphicData uri="http://schemas.openxmlformats.org/drawingml/2006/table">
            <a:tbl>
              <a:tblPr/>
              <a:tblGrid>
                <a:gridCol w="2089080"/>
                <a:gridCol w="5796000"/>
                <a:gridCol w="973080"/>
              </a:tblGrid>
              <a:tr h="677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早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中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晚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裴李岗文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仰韶文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龙山文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 row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磁山文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马家窑文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红山文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河姆渡、马家浜、崧泽、良渚文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屈家岭文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1"/>
          <p:cNvSpPr/>
          <p:nvPr/>
        </p:nvSpPr>
        <p:spPr>
          <a:xfrm>
            <a:off x="539640" y="692280"/>
            <a:ext cx="8136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Garamond"/>
              </a:rPr>
              <a:t>人类的物质生产能力与自身再生产能力大幅度提高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Garamond"/>
              </a:rPr>
              <a:t>人口增加、氏族部落规模不断壮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Garamond"/>
              </a:rPr>
              <a:t>耒耜锄耕为耕作方式的粗放式的农耕模式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Garamond"/>
              </a:rPr>
              <a:t>土地资源的扩张、不同氏族部落之间争夺土地、人口的战争不断加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考古证据：由聚落到小国寡民的古国（都邑国家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rcRect l="0" t="15792" r="0" b="5051"/>
          <a:stretch/>
        </p:blipFill>
        <p:spPr>
          <a:xfrm>
            <a:off x="179280" y="1609560"/>
            <a:ext cx="864072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rcRect l="0" t="8997" r="0" b="0"/>
          <a:stretch/>
        </p:blipFill>
        <p:spPr>
          <a:xfrm>
            <a:off x="492120" y="1200240"/>
            <a:ext cx="804060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黃土地帶3 copy"/>
          <p:cNvPicPr/>
          <p:nvPr/>
        </p:nvPicPr>
        <p:blipFill>
          <a:blip r:embed="rId1"/>
          <a:stretch/>
        </p:blipFill>
        <p:spPr>
          <a:xfrm>
            <a:off x="390600" y="14400"/>
            <a:ext cx="8064360" cy="6829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7302600" y="2852640"/>
            <a:ext cx="1631880" cy="2522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39" name="Text Box 8"/>
          <p:cNvSpPr/>
          <p:nvPr/>
        </p:nvSpPr>
        <p:spPr>
          <a:xfrm>
            <a:off x="6104520" y="3776760"/>
            <a:ext cx="668520" cy="581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蚩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5579640" y="217440"/>
            <a:ext cx="2513520" cy="3132000"/>
            <a:chOff x="5579640" y="217440"/>
            <a:chExt cx="2513520" cy="3132000"/>
          </a:xfrm>
        </p:grpSpPr>
        <p:sp>
          <p:nvSpPr>
            <p:cNvPr id="141" name="Text Box 6"/>
            <p:cNvSpPr/>
            <p:nvPr/>
          </p:nvSpPr>
          <p:spPr>
            <a:xfrm>
              <a:off x="5579640" y="2828880"/>
              <a:ext cx="607320" cy="52056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808080"/>
                  </a:solidFill>
                  <a:latin typeface="Times New Roman"/>
                  <a:ea typeface="DFKai-SB"/>
                </a:rPr>
                <a:t>炎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9" descr="神農氏2"/>
            <p:cNvPicPr/>
            <p:nvPr/>
          </p:nvPicPr>
          <p:blipFill>
            <a:blip r:embed="rId3"/>
            <a:stretch/>
          </p:blipFill>
          <p:spPr>
            <a:xfrm>
              <a:off x="6510600" y="217440"/>
              <a:ext cx="1582560" cy="2205000"/>
            </a:xfrm>
            <a:prstGeom prst="rect">
              <a:avLst/>
            </a:prstGeom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</p:pic>
      </p:grpSp>
      <p:grpSp>
        <p:nvGrpSpPr>
          <p:cNvPr id="143" name="Group 11"/>
          <p:cNvGrpSpPr/>
          <p:nvPr/>
        </p:nvGrpSpPr>
        <p:grpSpPr>
          <a:xfrm>
            <a:off x="2550960" y="2239920"/>
            <a:ext cx="2586240" cy="2341440"/>
            <a:chOff x="2550960" y="2239920"/>
            <a:chExt cx="2586240" cy="2341440"/>
          </a:xfrm>
        </p:grpSpPr>
        <p:sp>
          <p:nvSpPr>
            <p:cNvPr id="144" name="Text Box 7"/>
            <p:cNvSpPr/>
            <p:nvPr/>
          </p:nvSpPr>
          <p:spPr>
            <a:xfrm>
              <a:off x="4529880" y="3357360"/>
              <a:ext cx="607320" cy="52056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0000"/>
                  </a:solidFill>
                  <a:latin typeface="Times New Roman"/>
                  <a:ea typeface="DFKai-SB"/>
                </a:rPr>
                <a:t>黃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10" descr="黃帝畫像200"/>
            <p:cNvPicPr/>
            <p:nvPr/>
          </p:nvPicPr>
          <p:blipFill>
            <a:blip r:embed="rId4"/>
            <a:stretch/>
          </p:blipFill>
          <p:spPr>
            <a:xfrm>
              <a:off x="2550960" y="2239920"/>
              <a:ext cx="1579680" cy="234144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146" name="Text Box 14"/>
          <p:cNvSpPr/>
          <p:nvPr/>
        </p:nvSpPr>
        <p:spPr>
          <a:xfrm>
            <a:off x="179280" y="136440"/>
            <a:ext cx="8750520" cy="76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Garamond"/>
              </a:rPr>
              <a:t>、英雄传说记载：古国之间战争频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571680" y="3286080"/>
            <a:ext cx="91440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宋体"/>
              </a:rPr>
              <a:t>黃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571680" y="5038560"/>
            <a:ext cx="91440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宋体"/>
              </a:rPr>
              <a:t>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571680" y="5495760"/>
            <a:ext cx="91440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宋体"/>
              </a:rPr>
              <a:t>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571680" y="4581360"/>
            <a:ext cx="91440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869400" y="3772080"/>
            <a:ext cx="6069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PMingLiU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2"/>
          <p:cNvSpPr/>
          <p:nvPr/>
        </p:nvSpPr>
        <p:spPr>
          <a:xfrm>
            <a:off x="320040" y="18748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约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4600</a:t>
            </a: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年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428760" y="2571840"/>
            <a:ext cx="121428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神农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320" y="189000"/>
            <a:ext cx="9139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大国前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从各自为阵到小国联盟的民主禅让时代（距今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00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00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原始社会父系氏族晚期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小国寡民为特点，血缘部族为基础的都邑国家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小国逐步走向联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古国间战争频繁，依据地缘、血缘远近和生存方式相近程度组成不同古国联盟；在联盟基础上出现了更大规模的联盟间战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联盟内部各核心古国地位相对平等，联盟首领禅让制说明联盟已经孕育出大国形态的权力核心，但尚未演化出大国形态相对稳定的中央与地方权力分配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79280" y="33336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二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大国雏形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联盟变为臣服的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氏族分封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方国联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时代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C2070-BC1046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距今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00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00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1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Arial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夏部族依靠武力使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小国联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变为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大国君臣关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禹建夏朝；启开创联盟首领世袭制；夏成为大国之中央君国，而其他国成为大国之地方臣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Arial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商部族依靠武力开创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地方臣国推翻中央君国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取而代之的先例，并进一步完善如商部族中央君国的机构完善，设有相、卿士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卜、祝、史、师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商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内外服制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夏商的君国与臣国关系（即中央与地方关系）以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氏族分封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方国联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为特点，基本认可臣国原有权力结构，君国强大时臣国俯首称臣，君国衰弱时臣国起来造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Arial"/>
              </a:rPr>
              <a:t>、夏商君臣各国皆以宗法血缘继承权力，但极不规范，权力交接经常引发政局不稳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商行父死子继、兄终弟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3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Arial"/>
              </a:rPr>
              <a:t>、统治方式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具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神权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色彩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90160" y="533160"/>
            <a:ext cx="8674200" cy="1463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（一）高考考什么？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知识层面的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2"/>
          <p:cNvSpPr/>
          <p:nvPr/>
        </p:nvSpPr>
        <p:spPr>
          <a:xfrm>
            <a:off x="320760" y="1996920"/>
            <a:ext cx="83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一、发现问题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以高考题为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"/>
          <p:cNvSpPr/>
          <p:nvPr/>
        </p:nvSpPr>
        <p:spPr>
          <a:xfrm>
            <a:off x="684360" y="2924280"/>
            <a:ext cx="8013600" cy="947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高考虽然考的是考纲与课标所要求的考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但是，考点的知识含量远远超出教材的范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"/>
          <p:cNvSpPr/>
          <p:nvPr/>
        </p:nvSpPr>
        <p:spPr>
          <a:xfrm>
            <a:off x="2195640" y="409716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ff7a"/>
                </a:solidFill>
                <a:latin typeface="华文彩云"/>
                <a:ea typeface="华文彩云"/>
              </a:rPr>
              <a:t>教材不是考试命题的依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、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家国天下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臣服变为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征服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宗法分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时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天下共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周部族依靠武力开创君国征服臣国、派亲戚按照周制标准统治臣国的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</a:rPr>
              <a:t>宗法分封制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周人武装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征服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臣国、大量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殖民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周民、直接统治臣国之民、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按周制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统一臣国的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治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制度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权力继承更加严格，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</a:rPr>
              <a:t>嫡长子继承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、统治方式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</a:rPr>
              <a:t>注重礼乐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制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——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强化宗法分封等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宗法制的文化观念意义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敬祖崇古重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新课标全国Ⅲ卷高考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周代青铜器上的铭文与商代相比，字数越来越多，语句也愈加格式化。这些铭文大都记述个人业绩，追颂祖先功德，希冀子孙保用。这表明西周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创造了一种全新的文字体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形成了重视历史传承的风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宗法制度受到了严重的挑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青铜器的功用发生重大改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6·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新课标全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卷高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2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史载，宋太祖某日闷闷不乐，有人问他原因，他说：“尔谓帝王可容易行事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偶有误失，史官必书之，我所以不乐也。”此事反映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重史传统影响君主个人行为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宋代史官所撰史书全都真实可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史官与君主间存在尖锐矛盾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宋太祖不愿史书记录其真实言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宗法制的文化观念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——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血缘出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6·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海南高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在中国古代，褒扬官员德行和政绩，往往称其人为“民之父母”，官员亦以“为民父母”“爱民如子”作为执政的理想境界。这一现象反映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宗族关系已成为执政的基础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“家天下”观念的政治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官员考核主要依据民本思想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官员之间具有共同政治诉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4·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全国新课标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2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中国古代，“天”被尊为最高神。秦汉以后，以“天子”自居的皇帝举行祭天大典，表明自己“承天”而“子民”，官员、百姓则祭拜自己的祖先。这反映了秦汉以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君主专制缘于宗教权威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政治统治借助于人伦秩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皇权至上促成祖先崇拜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祭天活动强化了宗法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2600" y="2599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礼乐制度的价值：思想教化、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规范秩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上海高考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“乐者为同，礼者为异。同则相亲，异则相敬。乐胜则流，礼胜则离。合情饰貌者，礼乐之事也。礼义立，则贵贱等矣。乐文同，则上下和矣。”据此，礼乐的主要社会功能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规范“和而不同”的秩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塑造人群的集体认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促使君子庶人日趋平等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明确社会的等级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3·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海南高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朱元璋认为，“礼乐者，治平之膏粱；刑政者，救弊之药石”，“刑政二者，不过辅礼乐为治耳”。这表明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强调严刑峻法的统治方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重视礼乐制度的教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宣扬休养生息的政治主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兼采儒法二家为统治思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五经来自夏商周尤其西周时期积累的历史文化典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新课标全国Ⅰ卷高考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孔子是儒家学派创始人，汉代崇尚儒学，尊《尚书》等五部书为经典，记录孔子言论的《论语》却不在“五经”之中。对此合理的解释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“五经”为阐发孔子儒学思想而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汉代儒学背离了孔子的儒学思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儒学思想植根于久远的历史传统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儒学传统由于秦始皇焚书而断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二、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280" y="836280"/>
            <a:ext cx="8910720" cy="2087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高考强调：还原历史的完整性、变迁的连续性，一个国家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民族、区域的历史特色往往是一代一代积累的政治智慧、思想智慧、观念形态、生产进步等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25280" y="2997360"/>
            <a:ext cx="8910720" cy="3384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原因分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考纲、课标规定考点知识要求简洁与笼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教材的局限性：不同版本教材差异、知识结构缺漏、知识深度与广度缺乏、历史结论落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命题者基本为大学历史学术专家，对考纲、课标与教材不足的纠正与引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理学的来龙去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3·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全国新课标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2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自汉至唐，儒学被奉为“周（公）孔之道”，宋代以后儒学多被称作“孔孟之道”，促成这一变化的是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宗法血缘制度逐渐瓦解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仁政理念深入人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程朱理学成为统治思想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陆王心学日益兴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示例一：夏商周时期的分封制与宗法制、早期政治文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7·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新课标全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卷高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2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周灭商之后，推行分封制，如封武王弟康叔于卫，都朝歌（今河南淇县）；封周公长子伯禽于鲁，都奄（今山东曲阜）；封召公奭于燕，都蓟（今北京）。分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推动了文化的交流与文化认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强化了君主专制权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实现了王室对地方的直接控制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确立了贵族世袭特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15·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新课标全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Ⅰ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卷高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4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分）阅读材料，完成下列要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材料一  在历史中，儒学一直在发展与创新。唐代韩愈以周公、孔子的继承者自居，排斥佛、道，鄙薄汉代以来的儒学，认为周公、孔子之道在孟子之后已经断绝。他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原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中说：“吾所谓道也，非向（先前）所谓老与佛之道也。尧以是传之舜，舜以是传之禹，禹以是传之汤，汤以是传之文、武、周公，文、武、周公传之孔子，孔子传之孟轲。轲之死，不得其传焉。”他的这一主张被宋代儒者接受并发扬。当代学者认为韩愈开了宋代“新儒学”的先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摘编自卞孝萱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韩愈评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结合材料一及所学知识，指出汉代儒学与孔孟儒学的不同之处，并概括宋代理学在哪些方面对儒学有所发展。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答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不同：孔孟思想是仁政、民本、教化，而汉儒强调天人感应、君权神授、三纲五常。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发展：更加重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论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》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孟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重视思辨，强调个人的修养与完善。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2·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海南高考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魏晋时期，有人斥责佛教“使父子之亲隔，君  臣之义乖，夫妇之和旷，友朋之信绝”。这反映出当时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佛教传入颠覆了传统观念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儒 家伦理不为社会所重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佛教急于融入本土文化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佛教与儒家伦理抵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3" descr=""/>
          <p:cNvPicPr/>
          <p:nvPr/>
        </p:nvPicPr>
        <p:blipFill>
          <a:blip r:embed="rId2"/>
          <a:stretch/>
        </p:blipFill>
        <p:spPr>
          <a:xfrm>
            <a:off x="341280" y="549360"/>
            <a:ext cx="87789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材料二  理学家提出“理”作为宇宙万物的本源，它以儒家的礼法、伦理思想为核心，吸收佛道思想中的精粹，形成了析理精微、论证明确的哲学体系，这是两汉的粗糙儒学所无法比拟的。理学家以儒家“圣人”为最高境界，充分肯定人的现实生活、道德精神的意义；它摒弃佛道所宣扬的彼岸世界，不相信灵魂不灭、轮回转世之说，而力求在现实世界中实现崇高的理想，所以它是一种理性主义的哲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马克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文明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请回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据材料二，指出理学的积极作用。结合所学知识，简析儒学由“粗糙”趋向“精微”的原因。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两汉儒学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成为官学、经学为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520" y="12193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五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经学两个发展方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是繁琐化，经有数家，家有数法，支离蔓衍，使学者莫衷一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二是阴阳五行化、谶纬化（迷信化），从董仲舒以阴阳五行学说解释公羊春秋，提出天人感应开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经学两个流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今文经学派：重视微言大义，据现实政治需要来解经，不惜歪曲经义，以至走上阴阳五行化和神学化道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古文经学派：重视对经的字、词、句、名字、物的解释，力求按字义解释经文，弄清经文本意，不凭空臆说，迷信成分较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谶纬（汉语拼音：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èn wěi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193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是中国古代谶书和纬书的合称。谶是秦汉间巫师、方士编造的预示吉凶的隐语，纬是汉代迷信附会儒家经义的一类书。谶纬之学也就是上天之神对未来的一种政治预言。 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历史 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秦朝陈胜、吴广大泽乡起义就利用谶语制造了“大楚兴，陈胜王”。 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汉朝是谶纬之学最兴盛时期。例如王莽称帝就利用谶语制造舆论，制作了“告安汉公莽为皇帝”的石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之后的汉光武帝也利用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赤伏符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即位。之后，在中元元年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6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年）宣布图谶于天下，使之合法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建初四年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9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年），汉章帝还主持召开了一次全国经学讨论会，会议纪录由班固整理成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白虎通德论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，以法令形式将谶纬之学定形，和正统经书具有同等地位。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魏晋以后，谶纬之书遭到毁禁。 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1"/>
          <p:cNvSpPr/>
          <p:nvPr/>
        </p:nvSpPr>
        <p:spPr>
          <a:xfrm>
            <a:off x="609480" y="609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道教、佛教则从哲学高度用神学理论系统回答了人为什么要有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宇宙万物来龙去脉，有何规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人类遵循宇宙的什么规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人不遵守这些规则会产生何种严重后果？遵守有何好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304920" y="1143000"/>
            <a:ext cx="86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汉至隋唐，佛道体系完善；而且注重普及吸引信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把宇宙万物和人纳入统一的密不可分的体系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把人趋利避害的心理和因果轮回相结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强化人善恶行为的后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解决人的很多身心痛苦，给人以约束，给人以希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">
            <a:hlinkClick r:id="rId1" action="ppaction://hlinksldjump"/>
          </p:cNvPr>
          <p:cNvSpPr/>
          <p:nvPr/>
        </p:nvSpPr>
        <p:spPr>
          <a:xfrm>
            <a:off x="838080" y="47242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乱世之中，儒学和佛道相比，民众更信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>
            <a:hlinkClick r:id="rId1" action="ppaction://hlinksldjump"/>
          </p:cNvPr>
          <p:cNvSpPr/>
          <p:nvPr/>
        </p:nvSpPr>
        <p:spPr>
          <a:xfrm>
            <a:off x="457200" y="1219320"/>
            <a:ext cx="84456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佛道盛行原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佛教 道教自身吸引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②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战乱频繁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当时南北对峙，压迫深重，战争频繁，人民要寻求精神寄托，佛教宣扬因果报应、来生幸福，道教宣扬凡人得道成仙迎合这种需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③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治阶级大力扶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如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寺院经济特权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当时寺院占有大量土地，僧尼不入国家户籍，可逃避赋役，因此破产农民大量投身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西周分封制的文化意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4·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全国新课标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Ⅱ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2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周代分封制下，各封国贵族按“周礼”行事，学说统一的“雅言”，促进了各地文化的整合。周代的“雅言”最早应起源于现在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河南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河北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陕西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山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1"/>
          <p:cNvSpPr/>
          <p:nvPr/>
        </p:nvSpPr>
        <p:spPr>
          <a:xfrm>
            <a:off x="380880" y="609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儒学仍有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228600" y="17524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表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：魏晋南北时由汉族正统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成为中华各民族共同主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隋唐时出现三教合一趋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佛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：本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道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：贵儒、尊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儒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：儒学为主、三教合一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唐代禁绝谶纬、规范经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五经正义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；韩愈重续道统、复兴儒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1150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产生背景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思考：两宋儒学家的使命与机遇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28600" y="18288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命：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复兴儒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弥补局限、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完成哲理、重回独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机遇：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佛道局限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：逃辟现实，讲究出世，不完全符合统治者需要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理论基础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：唐代韩愈尊孔孟、续道统、论心性的开端；佛道哲学理论借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环境适宜：两宋相对统一、加强专制集权、重文轻武、科举发展；商品经济冲击传统伦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"/>
          <p:cNvSpPr/>
          <p:nvPr/>
        </p:nvSpPr>
        <p:spPr>
          <a:xfrm>
            <a:off x="380880" y="380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二、两宋理学形成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儒学的再次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77920" y="259920"/>
            <a:ext cx="8686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必修与选修互相补充完整知识链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76040" y="9810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．阅读材料，完成下列要求。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材料一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在专制王权下的法国，国王曾自视为民族的代表，路易十四声称“朕即国家”“朕即民族”。启蒙思想家主张人民主权，抨击君主专制，阐述了与之相适应的民族思想：一个民族可以没有国王而将国家治理得井井有条，相反，一个国王若无国民则不存在，更不必说治理国家了，甚至表示“专制之下无祖国”。在法国大革命中，人们认为法兰西民族的成员不仅居住在同一地域、使用相同的语言，而且相互之间是平等的，全体法国人组成的法兰西民族。一般认为，法国大革命是法兰西民族诞生和民族主义形成的标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摘编自李宏图《西欧近代民族主义思潮研究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材料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盖民族主义，对于任何阶级，其意义皆不外免除帝国主义之侵略。其在实业界，苟无民族主义，则列强之经济的压迫，致自国生产永无发展之可能。其在劳动界，苟无民族主义，则依附帝国主义而生存之军阀及国内外之资本家，足以蚀其生命而有余。故民族解放之斗争，对于多数之民众，其目标皆不外反帝国主义而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《中国国民党第一次全国代表大会宣言》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24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）根据材料一并结合所学知识，说明法国大革命对近代民族主义形成的促进作用。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54100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一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5~1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世纪，封建制度确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二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12~1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世纪，等级君主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三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14~1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世纪，民族国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9"/>
          <p:cNvSpPr/>
          <p:nvPr/>
        </p:nvSpPr>
        <p:spPr>
          <a:xfrm>
            <a:off x="5410080" y="0"/>
            <a:ext cx="3733920" cy="1676520"/>
          </a:xfrm>
          <a:prstGeom prst="wedgeRoundRectCallout">
            <a:avLst>
              <a:gd name="adj1" fmla="val -60546"/>
              <a:gd name="adj2" fmla="val 852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日耳曼诸王国的形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二元政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采邑改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封建庄园经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2"/>
          <p:cNvSpPr/>
          <p:nvPr/>
        </p:nvSpPr>
        <p:spPr>
          <a:xfrm>
            <a:off x="4343400" y="2819520"/>
            <a:ext cx="4800600" cy="1676160"/>
          </a:xfrm>
          <a:prstGeom prst="wedgeRoundRectCallout">
            <a:avLst>
              <a:gd name="adj1" fmla="val -41171"/>
              <a:gd name="adj2" fmla="val -11837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西欧各国历史推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王权和教权的斗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商品经济发展，城市的兴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等级君主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1981080" y="4876920"/>
            <a:ext cx="3353040" cy="1676160"/>
          </a:xfrm>
          <a:prstGeom prst="wedgeRoundRectCallout">
            <a:avLst>
              <a:gd name="adj1" fmla="val -15199"/>
              <a:gd name="adj2" fmla="val -20738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资本主义萌芽产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王权加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民族国家产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君主专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581280" y="762120"/>
            <a:ext cx="3276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08" name="直接箭头连接符 4"/>
          <p:cNvCxnSpPr/>
          <p:nvPr/>
        </p:nvCxnSpPr>
        <p:spPr>
          <a:xfrm>
            <a:off x="4190760" y="76320"/>
            <a:ext cx="153000" cy="678240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09" name="直接连接符 6"/>
          <p:cNvSpPr/>
          <p:nvPr/>
        </p:nvSpPr>
        <p:spPr>
          <a:xfrm>
            <a:off x="76320" y="76320"/>
            <a:ext cx="6672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7"/>
          <p:cNvSpPr/>
          <p:nvPr/>
        </p:nvSpPr>
        <p:spPr>
          <a:xfrm>
            <a:off x="82440" y="1492200"/>
            <a:ext cx="5634000" cy="46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8"/>
          <p:cNvSpPr/>
          <p:nvPr/>
        </p:nvSpPr>
        <p:spPr>
          <a:xfrm flipV="1">
            <a:off x="76320" y="3122640"/>
            <a:ext cx="6989760" cy="15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9"/>
          <p:cNvSpPr/>
          <p:nvPr/>
        </p:nvSpPr>
        <p:spPr>
          <a:xfrm flipV="1">
            <a:off x="76320" y="4376520"/>
            <a:ext cx="5640120" cy="42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0"/>
          <p:cNvSpPr/>
          <p:nvPr/>
        </p:nvSpPr>
        <p:spPr>
          <a:xfrm>
            <a:off x="76320" y="5715000"/>
            <a:ext cx="7518240" cy="28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1"/>
          <p:cNvSpPr/>
          <p:nvPr/>
        </p:nvSpPr>
        <p:spPr>
          <a:xfrm>
            <a:off x="-28440" y="457200"/>
            <a:ext cx="1371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世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9"/>
          <p:cNvSpPr/>
          <p:nvPr/>
        </p:nvSpPr>
        <p:spPr>
          <a:xfrm>
            <a:off x="25560" y="3394080"/>
            <a:ext cx="1371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1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世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20"/>
          <p:cNvSpPr/>
          <p:nvPr/>
        </p:nvSpPr>
        <p:spPr>
          <a:xfrm>
            <a:off x="-25560" y="4765680"/>
            <a:ext cx="1371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1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世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21"/>
          <p:cNvSpPr/>
          <p:nvPr/>
        </p:nvSpPr>
        <p:spPr>
          <a:xfrm>
            <a:off x="0" y="6062760"/>
            <a:ext cx="1371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16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世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24"/>
          <p:cNvSpPr/>
          <p:nvPr/>
        </p:nvSpPr>
        <p:spPr>
          <a:xfrm>
            <a:off x="-28440" y="2011320"/>
            <a:ext cx="1371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1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世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25"/>
          <p:cNvSpPr/>
          <p:nvPr/>
        </p:nvSpPr>
        <p:spPr>
          <a:xfrm>
            <a:off x="2887920" y="1523880"/>
            <a:ext cx="9792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1215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6"/>
          <p:cNvSpPr/>
          <p:nvPr/>
        </p:nvSpPr>
        <p:spPr>
          <a:xfrm>
            <a:off x="2862360" y="2014560"/>
            <a:ext cx="9792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1265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7"/>
          <p:cNvSpPr/>
          <p:nvPr/>
        </p:nvSpPr>
        <p:spPr>
          <a:xfrm>
            <a:off x="2945880" y="3122640"/>
            <a:ext cx="7660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13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28"/>
          <p:cNvSpPr/>
          <p:nvPr/>
        </p:nvSpPr>
        <p:spPr>
          <a:xfrm>
            <a:off x="2966760" y="3514680"/>
            <a:ext cx="7660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13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29"/>
          <p:cNvSpPr/>
          <p:nvPr/>
        </p:nvSpPr>
        <p:spPr>
          <a:xfrm>
            <a:off x="1225440" y="2004840"/>
            <a:ext cx="2895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英国议会形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30"/>
          <p:cNvSpPr/>
          <p:nvPr/>
        </p:nvSpPr>
        <p:spPr>
          <a:xfrm>
            <a:off x="5908680" y="-111240"/>
            <a:ext cx="635040" cy="2775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文化复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31"/>
          <p:cNvSpPr/>
          <p:nvPr/>
        </p:nvSpPr>
        <p:spPr>
          <a:xfrm>
            <a:off x="7072200" y="76320"/>
            <a:ext cx="522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黑体"/>
              </a:rPr>
              <a:t>大学兴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32"/>
          <p:cNvSpPr/>
          <p:nvPr/>
        </p:nvSpPr>
        <p:spPr>
          <a:xfrm>
            <a:off x="7783560" y="20520"/>
            <a:ext cx="568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  <a:ea typeface="黑体"/>
              </a:rPr>
              <a:t>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  <a:ea typeface="黑体"/>
              </a:rPr>
              <a:t>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  <a:ea typeface="黑体"/>
              </a:rPr>
              <a:t>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  <a:ea typeface="黑体"/>
              </a:rPr>
              <a:t>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  <a:ea typeface="黑体"/>
              </a:rPr>
              <a:t>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33"/>
          <p:cNvSpPr/>
          <p:nvPr/>
        </p:nvSpPr>
        <p:spPr>
          <a:xfrm>
            <a:off x="7429680" y="76320"/>
            <a:ext cx="6048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古典学术翻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34"/>
          <p:cNvSpPr/>
          <p:nvPr/>
        </p:nvSpPr>
        <p:spPr>
          <a:xfrm>
            <a:off x="4653000" y="1555920"/>
            <a:ext cx="635040" cy="253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等级君主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5"/>
          <p:cNvSpPr/>
          <p:nvPr/>
        </p:nvSpPr>
        <p:spPr>
          <a:xfrm>
            <a:off x="1290600" y="3129120"/>
            <a:ext cx="2895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法国三级会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36"/>
          <p:cNvSpPr/>
          <p:nvPr/>
        </p:nvSpPr>
        <p:spPr>
          <a:xfrm>
            <a:off x="1109520" y="3506760"/>
            <a:ext cx="28958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阿维尼翁之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37"/>
          <p:cNvSpPr/>
          <p:nvPr/>
        </p:nvSpPr>
        <p:spPr>
          <a:xfrm>
            <a:off x="711360" y="1539720"/>
            <a:ext cx="2895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英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自由大宪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40"/>
          <p:cNvSpPr/>
          <p:nvPr/>
        </p:nvSpPr>
        <p:spPr>
          <a:xfrm>
            <a:off x="5076720" y="117360"/>
            <a:ext cx="66384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城市兴起与自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41"/>
          <p:cNvSpPr/>
          <p:nvPr/>
        </p:nvSpPr>
        <p:spPr>
          <a:xfrm>
            <a:off x="8448840" y="4419720"/>
            <a:ext cx="672840" cy="179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人文主义法学派时期（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黑体"/>
              </a:rPr>
              <a:t>1400—1600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年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42"/>
          <p:cNvSpPr/>
          <p:nvPr/>
        </p:nvSpPr>
        <p:spPr>
          <a:xfrm>
            <a:off x="8325000" y="2436840"/>
            <a:ext cx="917280" cy="1310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评论法学派时期（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黑体"/>
              </a:rPr>
              <a:t>1250—1400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年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43"/>
          <p:cNvSpPr/>
          <p:nvPr/>
        </p:nvSpPr>
        <p:spPr>
          <a:xfrm>
            <a:off x="8231040" y="223920"/>
            <a:ext cx="874800" cy="1310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注释法学派时期（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黑体"/>
              </a:rPr>
              <a:t>1100—1250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年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44"/>
          <p:cNvSpPr/>
          <p:nvPr/>
        </p:nvSpPr>
        <p:spPr>
          <a:xfrm>
            <a:off x="4573440" y="4376880"/>
            <a:ext cx="124632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Garamond"/>
                <a:ea typeface="黑体"/>
              </a:rPr>
              <a:t>民族国家与君主专制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45"/>
          <p:cNvSpPr/>
          <p:nvPr/>
        </p:nvSpPr>
        <p:spPr>
          <a:xfrm>
            <a:off x="5959440" y="2744640"/>
            <a:ext cx="593640" cy="448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复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7"/>
          <p:cNvSpPr/>
          <p:nvPr/>
        </p:nvSpPr>
        <p:spPr>
          <a:xfrm>
            <a:off x="6837480" y="5792760"/>
            <a:ext cx="103176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宗教改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51"/>
          <p:cNvSpPr/>
          <p:nvPr/>
        </p:nvSpPr>
        <p:spPr>
          <a:xfrm>
            <a:off x="2854440" y="3868560"/>
            <a:ext cx="11080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13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14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直接箭头连接符 53"/>
          <p:cNvCxnSpPr/>
          <p:nvPr/>
        </p:nvCxnSpPr>
        <p:spPr>
          <a:xfrm>
            <a:off x="3377880" y="4169880"/>
            <a:ext cx="1080" cy="499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矩形 54"/>
          <p:cNvSpPr/>
          <p:nvPr/>
        </p:nvSpPr>
        <p:spPr>
          <a:xfrm>
            <a:off x="2724120" y="4734000"/>
            <a:ext cx="1765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1455---14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58"/>
          <p:cNvSpPr/>
          <p:nvPr/>
        </p:nvSpPr>
        <p:spPr>
          <a:xfrm>
            <a:off x="1482840" y="4724280"/>
            <a:ext cx="109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英国玫瑰战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59"/>
          <p:cNvSpPr/>
          <p:nvPr/>
        </p:nvSpPr>
        <p:spPr>
          <a:xfrm>
            <a:off x="1600200" y="4213080"/>
            <a:ext cx="109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英法百年战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60"/>
          <p:cNvSpPr/>
          <p:nvPr/>
        </p:nvSpPr>
        <p:spPr>
          <a:xfrm>
            <a:off x="3610800" y="5987880"/>
            <a:ext cx="747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15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61"/>
          <p:cNvSpPr/>
          <p:nvPr/>
        </p:nvSpPr>
        <p:spPr>
          <a:xfrm>
            <a:off x="3590280" y="5684760"/>
            <a:ext cx="747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15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2"/>
          <p:cNvSpPr/>
          <p:nvPr/>
        </p:nvSpPr>
        <p:spPr>
          <a:xfrm>
            <a:off x="2951640" y="4992840"/>
            <a:ext cx="960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1479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63"/>
          <p:cNvSpPr/>
          <p:nvPr/>
        </p:nvSpPr>
        <p:spPr>
          <a:xfrm>
            <a:off x="1859400" y="4995720"/>
            <a:ext cx="43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西班牙统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TextBox 4"/>
          <p:cNvGrpSpPr/>
          <p:nvPr/>
        </p:nvGrpSpPr>
        <p:grpSpPr>
          <a:xfrm>
            <a:off x="328680" y="1384200"/>
            <a:ext cx="8632800" cy="1932120"/>
            <a:chOff x="328680" y="1384200"/>
            <a:chExt cx="8632800" cy="1932120"/>
          </a:xfrm>
        </p:grpSpPr>
        <p:pic>
          <p:nvPicPr>
            <p:cNvPr id="249" name="TextBox 4" descr=""/>
            <p:cNvPicPr/>
            <p:nvPr/>
          </p:nvPicPr>
          <p:blipFill>
            <a:blip r:embed="rId1"/>
            <a:stretch/>
          </p:blipFill>
          <p:spPr>
            <a:xfrm>
              <a:off x="328680" y="1384200"/>
              <a:ext cx="8632800" cy="19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571680" y="1625760"/>
              <a:ext cx="814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Arial"/>
                </a:rPr>
                <a:t>近代西方民族国家与君主专制的形成与发展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4"/>
          <p:cNvSpPr/>
          <p:nvPr/>
        </p:nvSpPr>
        <p:spPr>
          <a:xfrm>
            <a:off x="324000" y="47628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Garamond"/>
              </a:rPr>
              <a:t>民族：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指历史上形成的，处于不同社会发展阶段的各种人的共同体。特指有共同语言、共同地域、共同经济生活以及表现于共同文化上的共同心理素质的人的共同体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Garamond"/>
              </a:rPr>
              <a:t>国家：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是维护一个阶级对另一个阶级的统治机器。根据掌握国家权力的人数多少为标准，国家可分为下列三种类型：⑴君主国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，⑵贵族国，⑶民主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Garamond"/>
              </a:rPr>
              <a:t>民族国家：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两者合为一体，国家的领土界限与民族居住地范围相同，同时文化与政治逐步整合。国家是民族的政治实体。在西欧，民族和国家是同步形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684360" y="1844640"/>
            <a:ext cx="9072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何谓民族国家（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nation-state)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要构成一个民族国家，必须具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哪些要素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3"/>
          <p:cNvSpPr/>
          <p:nvPr/>
        </p:nvSpPr>
        <p:spPr>
          <a:xfrm>
            <a:off x="250920" y="76500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Garamond"/>
                <a:ea typeface="黑体"/>
              </a:rPr>
              <a:t>民族国家三要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>
            <a:hlinkClick r:id="rId1" action="ppaction://hlinksldjump"/>
          </p:cNvPr>
          <p:cNvSpPr/>
          <p:nvPr/>
        </p:nvSpPr>
        <p:spPr>
          <a:xfrm>
            <a:off x="214200" y="3257640"/>
            <a:ext cx="889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Garamond"/>
                <a:ea typeface="黑体"/>
              </a:rPr>
              <a:t>文化上：全民族通用的语言和国民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Garamond"/>
                <a:ea typeface="黑体"/>
              </a:rPr>
              <a:t>文化认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246240" y="253836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Garamond"/>
                <a:ea typeface="黑体"/>
              </a:rPr>
              <a:t>经济上：统一的国内市场和国民经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>
            <a:hlinkClick r:id="rId2" action="ppaction://hlinksldjump"/>
          </p:cNvPr>
          <p:cNvSpPr/>
          <p:nvPr/>
        </p:nvSpPr>
        <p:spPr>
          <a:xfrm>
            <a:off x="324000" y="181764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Garamond"/>
                <a:ea typeface="黑体"/>
              </a:rPr>
              <a:t>政治上：确定的领土疆域和政治统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322200" y="1531440"/>
            <a:ext cx="8570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Garamond"/>
                <a:ea typeface="黑体"/>
              </a:rPr>
              <a:t>民族主义只是</a:t>
            </a:r>
            <a:r>
              <a:rPr b="0" lang="zh-CN" sz="3600" spc="-1" strike="noStrike" u="sng">
                <a:solidFill>
                  <a:srgbClr val="ffffff"/>
                </a:solidFill>
                <a:uFillTx/>
                <a:latin typeface="Garamond"/>
                <a:ea typeface="黑体"/>
              </a:rPr>
              <a:t>近代</a:t>
            </a:r>
            <a:r>
              <a:rPr b="0" lang="zh-CN" sz="3600" spc="-1" strike="noStrike">
                <a:solidFill>
                  <a:srgbClr val="ffff00"/>
                </a:solidFill>
                <a:latin typeface="Garamond"/>
                <a:ea typeface="黑体"/>
              </a:rPr>
              <a:t>欧洲历史上的一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Garamond"/>
                <a:ea typeface="黑体"/>
              </a:rPr>
              <a:t>现象。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  <a:ea typeface="黑体"/>
              </a:rPr>
              <a:t>……</a:t>
            </a:r>
            <a:r>
              <a:rPr b="0" lang="zh-CN" sz="3600" spc="-1" strike="noStrike">
                <a:solidFill>
                  <a:srgbClr val="ffff00"/>
                </a:solidFill>
                <a:latin typeface="Garamond"/>
                <a:ea typeface="黑体"/>
              </a:rPr>
              <a:t>因而，在</a:t>
            </a:r>
            <a:r>
              <a:rPr b="0" lang="zh-CN" sz="3600" spc="-1" strike="noStrike">
                <a:solidFill>
                  <a:srgbClr val="ffffff"/>
                </a:solidFill>
                <a:latin typeface="Garamond"/>
                <a:ea typeface="黑体"/>
              </a:rPr>
              <a:t>那些世纪</a:t>
            </a:r>
            <a:r>
              <a:rPr b="0" lang="zh-CN" sz="3600" spc="-1" strike="noStrike">
                <a:solidFill>
                  <a:srgbClr val="ffff00"/>
                </a:solidFill>
                <a:latin typeface="Garamond"/>
                <a:ea typeface="黑体"/>
              </a:rPr>
              <a:t>里， 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  <a:ea typeface="黑体"/>
              </a:rPr>
              <a:t>……</a:t>
            </a:r>
            <a:r>
              <a:rPr b="0" lang="zh-CN" sz="3600" spc="-1" strike="noStrike">
                <a:solidFill>
                  <a:srgbClr val="ffff00"/>
                </a:solidFill>
                <a:latin typeface="Garamond"/>
                <a:ea typeface="黑体"/>
              </a:rPr>
              <a:t>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Garamond"/>
                <a:ea typeface="黑体"/>
              </a:rPr>
              <a:t>多数人认为自己首先是</a:t>
            </a:r>
            <a:r>
              <a:rPr b="0" lang="zh-CN" sz="3600" spc="-1" strike="noStrike">
                <a:solidFill>
                  <a:srgbClr val="ffffff"/>
                </a:solidFill>
                <a:latin typeface="Garamond"/>
                <a:ea typeface="黑体"/>
              </a:rPr>
              <a:t>基督教徒</a:t>
            </a:r>
            <a:r>
              <a:rPr b="0" lang="zh-CN" sz="3600" spc="-1" strike="noStrike">
                <a:solidFill>
                  <a:srgbClr val="ffff00"/>
                </a:solidFill>
                <a:latin typeface="Garamond"/>
                <a:ea typeface="黑体"/>
              </a:rPr>
              <a:t>，其次是某一</a:t>
            </a:r>
            <a:r>
              <a:rPr b="0" lang="zh-CN" sz="3600" spc="-1" strike="noStrike">
                <a:solidFill>
                  <a:srgbClr val="ffffff"/>
                </a:solidFill>
                <a:latin typeface="Garamond"/>
                <a:ea typeface="黑体"/>
              </a:rPr>
              <a:t>地区</a:t>
            </a:r>
            <a:r>
              <a:rPr b="0" lang="zh-CN" sz="3600" spc="-1" strike="noStrike">
                <a:solidFill>
                  <a:srgbClr val="ffff00"/>
                </a:solidFill>
                <a:latin typeface="Garamond"/>
                <a:ea typeface="黑体"/>
              </a:rPr>
              <a:t>如 勃  艮第 康   沃   尔的 </a:t>
            </a:r>
            <a:r>
              <a:rPr b="0" lang="zh-CN" sz="3600" spc="-1" strike="noStrike">
                <a:solidFill>
                  <a:srgbClr val="ffffff"/>
                </a:solidFill>
                <a:latin typeface="Garamond"/>
                <a:ea typeface="黑体"/>
              </a:rPr>
              <a:t>居  民</a:t>
            </a:r>
            <a:r>
              <a:rPr b="0" lang="zh-CN" sz="3600" spc="-1" strike="noStrike">
                <a:solidFill>
                  <a:srgbClr val="ffff00"/>
                </a:solidFill>
                <a:latin typeface="Garamond"/>
                <a:ea typeface="黑体"/>
              </a:rPr>
              <a:t>，只是</a:t>
            </a:r>
            <a:r>
              <a:rPr b="0" lang="zh-CN" sz="3600" spc="-1" strike="noStrike">
                <a:solidFill>
                  <a:srgbClr val="ffffff"/>
                </a:solidFill>
                <a:latin typeface="Garamond"/>
                <a:ea typeface="黑体"/>
              </a:rPr>
              <a:t>最后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  <a:ea typeface="黑体"/>
              </a:rPr>
              <a:t>——</a:t>
            </a:r>
            <a:r>
              <a:rPr b="0" lang="zh-CN" sz="3600" spc="-1" strike="noStrike">
                <a:solidFill>
                  <a:srgbClr val="ffff00"/>
                </a:solidFill>
                <a:latin typeface="Garamond"/>
                <a:ea typeface="黑体"/>
              </a:rPr>
              <a:t>如果实在要说的话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  <a:ea typeface="黑体"/>
              </a:rPr>
              <a:t>——</a:t>
            </a:r>
            <a:r>
              <a:rPr b="0" lang="zh-CN" sz="3600" spc="-1" strike="noStrike">
                <a:solidFill>
                  <a:srgbClr val="ffff00"/>
                </a:solidFill>
                <a:latin typeface="Garamond"/>
                <a:ea typeface="黑体"/>
              </a:rPr>
              <a:t>才是</a:t>
            </a:r>
            <a:r>
              <a:rPr b="0" lang="zh-CN" sz="3600" spc="-1" strike="noStrike">
                <a:solidFill>
                  <a:srgbClr val="000000"/>
                </a:solidFill>
                <a:latin typeface="Garamond"/>
                <a:ea typeface="黑体"/>
              </a:rPr>
              <a:t>法兰西人或英吉利人</a:t>
            </a:r>
            <a:r>
              <a:rPr b="0" lang="zh-CN" sz="3600" spc="-1" strike="noStrike">
                <a:solidFill>
                  <a:srgbClr val="ffff00"/>
                </a:solidFill>
                <a:latin typeface="Garamond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Garamond"/>
                <a:ea typeface="黑体"/>
              </a:rPr>
              <a:t>            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  <a:ea typeface="黑体"/>
              </a:rPr>
              <a:t>——</a:t>
            </a:r>
            <a:r>
              <a:rPr b="0" lang="zh-CN" sz="3600" spc="-1" strike="noStrike">
                <a:solidFill>
                  <a:srgbClr val="ffff00"/>
                </a:solidFill>
                <a:latin typeface="Garamond"/>
                <a:ea typeface="黑体"/>
              </a:rPr>
              <a:t>斯塔夫里阿诺斯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  <a:ea typeface="黑体"/>
              </a:rPr>
              <a:t>《</a:t>
            </a:r>
            <a:r>
              <a:rPr b="0" lang="zh-CN" sz="3600" spc="-1" strike="noStrike">
                <a:solidFill>
                  <a:srgbClr val="ffff00"/>
                </a:solidFill>
                <a:latin typeface="Garamond"/>
                <a:ea typeface="黑体"/>
              </a:rPr>
              <a:t>全球通史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  <a:ea typeface="黑体"/>
              </a:rPr>
              <a:t>》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71280" y="18900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思考：周朝的宗法分封与商代氏族分封的内外服制相比</a:t>
            </a:r>
            <a:r>
              <a:rPr b="1" lang="zh-TW" sz="3600" spc="-1" strike="noStrike">
                <a:solidFill>
                  <a:srgbClr val="ffffff"/>
                </a:solidFill>
                <a:latin typeface="Garamond"/>
              </a:rPr>
              <a:t>有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什么进步</a:t>
            </a:r>
            <a:r>
              <a:rPr b="1" lang="zh-TW" sz="3600" spc="-1" strike="noStrike">
                <a:solidFill>
                  <a:srgbClr val="ffffff"/>
                </a:solidFill>
                <a:latin typeface="Garamond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357720" y="1268280"/>
            <a:ext cx="5643360" cy="2043720"/>
          </a:xfrm>
          <a:prstGeom prst="rect">
            <a:avLst/>
          </a:prstGeom>
          <a:solidFill>
            <a:srgbClr val="c000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周朝宗法分封制度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亲戚和亲信征服统治地方古国部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统治方式以周族先进制度为标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对</a:t>
            </a:r>
            <a:r>
              <a:rPr b="1" lang="zh-TW" sz="3200" spc="-1" strike="noStrike">
                <a:solidFill>
                  <a:srgbClr val="ffffff"/>
                </a:solidFill>
                <a:latin typeface="Garamond"/>
              </a:rPr>
              <a:t>天子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与诸</a:t>
            </a:r>
            <a:r>
              <a:rPr b="1" lang="zh-TW" sz="3200" spc="-1" strike="noStrike">
                <a:solidFill>
                  <a:srgbClr val="ffffff"/>
                </a:solidFill>
                <a:latin typeface="Garamond"/>
              </a:rPr>
              <a:t>侯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、诸侯与大夫等</a:t>
            </a:r>
            <a:r>
              <a:rPr b="1" lang="zh-TW" sz="3200" spc="-1" strike="noStrike">
                <a:solidFill>
                  <a:srgbClr val="ffffff"/>
                </a:solidFill>
                <a:latin typeface="Garamond"/>
              </a:rPr>
              <a:t>的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关系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权力、地位、义务等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更加</a:t>
            </a:r>
            <a:r>
              <a:rPr b="1" lang="zh-TW" sz="3200" spc="-1" strike="noStrike">
                <a:solidFill>
                  <a:srgbClr val="ffffff"/>
                </a:solidFill>
                <a:latin typeface="Garamond"/>
              </a:rPr>
              <a:t>明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确严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堯舜3"/>
          <p:cNvPicPr/>
          <p:nvPr/>
        </p:nvPicPr>
        <p:blipFill>
          <a:blip r:embed="rId1"/>
          <a:stretch/>
        </p:blipFill>
        <p:spPr>
          <a:xfrm>
            <a:off x="324000" y="1928880"/>
            <a:ext cx="2895480" cy="26589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9"/>
          <p:cNvSpPr/>
          <p:nvPr/>
        </p:nvSpPr>
        <p:spPr>
          <a:xfrm>
            <a:off x="2613600" y="1232640"/>
            <a:ext cx="478800" cy="106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共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971640" y="5157720"/>
            <a:ext cx="6529320" cy="1556280"/>
          </a:xfrm>
          <a:prstGeom prst="rect">
            <a:avLst/>
          </a:prstGeom>
          <a:solidFill>
            <a:srgbClr val="c0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宗法分封制的作用：巩固周朝统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扩大周朝疆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促进文明交流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>
            <a:hlinkClick r:id="rId1" action="ppaction://hlinksldjump"/>
          </p:cNvPr>
          <p:cNvSpPr/>
          <p:nvPr/>
        </p:nvSpPr>
        <p:spPr>
          <a:xfrm>
            <a:off x="7242120" y="2227320"/>
            <a:ext cx="792360" cy="301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Garamond"/>
              </a:rPr>
              <a:t>民族国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4421160" y="1959120"/>
            <a:ext cx="237492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政治统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疆域确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4386240" y="3224160"/>
            <a:ext cx="2409840" cy="703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aramond"/>
              </a:rPr>
              <a:t>巴黎（伦敦）（马德里）（里斯本）中心地位确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4421160" y="4592520"/>
            <a:ext cx="2401920" cy="703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aramond"/>
              </a:rPr>
              <a:t>法语（英语）（西班牙语）（葡萄牙语）民族文化发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8250120" y="2873520"/>
            <a:ext cx="569880" cy="1800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君主专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385920" y="2095560"/>
            <a:ext cx="168408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百年战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431640" y="3679920"/>
            <a:ext cx="162252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玫瑰战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2735640" y="1855800"/>
            <a:ext cx="667800" cy="1224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法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2746800" y="3279600"/>
            <a:ext cx="667800" cy="1224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英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1"/>
          <p:cNvSpPr/>
          <p:nvPr/>
        </p:nvSpPr>
        <p:spPr>
          <a:xfrm>
            <a:off x="2058840" y="2333520"/>
            <a:ext cx="689040" cy="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2"/>
          <p:cNvSpPr/>
          <p:nvPr/>
        </p:nvSpPr>
        <p:spPr>
          <a:xfrm>
            <a:off x="1403280" y="2678040"/>
            <a:ext cx="1344600" cy="1096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>
            <a:off x="2098800" y="4019400"/>
            <a:ext cx="744480" cy="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6796080" y="3763440"/>
            <a:ext cx="49212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8034480" y="3774960"/>
            <a:ext cx="247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6"/>
          <p:cNvGrpSpPr/>
          <p:nvPr/>
        </p:nvGrpSpPr>
        <p:grpSpPr>
          <a:xfrm>
            <a:off x="3594240" y="2208240"/>
            <a:ext cx="149040" cy="3160440"/>
            <a:chOff x="3594240" y="2208240"/>
            <a:chExt cx="149040" cy="3160440"/>
          </a:xfrm>
        </p:grpSpPr>
        <p:sp>
          <p:nvSpPr>
            <p:cNvPr id="274" name="Line 17"/>
            <p:cNvSpPr/>
            <p:nvPr/>
          </p:nvSpPr>
          <p:spPr>
            <a:xfrm>
              <a:off x="3594240" y="5368680"/>
              <a:ext cx="1479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8"/>
            <p:cNvSpPr/>
            <p:nvPr/>
          </p:nvSpPr>
          <p:spPr>
            <a:xfrm>
              <a:off x="3594240" y="2208240"/>
              <a:ext cx="149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3742200" y="2208240"/>
              <a:ext cx="0" cy="3160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Line 20"/>
          <p:cNvSpPr/>
          <p:nvPr/>
        </p:nvSpPr>
        <p:spPr>
          <a:xfrm>
            <a:off x="3705120" y="3679920"/>
            <a:ext cx="505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21"/>
          <p:cNvGrpSpPr/>
          <p:nvPr/>
        </p:nvGrpSpPr>
        <p:grpSpPr>
          <a:xfrm>
            <a:off x="4154760" y="2409840"/>
            <a:ext cx="301320" cy="2352600"/>
            <a:chOff x="4154760" y="2409840"/>
            <a:chExt cx="301320" cy="2352600"/>
          </a:xfrm>
        </p:grpSpPr>
        <p:sp>
          <p:nvSpPr>
            <p:cNvPr id="279" name="Line 22"/>
            <p:cNvSpPr/>
            <p:nvPr/>
          </p:nvSpPr>
          <p:spPr>
            <a:xfrm flipH="1">
              <a:off x="4156560" y="4762440"/>
              <a:ext cx="299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23"/>
            <p:cNvSpPr/>
            <p:nvPr/>
          </p:nvSpPr>
          <p:spPr>
            <a:xfrm flipH="1">
              <a:off x="4154760" y="2409840"/>
              <a:ext cx="3013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>
              <a:off x="4156560" y="2409840"/>
              <a:ext cx="0" cy="235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25"/>
          <p:cNvGrpSpPr/>
          <p:nvPr/>
        </p:nvGrpSpPr>
        <p:grpSpPr>
          <a:xfrm>
            <a:off x="6796080" y="2523960"/>
            <a:ext cx="200160" cy="2500560"/>
            <a:chOff x="6796080" y="2523960"/>
            <a:chExt cx="200160" cy="2500560"/>
          </a:xfrm>
        </p:grpSpPr>
        <p:sp>
          <p:nvSpPr>
            <p:cNvPr id="283" name="Line 26"/>
            <p:cNvSpPr/>
            <p:nvPr/>
          </p:nvSpPr>
          <p:spPr>
            <a:xfrm>
              <a:off x="6796080" y="5024520"/>
              <a:ext cx="198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6796080" y="2523960"/>
              <a:ext cx="2001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8"/>
            <p:cNvSpPr/>
            <p:nvPr/>
          </p:nvSpPr>
          <p:spPr>
            <a:xfrm>
              <a:off x="6994800" y="2523960"/>
              <a:ext cx="0" cy="2500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文本框 1"/>
          <p:cNvSpPr/>
          <p:nvPr/>
        </p:nvSpPr>
        <p:spPr>
          <a:xfrm>
            <a:off x="458640" y="45252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Garamond"/>
              </a:rPr>
              <a:t>第一讲        近代西方民族国家的形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417600" y="4973760"/>
            <a:ext cx="162216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光复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2408400" y="4640400"/>
            <a:ext cx="961920" cy="3988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aramond"/>
              </a:rPr>
              <a:t>西班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2390760" y="5452920"/>
            <a:ext cx="963720" cy="3988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aramond"/>
              </a:rPr>
              <a:t>葡萄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肘形连接符 3"/>
          <p:cNvCxnSpPr>
            <a:stCxn id="287" idx="3"/>
            <a:endCxn id="288" idx="1"/>
          </p:cNvCxnSpPr>
          <p:nvPr/>
        </p:nvCxnSpPr>
        <p:spPr>
          <a:xfrm flipV="1">
            <a:off x="2039760" y="4839840"/>
            <a:ext cx="369360" cy="396000"/>
          </a:xfrm>
          <a:prstGeom prst="bentConnector3">
            <a:avLst>
              <a:gd name="adj1" fmla="val 49951"/>
            </a:avLst>
          </a:prstGeom>
          <a:ln w="38160">
            <a:solidFill>
              <a:srgbClr val="7575d1"/>
            </a:solidFill>
            <a:round/>
            <a:tailEnd len="med" type="triangle" w="med"/>
          </a:ln>
        </p:spPr>
      </p:cxnSp>
      <p:cxnSp>
        <p:nvCxnSpPr>
          <p:cNvPr id="291" name="肘形连接符 6"/>
          <p:cNvCxnSpPr>
            <a:stCxn id="287" idx="3"/>
            <a:endCxn id="289" idx="1"/>
          </p:cNvCxnSpPr>
          <p:nvPr/>
        </p:nvCxnSpPr>
        <p:spPr>
          <a:xfrm>
            <a:off x="2039400" y="5235480"/>
            <a:ext cx="351360" cy="418320"/>
          </a:xfrm>
          <a:prstGeom prst="bentConnector3">
            <a:avLst>
              <a:gd name="adj1" fmla="val 49948"/>
            </a:avLst>
          </a:prstGeom>
          <a:ln w="38160">
            <a:solidFill>
              <a:srgbClr val="7575d1"/>
            </a:solidFill>
            <a:round/>
            <a:tailEnd len="med" type="triangle" w="med"/>
          </a:ln>
        </p:spPr>
      </p:cxnSp>
      <p:cxnSp>
        <p:nvCxnSpPr>
          <p:cNvPr id="292" name="肘形连接符 8"/>
          <p:cNvCxnSpPr>
            <a:stCxn id="288" idx="3"/>
            <a:endCxn id="289" idx="3"/>
          </p:cNvCxnSpPr>
          <p:nvPr/>
        </p:nvCxnSpPr>
        <p:spPr>
          <a:xfrm flipH="1">
            <a:off x="3354120" y="4840200"/>
            <a:ext cx="16560" cy="813600"/>
          </a:xfrm>
          <a:prstGeom prst="bentConnector3">
            <a:avLst>
              <a:gd name="adj1" fmla="val -1377777"/>
            </a:avLst>
          </a:prstGeom>
          <a:ln w="38160">
            <a:solidFill>
              <a:srgbClr val="7575d1"/>
            </a:solidFill>
            <a:round/>
          </a:ln>
        </p:spPr>
      </p:cxnSp>
    </p:spTree>
  </p:cSld>
  <p:transition>
    <p:blinds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88920"/>
            <a:ext cx="896472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一）民族国家君主专制统治产生历史背景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4—16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世纪西方由中世纪向近代社会转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972720"/>
            <a:ext cx="91440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经济阶级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1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世纪以来商品经济发展，资本主义萌芽产生和城市兴起、市民崛起；重商主义，新航路开辟，早期殖民扩张等需要对内统一市场、对外保护商业利益和殖民扩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）资产阶级和世俗王权都渴望统一集权结成同盟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城市商业资产阶级兴起需要强大王权提供保护支持；王权需要资产阶级财富和才能支持摆脱教权控制和削弱贵族限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商品经济也促使自给自足的庄园制衰微、封君封臣关系松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科技：火药传入、火器进步，促使旧贵族骑士的军事价值大大下降，割据的封建城堡不堪一击，为打破封建割据和反对教权提供了可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50920" y="333360"/>
            <a:ext cx="8642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政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世纪西欧英法的百年战争、英国玫瑰战争、葡萄牙西班牙的收复失地运动皆结束，战争中封建贵族丧失昔日权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不得不依靠王权来维持自己的地位，形成贵族官僚化潮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促使贵族割据势力削弱，统一民族国家形成，促进专制王权加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思想：伴随文艺复兴、宗教改革，人文主义兴起，寻求国家统一、君权至上理论出现。马基雅维利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君主论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四、君主专制评价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28760" y="124776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近代民族国家兴起和强大过程中，欧洲君主专制统治起过进步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促进民族国家形成：打破了封建割据局面；开始出现民族概念；促进常备军的产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促进经济发展：国家统一促进资本主义的内外商业贸易发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王权加强：成为名副其实的“一国之君”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世纪盛极而衰，逐渐成为经济和社会发展的障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108000" y="189000"/>
            <a:ext cx="543888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大革命前典型的近代西欧专制国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专制势力大、等级森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法兰西国王路易十四，史称路易大帝。他生于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38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4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岁时即位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6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岁时亲政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71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7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岁时去世。路易十四在位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，亲政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，以其雄才大略，成就了法国在十七世纪欧洲的强势地位，缔造了“路易十四时代”。无论生前死后，路易十四都以其超凡的文治武功获得众多崇高的荣誉，其中“太阳王”是路易十四最响亮的称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http://a0.att.hudong.com/57/42/01300000203503128288425269610_s.jpg"/>
          <p:cNvPicPr/>
          <p:nvPr/>
        </p:nvPicPr>
        <p:blipFill>
          <a:blip r:embed="rId1"/>
          <a:stretch/>
        </p:blipFill>
        <p:spPr>
          <a:xfrm>
            <a:off x="5429160" y="642960"/>
            <a:ext cx="3372120" cy="5357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285480" y="1828800"/>
            <a:ext cx="8643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政治：贵族变成国王仆人；天主教会变成听命于王权的组织；激增常备军规模、开始建立常备警察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所有的权力都集中到路易十四手中，为政勤勉，事无巨细都亲自过问。善于选择亲信大臣负责财政军事。在他的统治下，没有首相，也不开三级会议，甚至还取消了高级法院对国王大赦的指摘权。他的至理名言就是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朕即国家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路易十四坚信一个国家的宗教应该绝对统一。法国国王亨利四世与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598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颁布的宽容的南特赦令被路易十四完全推翻。他对新教教徒施加压力，摧毁胡格诺派的教堂，关闭新教的学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5840" y="267840"/>
            <a:ext cx="840096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7-18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世纪君主专制达到巅峰西欧典型：法国国王路易十四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643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日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 1715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日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“朕即国家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为什么法国能够成为启蒙运动中心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经济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法国资本主义发展迅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政治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矛盾尖锐：第三等级的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资级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崛起，深受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专制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阻碍：宗教自由被废除、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天主教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法国势力大；严格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等级制度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思想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英国制度的示范；借鉴吸收和发展洛克、斯宾诺莎等人思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科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自然科学、哲学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世纪笛卡尔为代表的理性主义哲学开创）飞速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026">
            <a:hlinkClick r:id="rId1" action="ppaction://hlinksldjump"/>
          </p:cNvPr>
          <p:cNvSpPr/>
          <p:nvPr/>
        </p:nvSpPr>
        <p:spPr>
          <a:xfrm>
            <a:off x="0" y="176040"/>
            <a:ext cx="428940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、法国大革命爆发的原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27"/>
          <p:cNvSpPr/>
          <p:nvPr/>
        </p:nvSpPr>
        <p:spPr>
          <a:xfrm>
            <a:off x="0" y="857160"/>
            <a:ext cx="22096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根本原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29">
            <a:hlinkClick r:id="rId2" action="ppaction://hlinksldjump"/>
          </p:cNvPr>
          <p:cNvSpPr/>
          <p:nvPr/>
        </p:nvSpPr>
        <p:spPr>
          <a:xfrm>
            <a:off x="2286000" y="785880"/>
            <a:ext cx="664380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世纪末法国资本主义发展迅速、资产阶级力量增强但受到封建制度阻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31"/>
          <p:cNvSpPr/>
          <p:nvPr/>
        </p:nvSpPr>
        <p:spPr>
          <a:xfrm>
            <a:off x="0" y="1571760"/>
            <a:ext cx="8786880" cy="1191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法国封建专制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世纪衰落成为阻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政治腐败：路易十四至十六奢侈享乐、好大喜功、连年征战，尤其援美独立，国库空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社会不公：等级对立（第一与第二等级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教士与贵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享有特权，第三等级平民被剥削压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032"/>
          <p:cNvSpPr/>
          <p:nvPr/>
        </p:nvSpPr>
        <p:spPr>
          <a:xfrm>
            <a:off x="0" y="6286680"/>
            <a:ext cx="62866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封建地主制农业阻碍资本主义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053"/>
          <p:cNvSpPr/>
          <p:nvPr/>
        </p:nvSpPr>
        <p:spPr>
          <a:xfrm>
            <a:off x="2233440" y="5700600"/>
            <a:ext cx="152424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地租贡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52"/>
          <p:cNvSpPr/>
          <p:nvPr/>
        </p:nvSpPr>
        <p:spPr>
          <a:xfrm>
            <a:off x="2233440" y="4938840"/>
            <a:ext cx="152424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生活困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051"/>
          <p:cNvSpPr/>
          <p:nvPr/>
        </p:nvSpPr>
        <p:spPr>
          <a:xfrm>
            <a:off x="2233440" y="4176720"/>
            <a:ext cx="152424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无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054"/>
          <p:cNvSpPr/>
          <p:nvPr/>
        </p:nvSpPr>
        <p:spPr>
          <a:xfrm>
            <a:off x="5510160" y="4406760"/>
            <a:ext cx="1600200" cy="1572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土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高官厚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无须交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39"/>
          <p:cNvSpPr/>
          <p:nvPr/>
        </p:nvSpPr>
        <p:spPr>
          <a:xfrm>
            <a:off x="557280" y="4176720"/>
            <a:ext cx="167616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资产阶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040"/>
          <p:cNvSpPr/>
          <p:nvPr/>
        </p:nvSpPr>
        <p:spPr>
          <a:xfrm>
            <a:off x="557280" y="4700520"/>
            <a:ext cx="167616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工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41"/>
          <p:cNvSpPr/>
          <p:nvPr/>
        </p:nvSpPr>
        <p:spPr>
          <a:xfrm>
            <a:off x="557280" y="5167440"/>
            <a:ext cx="167616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平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42"/>
          <p:cNvSpPr/>
          <p:nvPr/>
        </p:nvSpPr>
        <p:spPr>
          <a:xfrm>
            <a:off x="557280" y="5700600"/>
            <a:ext cx="167616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农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045"/>
          <p:cNvSpPr/>
          <p:nvPr/>
        </p:nvSpPr>
        <p:spPr>
          <a:xfrm>
            <a:off x="3224160" y="3800520"/>
            <a:ext cx="2438280" cy="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046"/>
          <p:cNvSpPr/>
          <p:nvPr/>
        </p:nvSpPr>
        <p:spPr>
          <a:xfrm>
            <a:off x="3833640" y="4481640"/>
            <a:ext cx="1600200" cy="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047"/>
          <p:cNvSpPr/>
          <p:nvPr/>
        </p:nvSpPr>
        <p:spPr>
          <a:xfrm>
            <a:off x="3757680" y="5167440"/>
            <a:ext cx="1676160" cy="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048"/>
          <p:cNvSpPr/>
          <p:nvPr/>
        </p:nvSpPr>
        <p:spPr>
          <a:xfrm>
            <a:off x="3833640" y="5929200"/>
            <a:ext cx="1600200" cy="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44"/>
          <p:cNvSpPr/>
          <p:nvPr/>
        </p:nvSpPr>
        <p:spPr>
          <a:xfrm>
            <a:off x="7072200" y="4691160"/>
            <a:ext cx="1524240" cy="101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教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贵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038"/>
          <p:cNvSpPr/>
          <p:nvPr/>
        </p:nvSpPr>
        <p:spPr>
          <a:xfrm>
            <a:off x="5586480" y="3571920"/>
            <a:ext cx="2286000" cy="459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第一、二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37"/>
          <p:cNvSpPr/>
          <p:nvPr/>
        </p:nvSpPr>
        <p:spPr>
          <a:xfrm>
            <a:off x="1623960" y="3571920"/>
            <a:ext cx="1676520" cy="459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第三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1026"/>
          <p:cNvSpPr/>
          <p:nvPr/>
        </p:nvSpPr>
        <p:spPr>
          <a:xfrm>
            <a:off x="214200" y="1598760"/>
            <a:ext cx="195912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导火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027"/>
          <p:cNvSpPr/>
          <p:nvPr/>
        </p:nvSpPr>
        <p:spPr>
          <a:xfrm>
            <a:off x="2286000" y="1598760"/>
            <a:ext cx="664380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缓解财政危机召开的三级会议激化特权与第三等级矛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029"/>
          <p:cNvSpPr/>
          <p:nvPr/>
        </p:nvSpPr>
        <p:spPr>
          <a:xfrm>
            <a:off x="2647800" y="3200400"/>
            <a:ext cx="83844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国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30"/>
          <p:cNvSpPr/>
          <p:nvPr/>
        </p:nvSpPr>
        <p:spPr>
          <a:xfrm>
            <a:off x="5881680" y="3200400"/>
            <a:ext cx="29764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第三等级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网球场宣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31"/>
          <p:cNvSpPr/>
          <p:nvPr/>
        </p:nvSpPr>
        <p:spPr>
          <a:xfrm>
            <a:off x="2419200" y="3733920"/>
            <a:ext cx="1295640" cy="1381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企图对第三等级增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32"/>
          <p:cNvSpPr/>
          <p:nvPr/>
        </p:nvSpPr>
        <p:spPr>
          <a:xfrm>
            <a:off x="5958000" y="3809880"/>
            <a:ext cx="297180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要求制宪法限王权，行改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33"/>
          <p:cNvSpPr/>
          <p:nvPr/>
        </p:nvSpPr>
        <p:spPr>
          <a:xfrm>
            <a:off x="5958000" y="4724280"/>
            <a:ext cx="297180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反对陈旧开会方式和表决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37"/>
          <p:cNvSpPr/>
          <p:nvPr/>
        </p:nvSpPr>
        <p:spPr>
          <a:xfrm>
            <a:off x="4734000" y="5562720"/>
            <a:ext cx="8380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矛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038"/>
          <p:cNvSpPr/>
          <p:nvPr/>
        </p:nvSpPr>
        <p:spPr>
          <a:xfrm>
            <a:off x="4734000" y="6324480"/>
            <a:ext cx="8380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革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3" name="AutoShape 1039"/>
          <p:cNvCxnSpPr>
            <a:stCxn id="328" idx="2"/>
            <a:endCxn id="331" idx="1"/>
          </p:cNvCxnSpPr>
          <p:nvPr/>
        </p:nvCxnSpPr>
        <p:spPr>
          <a:xfrm flipH="1" rot="16200000">
            <a:off x="3748680" y="4805640"/>
            <a:ext cx="304200" cy="1667520"/>
          </a:xfrm>
          <a:prstGeom prst="bent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334" name="AutoShape 1040"/>
          <p:cNvCxnSpPr>
            <a:stCxn id="330" idx="2"/>
            <a:endCxn id="331" idx="3"/>
          </p:cNvCxnSpPr>
          <p:nvPr/>
        </p:nvCxnSpPr>
        <p:spPr>
          <a:xfrm rot="5400000">
            <a:off x="6388920" y="4736880"/>
            <a:ext cx="237240" cy="1872360"/>
          </a:xfrm>
          <a:prstGeom prst="bent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335" name="Line 1041"/>
          <p:cNvSpPr/>
          <p:nvPr/>
        </p:nvSpPr>
        <p:spPr>
          <a:xfrm>
            <a:off x="5114880" y="60199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AutoShape 1043"/>
          <p:cNvCxnSpPr>
            <a:stCxn id="325" idx="2"/>
            <a:endCxn id="326" idx="0"/>
          </p:cNvCxnSpPr>
          <p:nvPr/>
        </p:nvCxnSpPr>
        <p:spPr>
          <a:xfrm rot="5400000">
            <a:off x="3951720" y="1543680"/>
            <a:ext cx="772200" cy="2542320"/>
          </a:xfrm>
          <a:prstGeom prst="bentConnector3">
            <a:avLst>
              <a:gd name="adj1" fmla="val 50000"/>
            </a:avLst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337" name="AutoShape 1044"/>
          <p:cNvCxnSpPr>
            <a:stCxn id="325" idx="2"/>
            <a:endCxn id="327" idx="0"/>
          </p:cNvCxnSpPr>
          <p:nvPr/>
        </p:nvCxnSpPr>
        <p:spPr>
          <a:xfrm flipH="1" rot="16200000">
            <a:off x="6103800" y="1933200"/>
            <a:ext cx="772200" cy="1762560"/>
          </a:xfrm>
          <a:prstGeom prst="bentConnector3">
            <a:avLst>
              <a:gd name="adj1" fmla="val 50000"/>
            </a:avLst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338" name="Text Box 1035"/>
          <p:cNvSpPr/>
          <p:nvPr/>
        </p:nvSpPr>
        <p:spPr>
          <a:xfrm>
            <a:off x="214200" y="357120"/>
            <a:ext cx="6286680" cy="1015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启蒙运动中心，为大革命作充分思想准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美国独立战争促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矩形 1"/>
          <p:cNvSpPr/>
          <p:nvPr/>
        </p:nvSpPr>
        <p:spPr>
          <a:xfrm>
            <a:off x="2551320" y="428760"/>
            <a:ext cx="10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三、法国大革命的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意义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"/>
          <p:cNvSpPr/>
          <p:nvPr/>
        </p:nvSpPr>
        <p:spPr>
          <a:xfrm>
            <a:off x="857160" y="1285920"/>
            <a:ext cx="78580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对法国：结束法国一千多年封建制度：</a:t>
            </a:r>
            <a:r>
              <a:rPr b="0" lang="zh-CN" sz="3200" spc="-1" strike="noStrike">
                <a:solidFill>
                  <a:srgbClr val="ffffff"/>
                </a:solidFill>
                <a:latin typeface="Century Gothic"/>
              </a:rPr>
              <a:t>君主专制被推翻；等级制度被废除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对世界：震撼整个欧洲大陆封建秩序，为此后各国革命树立榜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革命模式、传播启蒙思想、</a:t>
            </a:r>
            <a:r>
              <a:rPr b="0" lang="zh-CN" sz="3200" spc="-1" strike="noStrike">
                <a:solidFill>
                  <a:srgbClr val="ffffff"/>
                </a:solidFill>
                <a:latin typeface="Century Gothic"/>
              </a:rPr>
              <a:t>《人权宣言》宣布了天赋人权和公民平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史实：日本、中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分封制的演变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3·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上海高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有学者认为，自中国古代进入文明社会，先后出现了“方国联盟”等三种政治统治模式。据此，与右图匹配的正确选项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郡县制度、封邦建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行省制度、封邦建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行省制度、郡县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封邦建国、郡县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290160" y="533160"/>
            <a:ext cx="8674200" cy="1463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（二）如何有效备考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知识层面的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2"/>
          <p:cNvSpPr/>
          <p:nvPr/>
        </p:nvSpPr>
        <p:spPr>
          <a:xfrm>
            <a:off x="320760" y="1996920"/>
            <a:ext cx="83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一、研究高考题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蕴含的学术动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3"/>
          <p:cNvSpPr/>
          <p:nvPr/>
        </p:nvSpPr>
        <p:spPr>
          <a:xfrm>
            <a:off x="684360" y="2924280"/>
            <a:ext cx="8013600" cy="947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、考点中，高考命题者所体现的对该知识的专业解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、考点中，高考命题者所表达的对教材知识的纠正或补充或拓展或深化之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2"/>
          <p:cNvSpPr/>
          <p:nvPr/>
        </p:nvSpPr>
        <p:spPr>
          <a:xfrm>
            <a:off x="1979640" y="514368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ff7a"/>
                </a:solidFill>
                <a:latin typeface="华文彩云"/>
                <a:ea typeface="华文彩云"/>
              </a:rPr>
              <a:t>教材不是考试命题的依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古代史需要关注的学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0" y="16002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早期政治文明的演变与对中国后世的影响：国家形态与制度演进、早期制度对后世政治制度、思想文化、社会结构的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专制集权制度演变的复杂性、专制集权制度的优点与人治问题、官僚政治（选拔、考核、监察）、专制集权下官与民的关系（农民负担、工商地位、地主地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250920" y="549360"/>
            <a:ext cx="877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古代精耕细作的推广问题；自然经济的类型问题（小农、田庄）；赋役制度、人身依附与地主经营模式；商品经济（工商业）的演变阶段性；抑商的复杂性；工匠地位、官营手工业与民营手工业发展的关系；朝贡贸易；货币演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中国传统文化的来源与传承：追溯夏商周三代、战国时期百家学说的融合、黄老道家与老庄道家、道法与儒法；汉代儒学的特点与问题、魏晋玄学、隋唐时期儒学复兴、理学兴起原因、心学与李贽、事功学派与经世致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古希腊人文精神的来源与传承；雅典民主制度与近代民主理念的区别；罗马法的演变与罗马国家演变关系；公民法与万民法的关系；罗马法对后世影响的来源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文本框 2"/>
          <p:cNvSpPr/>
          <p:nvPr/>
        </p:nvSpPr>
        <p:spPr>
          <a:xfrm>
            <a:off x="320760" y="471600"/>
            <a:ext cx="83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二、还原历史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构建完整知识体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3"/>
          <p:cNvSpPr/>
          <p:nvPr/>
        </p:nvSpPr>
        <p:spPr>
          <a:xfrm>
            <a:off x="684360" y="1398600"/>
            <a:ext cx="8013600" cy="1373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、备课时，从命题动向启发，关注相关学术前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、备课时，多比较不同版本教材，寻找相关学术动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、备课时，不拘泥于课本教材，尽可能还原历史，构建较完整的知识体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文本框 2"/>
          <p:cNvSpPr/>
          <p:nvPr/>
        </p:nvSpPr>
        <p:spPr>
          <a:xfrm>
            <a:off x="320760" y="471600"/>
            <a:ext cx="837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三、运用历史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从完整知识体系角度来尝试模拟命题与教学生把握命题立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3"/>
          <p:cNvSpPr/>
          <p:nvPr/>
        </p:nvSpPr>
        <p:spPr>
          <a:xfrm>
            <a:off x="500040" y="2708280"/>
            <a:ext cx="8013600" cy="22269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、命题时，从命题动向启发，关注相关学术前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、命题时，多比较不同版本教材，寻找相关学术动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、命题时，不拘泥于课本教材，尽可能还原历史，体现较完整的知识体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、提高学生解题能力时，多引导学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从完整知识体系角度来学生把握命题立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883880" y="1196640"/>
            <a:ext cx="5613480" cy="81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博学精思、厚积薄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3"/>
          <p:cNvSpPr/>
          <p:nvPr/>
        </p:nvSpPr>
        <p:spPr>
          <a:xfrm>
            <a:off x="684360" y="2924280"/>
            <a:ext cx="8013600" cy="1373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教师的成长，在于工作过程中，不断学习、勤于思考，只有博学精思，方可厚积薄发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              ——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与君共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9640" y="3663720"/>
            <a:ext cx="746784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据说周公东征以后，“封建亲戚，以蕃屏周”，“兼制天下，立七十一国。”材料中的“封建”是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建立封建制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分封诸侯国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委任官职．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实行宗法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176040" y="189000"/>
            <a:ext cx="8964720" cy="764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Garamond"/>
              </a:rPr>
              <a:t>二、宗法的新运用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Garamond"/>
              </a:rPr>
              <a:t>：周朝的宗法分封制度（封建制度）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1" lang="zh-CN" sz="4400" spc="-1" strike="noStrike">
                <a:solidFill>
                  <a:srgbClr val="ffffff"/>
                </a:solidFill>
                <a:latin typeface="Garamond"/>
              </a:rPr>
              <a:t>分封亲戚直接统治臣国之民、周人武装征服臣国、大量殖民周民、按周制统一臣国的治理制度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（二）宗法制的新运用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——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嫡长子继承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宗法制的核心是血缘为核心的继承制度。起源于父系家长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西周宗法制特点是嫡长子继承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宗法制影响深远，至今仍有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45720"/>
            <a:ext cx="7467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民版的描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20060429172455909"/>
          <p:cNvPicPr/>
          <p:nvPr/>
        </p:nvPicPr>
        <p:blipFill>
          <a:blip r:embed="rId1"/>
          <a:srcRect l="29584" t="36280" r="4002" b="4813"/>
          <a:stretch/>
        </p:blipFill>
        <p:spPr>
          <a:xfrm>
            <a:off x="108000" y="765000"/>
            <a:ext cx="4608360" cy="6048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20060429172455722"/>
          <p:cNvPicPr/>
          <p:nvPr/>
        </p:nvPicPr>
        <p:blipFill>
          <a:blip r:embed="rId2">
            <a:lum contrast="18000"/>
          </a:blip>
          <a:srcRect l="5816" t="9502" r="26560" b="39001"/>
          <a:stretch/>
        </p:blipFill>
        <p:spPr>
          <a:xfrm>
            <a:off x="4789440" y="765000"/>
            <a:ext cx="4249800" cy="6048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4973400" y="-2700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</a:rPr>
              <a:t>人民版认为国家是什么时候开始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</a:rPr>
              <a:t>概括其特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22:52:22Z</dcterms:created>
  <dc:creator>User</dc:creator>
  <dc:description/>
  <cp:keywords/>
  <dc:language>en-US</dc:language>
  <cp:lastModifiedBy>Administrator</cp:lastModifiedBy>
  <dcterms:modified xsi:type="dcterms:W3CDTF">2017-10-23T09:00:35Z</dcterms:modified>
  <cp:revision>140</cp:revision>
  <dc:subject/>
  <dc:title>集合的概念与运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