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D1E-4C93-4006-AB83-FAAF5D0B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9C6-CF57-411E-B1E9-4A5202EC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7BFAE-01FC-4E66-9FAA-E32BA7DB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F8D91-CEB0-4C1B-B838-9AB8842C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6085D-755D-4229-9674-977963A4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173A3-B649-4782-96E0-CEE1F5B0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995F8-D294-45FC-BD4F-8CB02042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0AF81-1828-4527-8A42-55A4C101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262B6-912A-43CA-A224-ABBD5A69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79B8E-DC9C-41FD-B2DB-1E52F373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97EA4-FCEE-4950-9641-1086D717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A52EF-42DE-451F-9D07-50885CAE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14E-6DD4-4998-8C11-52BA03CE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9A62A-6637-4A0C-B3A1-D6D7B28A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917E2-AF70-4FFE-A6ED-456255F9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D9270-6D65-401C-B3AC-1AF992E2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4B757-D8F1-4A84-8D63-4392B227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B4E0B-1AE9-4DFA-8165-058EEAC9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0D6A6-2CFE-4B29-8D46-AF1600CD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BB5E1-E26C-4A9A-B5F0-AEF24934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B4808-0CFC-443B-8E4E-59F66287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D36DA-B100-4D0A-90A4-E98ED3C2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495EA-5EE9-4514-9DED-35417AA6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D95-48F6-4A67-A1FF-B93D3F92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FE3F4-B0FD-4182-930E-EE9FB469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59E28-A0F3-4B48-A4A4-167E2374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68F16-4647-496A-8A9C-E2BC747B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4AA8E-4B0A-438C-9C59-48A88D8E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68884-9522-4E22-8FE4-BA62A533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DA1C6-75FC-403A-AE55-94C0E2AA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56708-CBC9-443A-9B3E-5489DD8D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A16A7-E200-4A30-B691-825BCFDB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A149C-BF5A-47E9-80EA-0786F36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83D96-4B89-4C58-9DCE-A7982735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52DA-0F83-424E-A8D3-A0E34B6F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81CFA-F6EF-430E-9F8D-C02005BB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8601C-F58F-4935-A753-F7EB43C9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3288C-0D94-4AF8-8F18-D9A673FB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8E8F-A5AC-4F7A-ABEA-13B0CE6E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3118-5CE8-44C8-9960-D88041F4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45DC-508C-4466-AA44-E4D53972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376F-F728-4873-A4D7-983A2B0A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42DF-6C29-458F-BD4B-C09A3D2C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5D89-4AF3-4A6E-8879-65364205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A95-3719-442F-971F-AB699B92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0B68-0D7F-4686-A7C0-1F1F084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75C6-9BBA-450F-864B-2A2AF7B1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0769-5EFF-46D7-A20D-509CA2D9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4213-4262-461D-9A10-D1F0B2B8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AAEC-3D5D-4038-9DF7-6CEC54B2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2A29-E9D9-4C77-BC7F-E8DC365A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AF762-4163-4339-ABF8-EDEC902C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F227-5976-4D2A-AD6C-4C9262AC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4B17B-5320-4905-A415-EA08CC01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30AD-6CA7-4798-87C1-A5C5B7CE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911-84A2-466D-8784-0FF09AB3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7AB7-E2CF-49DE-A300-F84A9660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7E24-C2B7-4C4C-922D-FC14D6A5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BD17-5A59-4FF6-AF2B-88C7D68D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3267-434D-422E-822B-177A52D5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1BBC-BFF7-443A-A98F-5B270F85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24C55-E479-4D02-8195-00FFFC0E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87FC-D718-4819-BAED-EFD03B61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51B7-5B60-45DB-8AD8-C64CAFD9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3FC1-0E86-48DC-B5B9-51D8DCB4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5F57F-6E92-4F44-9F70-AF421B66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137-5AB5-4E3B-8BDA-1364716C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7480E-FCF7-4801-BFDA-8CF17C41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78015-6E23-4DBB-8BD0-113D61FF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A9F8-8811-4178-B18F-1FFD9521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AE33D-BB8E-4E5A-B21E-9F94FFC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B27CD-7100-46D1-B0BE-07002333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C3A7A-9DFA-41DD-AF32-317D5D86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D1386-97A1-4A29-A6A1-1F944221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D794-7293-405D-936E-5A1DD2D8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8C4AE-3C72-4F33-8085-622D8AE9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383E4-0EC4-4345-BD18-9B286836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BC2-E5A9-4496-90F2-523D5142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4AF1C-9EEE-4779-8DB1-F4A9BC10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14AEC-8D1C-4B41-9072-05468D23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F7E66-D283-4567-9C96-340C5054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DFEFB-32C0-4B6F-9C69-4821EFEE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9FE66-E5BE-4354-AD08-E6118DC5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9948-FAEE-4535-B9E7-D83377FA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AB17B-2005-45B2-B585-2972F68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6D416-FF02-4C90-9C09-617D1052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96855-DC83-4C54-B027-F3A40B63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E97D-CC69-4027-ABA0-E183097D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6EE-2511-44ED-BFA7-0846C8BA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59BA-37D0-4F31-8E31-F2F191F6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E5B43-C632-463E-9D3C-A9BE0784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22680-5D17-498F-8ABD-0C176DB1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0C5D3-2DB9-46A5-A8F1-FB01D898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A7B8C-8F5C-488D-BD07-4804291F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ED089-1AEA-4C60-9506-228A186A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6C46A-046C-4284-A1FD-ECB47D12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AC181-A65E-442F-8077-E75B3F2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DA00E-9F70-49B9-AEEC-251EE765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F4E02-9BC4-4066-B304-AF1AC947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3BD-22A6-4787-A32D-FCCF141F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F001C-0972-4906-AC2E-AC69A33D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67195-07D3-4E0A-82FF-452DFF04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97C1F-46FC-4030-9255-75B8A59F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9EB0D-5BB5-40E5-8111-90143769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3EE1E-4C33-4DDD-8446-4863FBF5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8FF1B-710E-48CA-B048-711024A0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20B44-D5EE-44DD-8C12-430119F7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F41D0-510C-4F4B-904A-65E29219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053D7-0C11-4C3D-8E40-9AC7D382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93CEE-0B87-4433-B296-FBEC6BAD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8CC-F1F0-42B1-A906-2E58EB1F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EF1F2-BC09-474F-8943-C7C7D48B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BDBC9-C0F4-4719-B925-9488D3E1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DBF32-0DD7-45CB-899B-CF033924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51205-9121-42FF-BDE9-E996BB11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37983-2151-4F62-8341-E1D29367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C5F50-2E4A-44F2-AE9E-B6E1595A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FD839-A835-4331-A510-1135DF37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7E65A-63A4-4C7C-875A-0987EE7B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178A8-54BA-4B33-B61B-BF078536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DAECF-3CA0-4330-AF2C-C9410DDE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A51-2B67-4210-803A-21506A1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EBB78-1D99-4382-AE4C-DE9EA484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80D62-2B6E-4EAE-87EB-8D455F6F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F919B-C3B4-4269-8051-0ADAF4F5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EDB52-DB25-4A32-88F5-28275800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67A35-FABC-4FC2-BADE-1EFF5E49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C1F43-C3DC-4F97-86F1-09F04947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2F497-FBE0-46D8-92B0-8FBB08CA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64D41-E458-4F25-B127-1773E598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6DAC2-5743-44B9-9AA9-5BECA16A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35452-1D25-4562-A6C6-98ABFFC4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A47D-358F-463F-8A67-A69D23B4DDAC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CD5B-AC05-4764-9870-96E267BE3412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4954-BDED-41C0-B469-6D9617EF0E72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876D-F08E-4709-A51D-CAFAC9590228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294E-1147-4969-8E0D-D020233871FB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F9BC-88FE-4FC9-8E22-4FC97F0E8430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54E8-5FBD-4FCE-93D7-C02C7BC4DDA3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A5B9-53F0-41F6-8E1C-9ED56A8B5119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7CDC-05BE-4031-8B9C-F92690D445A6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C671-A194-462A-9370-291A77AA7B7E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2596-544D-4532-8EBA-22D3D0D5A720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1187280" y="1268280"/>
            <a:ext cx="648036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63ff8"/>
                </a:solidFill>
                <a:latin typeface="Corbel"/>
                <a:ea typeface="华文楷体"/>
              </a:rPr>
              <a:t>高三选考复习策略交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017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1"/>
          <p:cNvSpPr/>
          <p:nvPr/>
        </p:nvSpPr>
        <p:spPr>
          <a:xfrm>
            <a:off x="250920" y="333360"/>
            <a:ext cx="8569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rbel"/>
                <a:ea typeface="华文楷体"/>
              </a:rPr>
              <a:t>历史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根据材料二，概括</a:t>
            </a:r>
            <a:r>
              <a:rPr b="0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亚太经合组织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运行方式的特点，综合材料一二，结合所学知识，简要指出亚洲国家合作发展的有益经验。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根据材料一所提示的角度并联系所学，指出</a:t>
            </a:r>
            <a:r>
              <a:rPr b="0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近代民族工业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最初产生的</a:t>
            </a:r>
            <a:r>
              <a:rPr b="0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时空范围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分析说明近代民族工业产生的</a:t>
            </a:r>
            <a:r>
              <a:rPr b="0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。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阅读材料二并联系材料一，您更侧重分析哪一种认识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侧重分析①，请结合所学进行阐述。侧重分析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洋务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根据所学梳理</a:t>
            </a:r>
            <a:r>
              <a:rPr b="0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詹氏贡献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并用一句话提炼概括詹天佑报国思想。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分。只列观点，不说理由不得分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79280" y="333360"/>
            <a:ext cx="87138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rbel"/>
                <a:ea typeface="华文楷体"/>
              </a:rPr>
              <a:t>史料实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清初两淮和两浙的盐商家庭总共不及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家，而到乾隆末年，盐商家庭却已产生了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80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余名进士，占全国进土总数的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.88%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。这一现象反映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商人谋求转变社会地位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盐商经济实力迅速提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士贵商贱观念已被打破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商人得到政府优厚待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0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《新青年》载文称：“你要想有益于社会，最妙的法子莫如把你自己这块材料铸造成器”，须他各人自己充分发展——这是人类功业顶高的一层；这是我们大家都应该做的事。”这一观点主要反映了新文化运动的发动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倡导民主科学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希望新青年自主进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反对愚昧迷信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追求新文学平易新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1"/>
          <p:cNvSpPr/>
          <p:nvPr/>
        </p:nvSpPr>
        <p:spPr>
          <a:xfrm>
            <a:off x="0" y="404640"/>
            <a:ext cx="89647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rbel"/>
                <a:ea typeface="华文楷体"/>
              </a:rPr>
              <a:t>家国情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6-10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．【加试题】有历史学者曾以忧时伤世的感情袒露自己在抗战孤岛——香港，读宋人著作的心灵感受，对两宋交替之际“汴京围困屈降诸卷，所述人事利害之回环，国论是非之纷错，殆极世态诡变之至奇。……乃取当日身历目睹之事，以相印证，则忽豁然心通意会。”这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．问题意识有助于廓清扑朔迷离的历史与现实是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．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家国情怀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往往影响对历史与现实相关事件的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．历史学家的历史观往往贯穿于对现实的把握与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．历史学者需坚守自己的专业范围不为现实利害所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1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3.</a:t>
            </a:r>
            <a:r>
              <a:rPr b="1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【加试题】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实现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“中国梦”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是中华民族近代以来最伟大的梦想，阅读材料，回答问题。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流程图: 摘录 1"/>
          <p:cNvSpPr/>
          <p:nvPr/>
        </p:nvSpPr>
        <p:spPr>
          <a:xfrm>
            <a:off x="0" y="260280"/>
            <a:ext cx="5688000" cy="5689800"/>
          </a:xfrm>
          <a:prstGeom prst="flowChartExtra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4"/>
          <p:cNvSpPr/>
          <p:nvPr/>
        </p:nvSpPr>
        <p:spPr>
          <a:xfrm>
            <a:off x="900000" y="4221000"/>
            <a:ext cx="3959280" cy="0"/>
          </a:xfrm>
          <a:prstGeom prst="line">
            <a:avLst/>
          </a:prstGeom>
          <a:ln w="9360">
            <a:solidFill>
              <a:srgbClr val="363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5"/>
          <p:cNvSpPr/>
          <p:nvPr/>
        </p:nvSpPr>
        <p:spPr>
          <a:xfrm>
            <a:off x="1692360" y="2565360"/>
            <a:ext cx="2303280" cy="0"/>
          </a:xfrm>
          <a:prstGeom prst="line">
            <a:avLst/>
          </a:prstGeom>
          <a:ln w="9360">
            <a:solidFill>
              <a:srgbClr val="363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1547640" y="4797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rbel"/>
                <a:ea typeface="华文楷体"/>
              </a:rPr>
              <a:t>基本历史史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9"/>
          <p:cNvSpPr/>
          <p:nvPr/>
        </p:nvSpPr>
        <p:spPr>
          <a:xfrm>
            <a:off x="1979640" y="2852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概念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线索梳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史观认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0"/>
          <p:cNvSpPr/>
          <p:nvPr/>
        </p:nvSpPr>
        <p:spPr>
          <a:xfrm>
            <a:off x="219564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学科素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1"/>
          <p:cNvSpPr/>
          <p:nvPr/>
        </p:nvSpPr>
        <p:spPr>
          <a:xfrm>
            <a:off x="6300720" y="3789360"/>
            <a:ext cx="30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学科素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高考体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实践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13"/>
          <p:cNvSpPr/>
          <p:nvPr/>
        </p:nvSpPr>
        <p:spPr>
          <a:xfrm>
            <a:off x="6156360" y="4076640"/>
            <a:ext cx="0" cy="1513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5508720" y="40464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破除了自己的几个误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学考选考难以协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分没法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识记、背诵太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324000" y="549360"/>
            <a:ext cx="525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新高考试题变化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时间（两次    单场时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对象（不同考试时间带来的差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题型结构     主观客观      学考选考加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赋分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很多积极之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250920" y="404640"/>
            <a:ext cx="648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ff8"/>
                </a:solidFill>
                <a:latin typeface="Corbel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363ff8"/>
                </a:solidFill>
                <a:latin typeface="Corbel"/>
                <a:ea typeface="华文楷体"/>
              </a:rPr>
              <a:t>、教学及学生应对的压力陡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rbel"/>
                <a:ea typeface="华文楷体"/>
              </a:rPr>
              <a:t>考试节奏带来的教学节奏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1"/>
          <p:cNvSpPr/>
          <p:nvPr/>
        </p:nvSpPr>
        <p:spPr>
          <a:xfrm>
            <a:off x="250920" y="209520"/>
            <a:ext cx="864216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三、应对方向及实践操作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落实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基本史实    基本概念   基本线索    基本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以学科素养为指向整合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精讲：通史复习   引导整理小专题    必修选修的打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以知识能力达成为目的设计考试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精炼：综合卷   小专题整合    强化卷     答题能力的强化攻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高度关注教学及学生学习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制定教学一体的复习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高度关注学生在学习过程中的全情参与   提高有效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1"/>
          <p:cNvSpPr/>
          <p:nvPr/>
        </p:nvSpPr>
        <p:spPr>
          <a:xfrm>
            <a:off x="324000" y="333360"/>
            <a:ext cx="8064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落实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基本史实    基本概念   基本线索    基本认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（以基本概念为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考点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：洋务运动与近代民族工业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考点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：中国走向社会主义市场经济体制的过程和意义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-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现代企业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考点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：文艺复兴时期人文主义的含义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文艺复兴与宗教改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启蒙运动对人文主义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1"/>
          <p:cNvSpPr/>
          <p:nvPr/>
        </p:nvSpPr>
        <p:spPr>
          <a:xfrm>
            <a:off x="250920" y="260280"/>
            <a:ext cx="84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考点</a:t>
            </a:r>
            <a:r>
              <a:rPr b="1" lang="en-US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：中国建立社会主义市场经济体制的过程和意义</a:t>
            </a:r>
            <a:r>
              <a:rPr b="1" lang="en-US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------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现代企业制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-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1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材料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下图所示为我国经济体制改革进程中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国有企业的一种治理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1332000" y="1700280"/>
            <a:ext cx="3790800" cy="2666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3"/>
          <p:cNvSpPr/>
          <p:nvPr/>
        </p:nvSpPr>
        <p:spPr>
          <a:xfrm>
            <a:off x="324000" y="47242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）根据材料二和所学知识，指出上述模式所体现的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企业制度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，这一制度的建立适应了什么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经济体制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的要求？概括指出该经济体制的的初步建立对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我国现阶段所有制结构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产生的重要影响。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4"/>
          <p:cNvSpPr/>
          <p:nvPr/>
        </p:nvSpPr>
        <p:spPr>
          <a:xfrm>
            <a:off x="0" y="0"/>
            <a:ext cx="78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（三）中共十四届三中全会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199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年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0" y="836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指出建立社会主义市场经济体制，就是要使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市场在国家宏观调控下对资源配置起基础作用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坚持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以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Corbel"/>
                <a:ea typeface="华文楷体"/>
              </a:rPr>
              <a:t>公有制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为主体、多种经济成分共同发展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的方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建立适应市场经济要求的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Corbel"/>
                <a:ea typeface="华文楷体"/>
              </a:rPr>
              <a:t>现代企业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制度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0" y="476280"/>
            <a:ext cx="2736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）内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0" y="2565360"/>
            <a:ext cx="2736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）影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0" y="29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勾画出社会主义市场经济体制的基本框架，使中共十四大提出的经济体制改革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目标和基本原则具体化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3789360"/>
            <a:ext cx="78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（四）中共十五大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199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年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0" y="4221000"/>
            <a:ext cx="2736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内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0" y="4581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大会确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orbel"/>
                <a:ea typeface="华文楷体"/>
              </a:rPr>
              <a:t>邓小平理论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为中国共产党的指导思想，指出我国现阶段的一项基本经济制度是以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公有制为主体、多种所有制经济共同发展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；国有经济起主导作用，主要体现在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控制力上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；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公有制实现形式可以而且应当多样化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，非公有制经济是中国社会主义市场经济的重要组成部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105228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学情分析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考情变化带来的思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应对方向及实践操作策略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1"/>
          <p:cNvSpPr/>
          <p:nvPr/>
        </p:nvSpPr>
        <p:spPr>
          <a:xfrm>
            <a:off x="250920" y="260280"/>
            <a:ext cx="889308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考点</a:t>
            </a:r>
            <a:r>
              <a:rPr b="1" lang="en-US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：文艺复兴时期人文主义的含义    文艺复兴与宗教改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启蒙运动对人文主义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-10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4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【加试题】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文艺复兴时期的人文主义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在世界文明史上留下了不灭的光辉。阅读材料，回答问题。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材料一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西斯廷小教堂的两幅壁画：</a:t>
            </a:r>
            <a:r>
              <a:rPr b="0" lang="en-US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雅典学院</a:t>
            </a:r>
            <a:r>
              <a:rPr b="0" lang="en-US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创世纪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材料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对于赎罪券的抨击，有如一粒火种落在火药桶里， ……市民则到处传颂“九十五条论纲”。斯特拉斯堡的市民把九十五条论纲贴在教堂大门上。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人文主义者热烈欢呼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……用拉丁文写的这份论纲，被人们译成德语，争相传播，不胫而走，两星期内传遍德意志兰，一个月内传遍基督教世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摘自丁建弘《德国通史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(l)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材料一中的壁画内容分别源于什么故事？各自表现了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怎样的人文主义追求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？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阅读材料二，结合所学知识，概括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宗教改革对人文主义发展的主要贡献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。综合材料一、二，指出这一时期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人文主义的主要诉求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。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1"/>
          <p:cNvSpPr/>
          <p:nvPr/>
        </p:nvSpPr>
        <p:spPr>
          <a:xfrm>
            <a:off x="108000" y="115920"/>
            <a:ext cx="8928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人文主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专题六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西方人文精神的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起源与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导言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人文精神的滥觞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人文精神的涵义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三次大的演进和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第一课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智者运动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人文主义的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起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苏格拉底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美德、理性、思想自由、人格尊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斯多亚学派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第一次论证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了西方人文主义的核心理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第二课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文艺复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文艺复兴及宗教改革时期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人文主义的诉求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批判神权、人性解放、思想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文艺复兴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人文主义的表现形式是从肯定人的欲望和歌颂自然人性开始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宗教改革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更广泛层面更内在心灵角度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传播和发展了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复苏的人文主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、   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第三课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启蒙运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文艺复兴与宗教改革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刚刚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解开了理性枷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启蒙运动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理性和自由平等思想获得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迅速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、 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第四课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理性之光、浪漫之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康德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思想自由、理性探讨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人类的主体地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浪漫主义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为人文精神增加了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情感、个性、尊重自然、宽容心态等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总结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：启蒙运动时期的人文主义以人类的共同属性为前提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理性及人本身的彻底解放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浪漫主义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人文精神得到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深刻圆满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，西方人文精神不断发展、丰富、成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1"/>
          <p:cNvSpPr/>
          <p:nvPr/>
        </p:nvSpPr>
        <p:spPr>
          <a:xfrm>
            <a:off x="324000" y="40464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其他考点（高度关注加试部分含选修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中国古代的世官制、察举制与科举制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科举制的文化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资产阶级代议制在西方政治发展中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外国资本主义入侵对中国社会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英国政府为适应工业社会发展的需要所采取的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英国、法国经济发展的新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马克思主义对中国历史发展的重大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启蒙运动对人文主义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1"/>
          <p:cNvSpPr/>
          <p:nvPr/>
        </p:nvSpPr>
        <p:spPr>
          <a:xfrm>
            <a:off x="0" y="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案例：</a:t>
            </a:r>
            <a:r>
              <a:rPr b="1" lang="en-US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）英国政府为适应工业社会发展的需要所采取的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C:\Users\Administrator\Desktop\2017-09\IMG_0568.JPG"/>
          <p:cNvPicPr/>
          <p:nvPr/>
        </p:nvPicPr>
        <p:blipFill>
          <a:blip r:embed="rId1"/>
          <a:stretch/>
        </p:blipFill>
        <p:spPr>
          <a:xfrm>
            <a:off x="684360" y="549360"/>
            <a:ext cx="78721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1"/>
          <p:cNvSpPr/>
          <p:nvPr/>
        </p:nvSpPr>
        <p:spPr>
          <a:xfrm>
            <a:off x="395280" y="189000"/>
            <a:ext cx="83534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关注对英国历史发展的有效梳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末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初     光荣革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两个法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君主立宪制的法律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中叶    责任内阁制   君主立宪制的英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年代   议会改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"/>
          <p:cNvSpPr/>
          <p:nvPr/>
        </p:nvSpPr>
        <p:spPr>
          <a:xfrm>
            <a:off x="395280" y="2349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末    新航路后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地理位置、重商主义、圈地运动、殖民扩张及霸权争夺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  1763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年，七年战争，英国成为世界上最大的殖民帝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中后期  工业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1" lang="en-US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19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世纪为主   打造“世界工厂”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民主化改革、自由主义、法制化、炮舰政策、科学技术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中期，取得“世界工厂”的地位，伦敦中心地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395280" y="436572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文艺复习的英国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宗教改革的英国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启蒙运动的英国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牛顿 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末）  达尔文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1"/>
          <p:cNvSpPr/>
          <p:nvPr/>
        </p:nvSpPr>
        <p:spPr>
          <a:xfrm>
            <a:off x="250920" y="115920"/>
            <a:ext cx="835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关注对英国历史发展的有效梳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末    新航路后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地理位置、重商主义、圈地运动、殖民扩张及霸权争夺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  1763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年，七年战争，英国成为世界上最大的殖民帝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文艺复习的英国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宗教改革的英国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启蒙运动的英国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牛顿 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末）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末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初     光荣革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两个法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君主立宪制的法律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中叶    责任内阁制   君主立宪制的英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中后期  工业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年代   议会改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达尔文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1" lang="en-US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19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世纪为主   打造“世界工厂”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民主化改革、自由主义、法制化、炮舰政策、科学技术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中期，取得“世界工厂”的地位，伦敦中心地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1"/>
          <p:cNvSpPr/>
          <p:nvPr/>
        </p:nvSpPr>
        <p:spPr>
          <a:xfrm>
            <a:off x="250920" y="476280"/>
            <a:ext cx="68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前提还是对教材的基本梳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基本概念的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线索的形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整合的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能力在过程中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C:\Users\Administrator\Desktop\高三历史研讨会\学生笔记图图片\IMG_0495.JPG"/>
          <p:cNvPicPr/>
          <p:nvPr/>
        </p:nvPicPr>
        <p:blipFill>
          <a:blip r:embed="rId1"/>
          <a:stretch/>
        </p:blipFill>
        <p:spPr>
          <a:xfrm>
            <a:off x="3995640" y="260280"/>
            <a:ext cx="48974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1"/>
          <p:cNvSpPr/>
          <p:nvPr/>
        </p:nvSpPr>
        <p:spPr>
          <a:xfrm>
            <a:off x="250920" y="404640"/>
            <a:ext cx="84247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以学科素养为指向整合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精讲：通史复习   引导学生整理小专题    必修选修的打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小专题例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民族复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党的建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地区冲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一带一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555920" y="2468520"/>
          <a:ext cx="7337160" cy="3567240"/>
        </p:xfrm>
        <a:graphic>
          <a:graphicData uri="http://schemas.openxmlformats.org/drawingml/2006/table">
            <a:tbl>
              <a:tblPr/>
              <a:tblGrid>
                <a:gridCol w="3789360"/>
                <a:gridCol w="922320"/>
                <a:gridCol w="923760"/>
                <a:gridCol w="895320"/>
                <a:gridCol w="806400"/>
              </a:tblGrid>
              <a:tr h="2746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历史近三年高考考点对比（选考部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知识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5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6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分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分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分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分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古代中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4+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近代中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（史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4+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现代中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古代世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近代世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4+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+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+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现代世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二十世纪的战争与和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+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世界文化遗产荟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+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+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+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中外历史人物评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+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+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+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1"/>
          <p:cNvSpPr/>
          <p:nvPr/>
        </p:nvSpPr>
        <p:spPr>
          <a:xfrm>
            <a:off x="179280" y="404640"/>
            <a:ext cx="896472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时空观念</a:t>
            </a:r>
            <a:r>
              <a:rPr b="1" lang="en-US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--------</a:t>
            </a:r>
            <a:r>
              <a:rPr b="1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资本主义经济发展的几个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人口的聚集是近代欧洲城市发展的重要表现。比较图一和图二，导致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里斯本、塞维利亚、安特卫普、伦敦等城市迅速发展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的原因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资本主义工商业的发展和新航路开辟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第一次工业革命促进人口大规模流动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强大的垄断公司进行频繁的资本输出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欧洲联合推动人员和劳务的自由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2"/>
          <p:cNvGrpSpPr/>
          <p:nvPr/>
        </p:nvGrpSpPr>
        <p:grpSpPr>
          <a:xfrm>
            <a:off x="900000" y="3357720"/>
            <a:ext cx="7128000" cy="3166920"/>
            <a:chOff x="900000" y="3357720"/>
            <a:chExt cx="7128000" cy="3166920"/>
          </a:xfrm>
        </p:grpSpPr>
        <p:sp>
          <p:nvSpPr>
            <p:cNvPr id="537" name="椭圆 20"/>
            <p:cNvSpPr/>
            <p:nvPr/>
          </p:nvSpPr>
          <p:spPr>
            <a:xfrm>
              <a:off x="6720120" y="3907440"/>
              <a:ext cx="11448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21"/>
            <p:cNvSpPr/>
            <p:nvPr/>
          </p:nvSpPr>
          <p:spPr>
            <a:xfrm>
              <a:off x="6676200" y="5009760"/>
              <a:ext cx="149760" cy="16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组合 19"/>
            <p:cNvGrpSpPr/>
            <p:nvPr/>
          </p:nvGrpSpPr>
          <p:grpSpPr>
            <a:xfrm>
              <a:off x="900000" y="3357720"/>
              <a:ext cx="2769840" cy="3166920"/>
              <a:chOff x="900000" y="3357720"/>
              <a:chExt cx="2769840" cy="3166920"/>
            </a:xfrm>
          </p:grpSpPr>
          <p:sp>
            <p:nvSpPr>
              <p:cNvPr id="540" name="文本框 2"/>
              <p:cNvSpPr/>
              <p:nvPr/>
            </p:nvSpPr>
            <p:spPr>
              <a:xfrm>
                <a:off x="910800" y="3358440"/>
                <a:ext cx="678960" cy="159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1" name="图片 18" descr="图片1"/>
              <p:cNvPicPr/>
              <p:nvPr/>
            </p:nvPicPr>
            <p:blipFill>
              <a:blip r:embed="rId2"/>
              <a:stretch/>
            </p:blipFill>
            <p:spPr>
              <a:xfrm>
                <a:off x="900000" y="3357720"/>
                <a:ext cx="2769840" cy="3166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542" name="文本框 2"/>
            <p:cNvSpPr/>
            <p:nvPr/>
          </p:nvSpPr>
          <p:spPr>
            <a:xfrm>
              <a:off x="907920" y="3367440"/>
              <a:ext cx="59904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图一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图片 15" descr="2"/>
            <p:cNvPicPr/>
            <p:nvPr/>
          </p:nvPicPr>
          <p:blipFill>
            <a:blip r:embed="rId4"/>
            <a:stretch/>
          </p:blipFill>
          <p:spPr>
            <a:xfrm>
              <a:off x="3749400" y="3388680"/>
              <a:ext cx="2777760" cy="311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4" name="文本框 2"/>
            <p:cNvSpPr/>
            <p:nvPr/>
          </p:nvSpPr>
          <p:spPr>
            <a:xfrm>
              <a:off x="3758400" y="3387600"/>
              <a:ext cx="599040" cy="442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图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2"/>
            <p:cNvSpPr/>
            <p:nvPr/>
          </p:nvSpPr>
          <p:spPr>
            <a:xfrm>
              <a:off x="6579000" y="3988080"/>
              <a:ext cx="144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居民愈</a:t>
              </a:r>
              <a:r>
                <a:rPr b="1" lang="en-US" sz="1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00000</a:t>
              </a:r>
              <a:r>
                <a:rPr b="1" lang="zh-CN" sz="1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的城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文本框 2"/>
            <p:cNvSpPr/>
            <p:nvPr/>
          </p:nvSpPr>
          <p:spPr>
            <a:xfrm>
              <a:off x="6552360" y="5148000"/>
              <a:ext cx="144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居民愈</a:t>
              </a:r>
              <a:r>
                <a:rPr b="1" lang="en-US" sz="1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00000</a:t>
              </a:r>
              <a:r>
                <a:rPr b="1" lang="zh-CN" sz="1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的城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0" y="476280"/>
            <a:ext cx="287964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资本主义工商业的发展和新航路开辟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第一次工业革命促进人口大规模流动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强大的垄断公司进行频繁的资本输出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欧洲联合推动人员和劳务的自由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3059280" y="1268280"/>
            <a:ext cx="288108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早期殖民扩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第一次工业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第二次工业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战后全球化、区域集团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5"/>
          <p:cNvSpPr/>
          <p:nvPr/>
        </p:nvSpPr>
        <p:spPr>
          <a:xfrm>
            <a:off x="6084720" y="2133720"/>
            <a:ext cx="3059280" cy="43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界市场粗具规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界市场初步形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更加理智、成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界一体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战后资本主义世界经济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全球化浪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1"/>
          <p:cNvSpPr/>
          <p:nvPr/>
        </p:nvSpPr>
        <p:spPr>
          <a:xfrm>
            <a:off x="395280" y="476280"/>
            <a:ext cx="60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一、学情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017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届历史教学组织及考试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018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届教学组织及教学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、学生现阶段学习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7848360" cy="3067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79214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C:\Users\Administrator\Desktop\IMG_0580.JPG"/>
          <p:cNvPicPr/>
          <p:nvPr/>
        </p:nvPicPr>
        <p:blipFill>
          <a:blip r:embed="rId1"/>
          <a:stretch/>
        </p:blipFill>
        <p:spPr>
          <a:xfrm>
            <a:off x="1476360" y="76500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395280" y="47628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3ff8"/>
                </a:solidFill>
                <a:latin typeface="Corbel"/>
                <a:ea typeface="华文楷体"/>
              </a:rPr>
              <a:t>年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1"/>
          <p:cNvSpPr/>
          <p:nvPr/>
        </p:nvSpPr>
        <p:spPr>
          <a:xfrm>
            <a:off x="46836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培养学生讲故事的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https://timgsa.baidu.com/timg?image&amp;quality=80&amp;size=b9999_10000&amp;sec=1506434999631&amp;di=bcc953086436e4690a77327c8d3bac7d&amp;imgtype=0&amp;src=http%3A%2F%2Fpic.58pic.com%2F58pic%2F15%2F70%2F31%2F57f58PICcqR_1024.JPG"/>
          <p:cNvPicPr/>
          <p:nvPr/>
        </p:nvPicPr>
        <p:blipFill>
          <a:blip r:embed="rId1"/>
          <a:stretch/>
        </p:blipFill>
        <p:spPr>
          <a:xfrm>
            <a:off x="0" y="1773360"/>
            <a:ext cx="4546440" cy="37479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https://timgsa.baidu.com/timg?image&amp;quality=80&amp;size=b9999_10000&amp;sec=1506435136671&amp;di=f3890917b1c5c3d95ed725fe0af821da&amp;imgtype=0&amp;src=http%3A%2F%2Fp3.pstatp.com%2Flarge%2F6d10001b6c9244bf68b"/>
          <p:cNvPicPr/>
          <p:nvPr/>
        </p:nvPicPr>
        <p:blipFill>
          <a:blip r:embed="rId2"/>
          <a:stretch/>
        </p:blipFill>
        <p:spPr>
          <a:xfrm>
            <a:off x="4643280" y="1557360"/>
            <a:ext cx="42134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1"/>
          <p:cNvSpPr/>
          <p:nvPr/>
        </p:nvSpPr>
        <p:spPr>
          <a:xfrm>
            <a:off x="324000" y="476280"/>
            <a:ext cx="8496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3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、以知识能力达成为手段设计考试训练</a:t>
            </a:r>
            <a:r>
              <a:rPr b="1" lang="en-US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---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以答题能力的强化攻坚为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组合 12"/>
          <p:cNvGrpSpPr/>
          <p:nvPr/>
        </p:nvGrpSpPr>
        <p:grpSpPr>
          <a:xfrm>
            <a:off x="250920" y="1413000"/>
            <a:ext cx="2665440" cy="3456000"/>
            <a:chOff x="250920" y="1413000"/>
            <a:chExt cx="2665440" cy="3456000"/>
          </a:xfrm>
        </p:grpSpPr>
        <p:sp>
          <p:nvSpPr>
            <p:cNvPr id="559" name="流程图: 过程 3"/>
            <p:cNvSpPr/>
            <p:nvPr/>
          </p:nvSpPr>
          <p:spPr>
            <a:xfrm>
              <a:off x="250920" y="1413000"/>
              <a:ext cx="2665440" cy="863640"/>
            </a:xfrm>
            <a:prstGeom prst="flowChartProcess">
              <a:avLst/>
            </a:prstGeom>
            <a:solidFill>
              <a:srgbClr val="ceb966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流程图: 过程 4"/>
            <p:cNvSpPr/>
            <p:nvPr/>
          </p:nvSpPr>
          <p:spPr>
            <a:xfrm>
              <a:off x="250920" y="2708280"/>
              <a:ext cx="2665440" cy="865080"/>
            </a:xfrm>
            <a:prstGeom prst="flowChartProcess">
              <a:avLst/>
            </a:prstGeom>
            <a:solidFill>
              <a:srgbClr val="ceb966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流程图: 过程 5"/>
            <p:cNvSpPr/>
            <p:nvPr/>
          </p:nvSpPr>
          <p:spPr>
            <a:xfrm>
              <a:off x="250920" y="4005360"/>
              <a:ext cx="2665440" cy="863640"/>
            </a:xfrm>
            <a:prstGeom prst="flowChartProcess">
              <a:avLst/>
            </a:prstGeom>
            <a:solidFill>
              <a:srgbClr val="ceb966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6"/>
            <p:cNvSpPr/>
            <p:nvPr/>
          </p:nvSpPr>
          <p:spPr>
            <a:xfrm>
              <a:off x="349560" y="4264200"/>
              <a:ext cx="24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rbel"/>
                  <a:ea typeface="华文楷体"/>
                </a:rPr>
                <a:t>考点、基础知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7"/>
            <p:cNvSpPr/>
            <p:nvPr/>
          </p:nvSpPr>
          <p:spPr>
            <a:xfrm>
              <a:off x="250920" y="2795400"/>
              <a:ext cx="25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rbel"/>
                  <a:ea typeface="华文楷体"/>
                </a:rPr>
                <a:t>史料研读、问题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8"/>
            <p:cNvSpPr/>
            <p:nvPr/>
          </p:nvSpPr>
          <p:spPr>
            <a:xfrm>
              <a:off x="349560" y="1585800"/>
              <a:ext cx="246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rbel"/>
                  <a:ea typeface="华文楷体"/>
                </a:rPr>
                <a:t>理顺思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rbel"/>
                  <a:ea typeface="华文楷体"/>
                </a:rPr>
                <a:t>清晰完整作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直接箭头连接符 10"/>
            <p:cNvCxnSpPr>
              <a:stCxn id="560" idx="2"/>
              <a:endCxn id="561" idx="0"/>
            </p:cNvCxnSpPr>
            <p:nvPr/>
          </p:nvCxnSpPr>
          <p:spPr>
            <a:xfrm>
              <a:off x="1584000" y="3573360"/>
              <a:ext cx="1080" cy="432360"/>
            </a:xfrm>
            <a:prstGeom prst="straightConnector1">
              <a:avLst/>
            </a:prstGeom>
            <a:ln w="9360">
              <a:solidFill>
                <a:srgbClr val="ccb661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566" name="直接箭头连接符 11"/>
            <p:cNvCxnSpPr/>
            <p:nvPr/>
          </p:nvCxnSpPr>
          <p:spPr>
            <a:xfrm>
              <a:off x="1533240" y="2276280"/>
              <a:ext cx="1080" cy="432360"/>
            </a:xfrm>
            <a:prstGeom prst="straightConnector1">
              <a:avLst/>
            </a:prstGeom>
            <a:ln w="9360">
              <a:solidFill>
                <a:srgbClr val="ccb661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567" name="TextBox 13"/>
          <p:cNvSpPr/>
          <p:nvPr/>
        </p:nvSpPr>
        <p:spPr>
          <a:xfrm>
            <a:off x="2916360" y="1413000"/>
            <a:ext cx="622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学生的几个问题：不重视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不重视审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不重视组织答案的有效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不重视基本的答题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几个建议：控制数量，不搞疲劳轰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控制难度，争取巧中求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改编试题，适应学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讲解精当，方法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3"/>
          <p:cNvSpPr/>
          <p:nvPr/>
        </p:nvSpPr>
        <p:spPr>
          <a:xfrm>
            <a:off x="324000" y="40464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阅读材料，请回答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材料一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“</a:t>
            </a:r>
            <a:r>
              <a:rPr b="0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马歇尔计划改变了美国处理与欧洲关系的方式，为此也改变了欧洲国家处理相互关系的方式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……它播下了制度的种子，逐渐将西欧连接在一起，建立了欧洲经济与合作组织、欧洲联盟和北约等机制，</a:t>
            </a:r>
            <a:r>
              <a:rPr b="0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为弥合历史久远的分歧奠定了基础。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美国总统克林顿在纪念马歇尔计划讲话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周年时讲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材料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               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整理自“百度．百科”：“中国版马歇尔计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）根据材料并结合所学分析</a:t>
            </a:r>
            <a:r>
              <a:rPr b="0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马歇尔计划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出笼的背景及其产生的影响。（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）综合材料一、二，从</a:t>
            </a:r>
            <a:r>
              <a:rPr b="0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实质角度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谈谈你对“</a:t>
            </a:r>
            <a:r>
              <a:rPr b="0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中国版马歇尔计划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”观点的认识，结合所学举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例说明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世纪之交</a:t>
            </a:r>
            <a:r>
              <a:rPr b="0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中国政府在外交领域为世界和平发展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所作的贡献。（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042920" y="2492280"/>
          <a:ext cx="7345440" cy="1646280"/>
        </p:xfrm>
        <a:graphic>
          <a:graphicData uri="http://schemas.openxmlformats.org/drawingml/2006/table">
            <a:tbl>
              <a:tblPr/>
              <a:tblGrid>
                <a:gridCol w="1757520"/>
                <a:gridCol w="5587920"/>
              </a:tblGrid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orbel"/>
                          <a:ea typeface="华文楷体"/>
                        </a:rPr>
                        <a:t>习近平提出建设“丝绸之路经济带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orbel"/>
                          <a:ea typeface="华文楷体"/>
                        </a:rPr>
                        <a:t>习近平提出建设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rbel"/>
                          <a:ea typeface="华文楷体"/>
                        </a:rPr>
                        <a:t>21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orbel"/>
                          <a:ea typeface="华文楷体"/>
                        </a:rPr>
                        <a:t>世纪海上丝绸之路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中国、印度、新加坡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国决定成立“亚投行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兴业证券研究报告认为“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orbel"/>
                          <a:ea typeface="华文楷体"/>
                        </a:rPr>
                        <a:t>中国版马歇尔计划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”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Box 1"/>
          <p:cNvSpPr/>
          <p:nvPr/>
        </p:nvSpPr>
        <p:spPr>
          <a:xfrm>
            <a:off x="324000" y="4046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一带一路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概念相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古代丝绸之路   汉、唐、宋元、明清，为何兴盛？为何衰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区别郑和下西洋，区别马歇尔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早期殖民扩张   三角贸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英国主导的资本主义世界市场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战后美国主导的世界贸易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全球化浪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C:\Users\Administrator\Desktop\2017-09\IMG_0581.JPG"/>
          <p:cNvPicPr/>
          <p:nvPr/>
        </p:nvPicPr>
        <p:blipFill>
          <a:blip r:embed="rId1"/>
          <a:stretch/>
        </p:blipFill>
        <p:spPr>
          <a:xfrm>
            <a:off x="3995640" y="33336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572" name="TextBox 2"/>
          <p:cNvSpPr/>
          <p:nvPr/>
        </p:nvSpPr>
        <p:spPr>
          <a:xfrm>
            <a:off x="324000" y="549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3ff8"/>
                </a:solidFill>
                <a:latin typeface="Corbel"/>
                <a:ea typeface="华文楷体"/>
              </a:rPr>
              <a:t>精编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1"/>
          <p:cNvSpPr/>
          <p:nvPr/>
        </p:nvSpPr>
        <p:spPr>
          <a:xfrm>
            <a:off x="324000" y="404640"/>
            <a:ext cx="835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高度关注教学及学生学习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制定教学一体的复习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高度关注学生在学习过程中的全情参与   提高有效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全程参与不等于全情投入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课堂效益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改善操作过程的硬件、软件（设施设备、答疑、问题本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1"/>
          <p:cNvSpPr/>
          <p:nvPr/>
        </p:nvSpPr>
        <p:spPr>
          <a:xfrm>
            <a:off x="1042920" y="20606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63ff8"/>
                </a:solidFill>
                <a:latin typeface="Corbel"/>
                <a:ea typeface="华文楷体"/>
              </a:rPr>
              <a:t>敬请批评指正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395280" y="47628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017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届历史教学组织及考试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4"/>
          <p:cNvSpPr/>
          <p:nvPr/>
        </p:nvSpPr>
        <p:spPr>
          <a:xfrm>
            <a:off x="468360" y="126828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教学组织：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C4A8B----1C4A-----5A-----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017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届   学考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559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人，选考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9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5"/>
          <p:cNvSpPr/>
          <p:nvPr/>
        </p:nvSpPr>
        <p:spPr>
          <a:xfrm>
            <a:off x="539640" y="3284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几点教训：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随着教学班规模、形式变化及时调整教学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降低身段，重视基本概念、基本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高度重视加试题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分的复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高度重视必修选修的整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395280" y="476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018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届教学组织及教学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教学组织：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C3A8B-----2C3A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选考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9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月开始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选修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必修一轮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小专题加精炼精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选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395280" y="476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学生现阶段学习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几个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知识相对熟悉，但线索、特征掌握不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把题目做好的愿望强烈，但做题能力没有实质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意识到首次选考的重要性，但疲态已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1"/>
          <p:cNvSpPr/>
          <p:nvPr/>
        </p:nvSpPr>
        <p:spPr>
          <a:xfrm>
            <a:off x="468360" y="836640"/>
            <a:ext cx="518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二、考情变化带来的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试题指向明确</a:t>
            </a: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--------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学科核心素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新高考试题结构变化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教学及学生应对的压力陡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1"/>
          <p:cNvSpPr/>
          <p:nvPr/>
        </p:nvSpPr>
        <p:spPr>
          <a:xfrm>
            <a:off x="611280" y="69228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试题指向明确</a:t>
            </a: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--------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学科核心素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3"/>
          <p:cNvSpPr/>
          <p:nvPr/>
        </p:nvSpPr>
        <p:spPr>
          <a:xfrm>
            <a:off x="826920" y="1484280"/>
            <a:ext cx="61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历史学科核心素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核心理论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------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唯物史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核心思维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-------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时空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核心方法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-------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史料实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核心能力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-------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历史解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核心价值观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----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家国情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1"/>
          <p:cNvSpPr/>
          <p:nvPr/>
        </p:nvSpPr>
        <p:spPr>
          <a:xfrm>
            <a:off x="0" y="333360"/>
            <a:ext cx="91440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rbel"/>
                <a:ea typeface="华文楷体"/>
              </a:rPr>
              <a:t>时空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2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【加试题】</a:t>
            </a:r>
            <a:r>
              <a:rPr b="1" lang="en-US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1866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年清朝官员斌椿考察欧洲，所著《乘槎笔记》被认为是中国知识分子最早亲历欧洲的记述。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下列项中，不可能在其笔记中出现的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在伦敦，访威斯敏斯特宫（议会所在地），“高峻宏敞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到曼彻斯特，观纺织工厂“皆用火轮法，总轮有四百匹马力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在巴黎，见“电机寄信法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通都大邑以及乡村镇市，线到处，皆可通信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到柏林，访帝国议会，见“会议厅甚大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旁有皇座，备德皇降临之用焉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0. 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【加试题】世界文化造产有其特定的时代性与区域性，下国所示罗马文化遗迹，按其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建成的先后顺序排列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正确的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A. 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①③④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①④③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④①②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④②①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1" descr="C:\DOCUME~1\ADMINI~1\LOCALS~1\Temp\WeChat Files\251445170368241726.jpg"/>
          <p:cNvPicPr/>
          <p:nvPr/>
        </p:nvPicPr>
        <p:blipFill>
          <a:blip r:embed="rId1"/>
          <a:stretch/>
        </p:blipFill>
        <p:spPr>
          <a:xfrm>
            <a:off x="4859280" y="3933720"/>
            <a:ext cx="3673440" cy="2600280"/>
          </a:xfrm>
          <a:prstGeom prst="rect">
            <a:avLst/>
          </a:prstGeom>
          <a:ln w="0">
            <a:noFill/>
          </a:ln>
        </p:spPr>
      </p:pic>
      <p:sp>
        <p:nvSpPr>
          <p:cNvPr id="494" name="TextBox 3"/>
          <p:cNvSpPr/>
          <p:nvPr/>
        </p:nvSpPr>
        <p:spPr>
          <a:xfrm>
            <a:off x="2484360" y="18900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16-10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，</a:t>
            </a:r>
            <a:r>
              <a:rPr b="1" lang="en-US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31 (2)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人类是在特定的空间里创造历史，而历史又在不断地改变着人类的空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3T09:17:42Z</dcterms:created>
  <dc:creator>Administrator</dc:creator>
  <dc:description/>
  <dc:language>en-US</dc:language>
  <cp:lastModifiedBy>Administrator</cp:lastModifiedBy>
  <dcterms:modified xsi:type="dcterms:W3CDTF">2017-10-06T11:41:57Z</dcterms:modified>
  <cp:revision>81</cp:revision>
  <dc:subject/>
  <dc:title>幻灯片 1</dc:title>
</cp:coreProperties>
</file>