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022-2D64-4001-9B84-BDAF7E5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6C2-C154-49C4-97DA-0589337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B19F4-9045-469D-B51E-54D3E53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4811D-202B-4D11-9A8F-7E10595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2970-87C6-47AB-B49A-0591BE04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302E7-57F4-45AD-9844-C9B272D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3CD53-59B2-4D66-B7F8-AAA3FB5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FA94F-60D3-4104-9954-91804FB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248A0-46F9-45AE-8101-FFEF562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D89D1-B83B-4B27-A841-DE9E160D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0CD1-403F-4CB9-95D5-2F9D7121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EE1F8-F11F-41D5-9EA0-99B7DAAA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CC2-0C98-48C7-AAD2-CD315EE3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9867A-A1DF-4676-A271-6C41A88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C0AEA-8B05-452C-AF67-EE1ABBC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F9BE2-C295-4FAC-BC63-509F994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9AA06-5382-4A45-A5D5-CA53688A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4C98E-75F0-4C4B-9744-F01E6AB8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E406B-C028-4E5B-B443-EB0041F7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4310F-4F73-4FB6-817F-AF41615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1F509-EBF6-429A-9C70-4D5EB99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0D331-126B-41A3-A335-E63F62A6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4E54D-E7A4-4FF3-8F7F-39E54E3B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A1F-E304-417A-88DA-8E5554D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6A22D-0989-4C96-AFCC-6F53223F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A94AB-5A06-443E-ACCC-423B2A59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32A24-B555-4965-9235-F568C074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824B-45CB-4A21-B94C-2F86EC16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80C4D-727B-42A0-86F2-35C77C2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45D99-A34C-49A3-A5C6-BAC8BE26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3A6D4-0810-4529-8269-1B1EF866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03605-7782-4446-9C8D-B886BDF0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D0BA9-AF03-4E56-80EA-EDA5074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096E0-3CE6-4EEB-8E5C-7ECFDF2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1C6-9080-469F-B2DC-3E388D22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1F944-79DD-4A8D-A158-A3D2285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04C4E-FC0E-482F-928E-67E56BA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2DA6-EB45-47B0-8721-FF52434C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0C1-7A4A-4861-9C4E-554F269D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5326-BF93-4DB4-AB8A-B538CE5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438D-25BA-4C36-BC3F-3A29E17C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41A-4F0B-44EA-8F2F-2A3E1ACF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0CF1-C769-4855-9DA7-BC05C4B4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534A-B286-4CA8-A2B6-13C33924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093-38E4-4D10-B19E-5B257E12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4E3-FF76-46EC-88AE-797BCDD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5EE-B0DB-4314-8A14-5593DB0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B19A-4908-4D92-981B-F02B380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97EB-F71A-4511-9C7E-39EACAA3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6C2-40D1-4A5B-B957-413D6122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E882-807C-468F-84A0-F774D699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1E3D-A825-413E-8E68-E0510F77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4C60-DAC1-4875-BD84-445525D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F2D7-DF68-4C59-AE6C-F4893B92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35B1-96C3-40D2-A42C-8C63BE9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A0C-D362-43B3-A17A-A8ECB4D2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84AC-6DFC-4ED3-89CD-CAD694D3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CE66-7B30-422E-A8AA-EC1FA5F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8FEF-4720-47DE-A0CE-A9BE2459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4326-8518-4465-9B02-D8C9FA4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8494-645C-4A2B-8B84-551552D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9247-6E72-477C-B56E-1606538C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FFB3-12A1-451D-9008-117135A6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A477-E807-4774-8832-3473669B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8BEB-2F4F-4A94-A612-0A2CB9EF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D59E-A4B1-49FB-BA34-A4322B57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773-74DC-4E5D-BD03-756100E9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1594-2775-4C81-BE02-346AECA4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A693-22DD-4CB1-BCE1-CE64906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02F3-1231-4093-8C97-0BBF64E6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ED73-BB85-4FB4-8FD3-2346FB5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FABD-28D5-4343-9E7F-EBBD220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11D2-76DD-401E-A482-CA03238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718A-75C1-4DB4-90B9-DB7FFEA6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3FFE-1DA8-4740-8003-B6E29425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D5A4-E2D4-4E33-9772-A4B36465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5233-0725-483C-8906-3CA4B8F3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B91-AE64-4F1F-AF18-484A26B6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F7C99-5FCF-4519-828C-50842573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3B7CE-5663-45F9-BE92-E4F2D47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5187-D4D1-47AE-A7E6-0B826055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AE7C-A04E-47FC-B583-25CDC876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AC286-B31B-41C8-949A-D2F8752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65B2C-AC9C-4BCA-B5BC-636CD1A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CEBA8-BA22-42FF-ADBE-44AF232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7442-C67F-461E-80E7-8CAC865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FD3B-AE45-4132-B6D8-6824F2E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771E-3A13-4C90-ACF0-96CCD10B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BD9-AF86-495B-9828-B650EAEE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ED20D-23AE-4784-9830-4D024CA8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D3B9D-6BE3-4AC4-AD24-DD0C9071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C272-9BD5-4044-919E-59BCA2AA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C7392-4A5B-42FE-B9EE-8CA198D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870A8-B38E-4A99-8678-7612156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0774-22B1-458F-A9B7-22CC997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A521-C4F6-4BE5-A5E9-770AD75F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53BA-B632-4439-A27C-A4FF8CA0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A456-EA74-4885-ADBE-9E7FEB3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E193-09E7-45A3-9697-30050AB7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A92-AC35-4D0B-930E-08D6EAC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1446-429E-4673-BBA9-9B845B7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13D1-C304-4428-88D9-5DED8383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C9EC-A5D2-4959-84BD-42633CBD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AA7F-09B2-4936-8CEA-6AB9F5C4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6D198-ECFB-48B7-84E8-902A272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6BE2-A8B9-4F7E-B9A6-47FD404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5DED-5EE4-433C-B50E-FB1238FF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1908-0FB4-42AE-98C0-027500B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EA629-F941-402D-AA7C-B20EC2C2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5D13-A38D-4F45-8176-B0A35A8E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386-5E1E-4822-9243-9348F4E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073D-DD56-4EEF-AC12-EADC9092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FD62-D00A-4447-9745-6C0F0D6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696FC-8661-42B9-9B9E-CFFA433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66D1-EC9D-4C35-ACB0-476C9300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FF6D-8ED0-4828-A3F0-2EE2DD31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77DC-5FEB-474D-AD86-64FC6D02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7C91-BCEF-4B19-9007-432393B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FE74A-4977-476A-9B89-5299C9C3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184B-A9DE-4892-BC33-607D7854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32F5D-2BD9-4857-A9A4-049880AF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481-AF37-42E6-9447-A7F14E7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E072-7063-4D99-A521-A123F89D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693AC-3AD7-4835-8CF5-AEDD6AE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C28FC-4F5E-4AFE-BC3B-76B06B4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F7971-A650-4AA2-9CE2-1B2BB37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2B77B-9EB2-4178-8DB2-80EDB74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772A-E5F0-4DD8-86F0-27670FC2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B5AE-00D8-4224-AA3C-CD221902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EB0AF-743B-493C-A788-83F245DE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04927-BBA6-4090-8B85-DEEA67E2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9E63F-6B38-41F5-AE99-4148C79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20CF-CF22-40D8-A6AE-206015E6B42D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2AA2-100B-4677-AD4F-56C2C4529408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72D9-4E80-4E50-953D-9435082599C8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A85-99CC-4534-B37E-8EDE3B73AA06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672E-D73D-4917-8CE5-1F3C99EF3B68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95F-4369-42E8-A437-9BE3632BE69E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3F9-5285-4F02-B618-7B1520FD3EE7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6BB8-6E4B-493E-92B6-C59200CB63F6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49E4-8D7E-4740-9AA8-BA98528C6EA0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6A08-574C-4875-9B2F-7653A5C84789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ceb966">
                  <a:alpha val="40000"/>
                </a:srgbClr>
              </a:gs>
              <a:gs pos="100000">
                <a:srgbClr val="ceb9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ede6d3">
                  <a:alpha val="50196"/>
                </a:srgbClr>
              </a:gs>
              <a:gs pos="100000">
                <a:srgbClr val="ede6d3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e8c92"/>
                </a:solidFill>
                <a:latin typeface="Corbel"/>
                <a:ea typeface="华文楷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E989-0BEB-406B-9539-8CCE6576B934}" type="slidenum">
              <a:rPr b="0" lang="zh-CN" sz="1100" spc="-1" strike="noStrike">
                <a:solidFill>
                  <a:srgbClr val="8e8c92"/>
                </a:solidFill>
                <a:latin typeface="Corbel"/>
                <a:ea typeface="华文楷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1187280" y="1268280"/>
            <a:ext cx="64803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63ff8"/>
                </a:solidFill>
                <a:latin typeface="Corbel"/>
                <a:ea typeface="华文楷体"/>
              </a:rPr>
              <a:t>高三选考复习策略交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7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250920" y="333360"/>
            <a:ext cx="8569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历史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根据材料二，概括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亚太经合组织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运行方式的特点，综合材料一二，结合所学知识，简要指出亚洲国家合作发展的有益经验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根据材料一所提示的角度并联系所学，指出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近代民族工业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最初产生的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时空范围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分析说明近代民族工业产生的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阅读材料二并联系材料一，您更侧重分析哪一种认识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侧重分析①，请结合所学进行阐述。侧重分析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洋务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根据所学梳理</a:t>
            </a: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詹氏贡献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并用一句话提炼概括詹天佑报国思想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。只列观点，不说理由不得分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79280" y="333360"/>
            <a:ext cx="87138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史料实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清初两淮和两浙的盐商家庭总共不及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家，而到乾隆末年，盐商家庭却已产生了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8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余名进士，占全国进土总数的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.88%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。这一现象反映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商人谋求转变社会地位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盐商经济实力迅速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士贵商贱观念已被打破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商人得到政府优厚待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《新青年》载文称：“你要想有益于社会，最妙的法子莫如把你自己这块材料铸造成器”，须他各人自己充分发展——这是人类功业顶高的一层；这是我们大家都应该做的事。”这一观点主要反映了新文化运动的发动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倡导民主科学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希望新青年自主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反对愚昧迷信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追求新文学平易新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1"/>
          <p:cNvSpPr/>
          <p:nvPr/>
        </p:nvSpPr>
        <p:spPr>
          <a:xfrm>
            <a:off x="0" y="404640"/>
            <a:ext cx="8964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家国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6-1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【加试题】有历史学者曾以忧时伤世的感情袒露自己在抗战孤岛——香港，读宋人著作的心灵感受，对两宋交替之际“汴京围困屈降诸卷，所述人事利害之回环，国论是非之纷错，殆极世态诡变之至奇。……乃取当日身历目睹之事，以相印证，则忽豁然心通意会。”这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问题意识有助于廓清扑朔迷离的历史与现实是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家国情怀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往往影响对历史与现实相关事件的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历史学家的历史观往往贯穿于对现实的把握与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．历史学者需坚守自己的专业范围不为现实利害所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1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3.</a:t>
            </a:r>
            <a:r>
              <a:rPr b="1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【加试题】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实现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“中国梦”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是中华民族近代以来最伟大的梦想，阅读材料，回答问题。（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摘录 1"/>
          <p:cNvSpPr/>
          <p:nvPr/>
        </p:nvSpPr>
        <p:spPr>
          <a:xfrm>
            <a:off x="0" y="260280"/>
            <a:ext cx="5688000" cy="5689800"/>
          </a:xfrm>
          <a:prstGeom prst="flowChartExtra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4"/>
          <p:cNvSpPr/>
          <p:nvPr/>
        </p:nvSpPr>
        <p:spPr>
          <a:xfrm>
            <a:off x="900000" y="4221000"/>
            <a:ext cx="3959280" cy="0"/>
          </a:xfrm>
          <a:prstGeom prst="line">
            <a:avLst/>
          </a:prstGeom>
          <a:ln w="9360">
            <a:solidFill>
              <a:srgbClr val="363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5"/>
          <p:cNvSpPr/>
          <p:nvPr/>
        </p:nvSpPr>
        <p:spPr>
          <a:xfrm>
            <a:off x="1692360" y="2565360"/>
            <a:ext cx="2303280" cy="0"/>
          </a:xfrm>
          <a:prstGeom prst="line">
            <a:avLst/>
          </a:prstGeom>
          <a:ln w="9360">
            <a:solidFill>
              <a:srgbClr val="363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47640" y="4797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基本历史史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979640" y="2852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概念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线索梳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史观认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0"/>
          <p:cNvSpPr/>
          <p:nvPr/>
        </p:nvSpPr>
        <p:spPr>
          <a:xfrm>
            <a:off x="219564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学科素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1"/>
          <p:cNvSpPr/>
          <p:nvPr/>
        </p:nvSpPr>
        <p:spPr>
          <a:xfrm>
            <a:off x="6300720" y="378936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学科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高考体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实践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13"/>
          <p:cNvSpPr/>
          <p:nvPr/>
        </p:nvSpPr>
        <p:spPr>
          <a:xfrm>
            <a:off x="6156360" y="4076640"/>
            <a:ext cx="0" cy="151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5508720" y="40464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破除了自己的几个误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学考选考难以协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没法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识记、背诵太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24000" y="549360"/>
            <a:ext cx="525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新高考试题变化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时间（两次    单场时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对象（不同考试时间带来的差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题型结构     主观客观      学考选考加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赋分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很多积极之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250920" y="404640"/>
            <a:ext cx="64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、教学及学生应对的压力陡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考试节奏带来的教学节奏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1"/>
          <p:cNvSpPr/>
          <p:nvPr/>
        </p:nvSpPr>
        <p:spPr>
          <a:xfrm>
            <a:off x="250920" y="209520"/>
            <a:ext cx="86421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三、应对方向及实践操作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落实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基本史实    基本概念   基本线索    基本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以学科素养为指向整合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精讲：通史复习   引导整理小专题    必修选修的打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以知识能力达成为目的设计考试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精炼：综合卷   小专题整合    强化卷     答题能力的强化攻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高度关注教学及学生学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制定教学一体的复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高度关注学生在学习过程中的全情参与   提高有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324000" y="333360"/>
            <a:ext cx="806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落实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基本史实    基本概念   基本线索    基本认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（以基本概念为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考点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：洋务运动与近代民族工业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考点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：中国走向社会主义市场经济体制的过程和意义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现代企业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考点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：文艺复兴时期人文主义的含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与宗教改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启蒙运动对人文主义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250920" y="26028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考点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：中国建立社会主义市场经济体制的过程和意义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------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现代企业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-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1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下图所示为我国经济体制改革进程中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国有企业的一种治理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1332000" y="1700280"/>
            <a:ext cx="3790800" cy="2666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3"/>
          <p:cNvSpPr/>
          <p:nvPr/>
        </p:nvSpPr>
        <p:spPr>
          <a:xfrm>
            <a:off x="324000" y="47242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）根据材料二和所学知识，指出上述模式所体现的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企业制度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这一制度的建立适应了什么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经济体制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的要求？概括指出该经济体制的的初步建立对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我国现阶段所有制结构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产生的重要影响。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4"/>
          <p:cNvSpPr/>
          <p:nvPr/>
        </p:nvSpPr>
        <p:spPr>
          <a:xfrm>
            <a:off x="0" y="0"/>
            <a:ext cx="78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（三）中共十四届三中全会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199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年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836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指出建立社会主义市场经济体制，就是要使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市场在国家宏观调控下对资源配置起基础作用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坚持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以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Corbel"/>
                <a:ea typeface="华文楷体"/>
              </a:rPr>
              <a:t>公有制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为主体、多种经济成分共同发展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的方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建立适应市场经济要求的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Corbel"/>
                <a:ea typeface="华文楷体"/>
              </a:rPr>
              <a:t>现代企业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制度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476280"/>
            <a:ext cx="2736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0" y="2565360"/>
            <a:ext cx="2736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）影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0" y="29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勾画出社会主义市场经济体制的基本框架，使中共十四大提出的经济体制改革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目标和基本原则具体化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0" y="3789360"/>
            <a:ext cx="78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（四）中共十五大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199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年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0" y="4221000"/>
            <a:ext cx="2736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0" y="4581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大会确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orbel"/>
                <a:ea typeface="华文楷体"/>
              </a:rPr>
              <a:t>邓小平理论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为中国共产党的指导思想，指出我国现阶段的一项基本经济制度是以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公有制为主体、多种所有制经济共同发展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；国有经济起主导作用，主要体现在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控制力上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；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公有制实现形式可以而且应当多样化</a:t>
            </a: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非公有制经济是中国社会主义市场经济的重要组成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105228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学情分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考情变化带来的思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69676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应对方向及实践操作策略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1"/>
          <p:cNvSpPr/>
          <p:nvPr/>
        </p:nvSpPr>
        <p:spPr>
          <a:xfrm>
            <a:off x="250920" y="260280"/>
            <a:ext cx="88930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考点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：文艺复兴时期人文主义的含义    文艺复兴与宗教改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启蒙运动对人文主义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-1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4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【加试题】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文艺复兴时期的人文主义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在世界文明史上留下了不灭的光辉。阅读材料，回答问题。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一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西斯廷小教堂的两幅壁画：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雅典学院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创世纪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对于赎罪券的抨击，有如一粒火种落在火药桶里， ……市民则到处传颂“九十五条论纲”。斯特拉斯堡的市民把九十五条论纲贴在教堂大门上。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人文主义者热烈欢呼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……用拉丁文写的这份论纲，被人们译成德语，争相传播，不胫而走，两星期内传遍德意志兰，一个月内传遍基督教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摘自丁建弘《德国通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(l)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材料一中的壁画内容分别源于什么故事？各自表现了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怎样的人文主义追求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？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阅读材料二，结合所学知识，概括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宗教改革对人文主义发展的主要贡献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综合材料一、二，指出这一时期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人文主义的主要诉求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。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108000" y="115920"/>
            <a:ext cx="892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人文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专题六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西方人文精神的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起源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导言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精神的滥觞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精神的涵义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三次大的演进和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一课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智者运动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主义的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起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苏格拉底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美德、理性、思想自由、人格尊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斯多亚学派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第一次论证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了西方人文主义的核心理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二课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及宗教改革时期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人文主义的诉求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批判神权、人性解放、思想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主义的表现形式是从肯定人的欲望和歌颂自然人性开始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宗教改革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更广泛层面更内在心灵角度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传播和发展了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复苏的人文主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   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三课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启蒙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文艺复兴与宗教改革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刚刚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解开了理性枷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启蒙运动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理性和自由平等思想获得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迅速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、 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第四课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理性之光、浪漫之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康德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思想自由、理性探讨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人类的主体地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浪漫主义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为人文精神增加了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情感、个性、尊重自然、宽容心态等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</a:t>
            </a:r>
            <a:r>
              <a:rPr b="1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总结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：启蒙运动时期的人文主义以人类的共同属性为前提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理性及人本身的彻底解放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浪漫主义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人文精神得到</a:t>
            </a:r>
            <a:r>
              <a:rPr b="1" lang="zh-CN" sz="1800" spc="-1" strike="noStrike">
                <a:solidFill>
                  <a:srgbClr val="363ff8"/>
                </a:solidFill>
                <a:latin typeface="Corbel"/>
                <a:ea typeface="华文楷体"/>
              </a:rPr>
              <a:t>深刻圆满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，西方人文精神不断发展、丰富、成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"/>
          <p:cNvSpPr/>
          <p:nvPr/>
        </p:nvSpPr>
        <p:spPr>
          <a:xfrm>
            <a:off x="324000" y="404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其他考点（高度关注加试部分含选修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中国古代的世官制、察举制与科举制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科举制的文化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资产阶级代议制在西方政治发展中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外国资本主义入侵对中国社会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英国政府为适应工业社会发展的需要所采取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英国、法国经济发展的新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马克思主义对中国历史发展的重大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启蒙运动对人文主义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1"/>
          <p:cNvSpPr/>
          <p:nvPr/>
        </p:nvSpPr>
        <p:spPr>
          <a:xfrm>
            <a:off x="0" y="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案例：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）英国政府为适应工业社会发展的需要所采取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C:\Users\Administrator\Desktop\2017-09\IMG_0568.JPG"/>
          <p:cNvPicPr/>
          <p:nvPr/>
        </p:nvPicPr>
        <p:blipFill>
          <a:blip r:embed="rId1"/>
          <a:stretch/>
        </p:blipFill>
        <p:spPr>
          <a:xfrm>
            <a:off x="684360" y="549360"/>
            <a:ext cx="7872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1"/>
          <p:cNvSpPr/>
          <p:nvPr/>
        </p:nvSpPr>
        <p:spPr>
          <a:xfrm>
            <a:off x="395280" y="189000"/>
            <a:ext cx="83534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关注对英国历史发展的有效梳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初     光荣革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两个法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君主立宪制的法律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叶    责任内阁制   君主立宪制的英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代   议会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"/>
          <p:cNvSpPr/>
          <p:nvPr/>
        </p:nvSpPr>
        <p:spPr>
          <a:xfrm>
            <a:off x="395280" y="2349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    新航路后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地理位置、重商主义、圈地运动、殖民扩张及霸权争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  176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，七年战争，英国成为世界上最大的殖民帝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后期  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19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世纪为主   打造“世界工厂”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民主化改革、自由主义、法制化、炮舰政策、科学技术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期，取得“世界工厂”的地位，伦敦中心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395280" y="436572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文艺复习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宗教改革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启蒙运动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牛顿 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）  达尔文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250920" y="115920"/>
            <a:ext cx="835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关注对英国历史发展的有效梳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    新航路后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地理位置、重商主义、圈地运动、殖民扩张及霸权争夺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  176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，七年战争，英国成为世界上最大的殖民帝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文艺复习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宗教改革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启蒙运动的英国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牛顿 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末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初     光荣革命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两个法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君主立宪制的法律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叶    责任内阁制   君主立宪制的英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后期  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年代   议会改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达尔文（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19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世纪为主   打造“世界工厂”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民主化改革、自由主义、法制化、炮舰政策、科学技术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纪中期，取得“世界工厂”的地位，伦敦中心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1"/>
          <p:cNvSpPr/>
          <p:nvPr/>
        </p:nvSpPr>
        <p:spPr>
          <a:xfrm>
            <a:off x="250920" y="476280"/>
            <a:ext cx="68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前提还是对教材的基本梳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基本概念的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线索的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整合的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能力在过程中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C:\Users\Administrator\Desktop\高三历史研讨会\学生笔记图图片\IMG_0495.JPG"/>
          <p:cNvPicPr/>
          <p:nvPr/>
        </p:nvPicPr>
        <p:blipFill>
          <a:blip r:embed="rId1"/>
          <a:stretch/>
        </p:blipFill>
        <p:spPr>
          <a:xfrm>
            <a:off x="3995640" y="260280"/>
            <a:ext cx="48974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250920" y="404640"/>
            <a:ext cx="8424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以学科素养为指向整合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精讲：通史复习   引导学生整理小专题    必修选修的打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小专题例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民族复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党的建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地区冲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一带一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555920" y="2468520"/>
          <a:ext cx="7337160" cy="3567240"/>
        </p:xfrm>
        <a:graphic>
          <a:graphicData uri="http://schemas.openxmlformats.org/drawingml/2006/table">
            <a:tbl>
              <a:tblPr/>
              <a:tblGrid>
                <a:gridCol w="3789360"/>
                <a:gridCol w="922320"/>
                <a:gridCol w="923760"/>
                <a:gridCol w="895320"/>
                <a:gridCol w="806400"/>
              </a:tblGrid>
              <a:tr h="2746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历史近三年高考考点对比（选考部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知识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分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古代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4+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近代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（史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4+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现代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古代世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近代世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4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现代世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二十世纪的战争与和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世界文化遗产荟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中外历史人物评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+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1"/>
          <p:cNvSpPr/>
          <p:nvPr/>
        </p:nvSpPr>
        <p:spPr>
          <a:xfrm>
            <a:off x="179280" y="404640"/>
            <a:ext cx="896472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时空观念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资本主义经济发展的几个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人口的聚集是近代欧洲城市发展的重要表现。比较图一和图二，导致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里斯本、塞维利亚、安特卫普、伦敦等城市迅速发展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的原因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资本主义工商业的发展和新航路开辟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第一次工业革命促进人口大规模流动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强大的垄断公司进行频繁的资本输出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欧洲联合推动人员和劳务的自由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"/>
          <p:cNvGrpSpPr/>
          <p:nvPr/>
        </p:nvGrpSpPr>
        <p:grpSpPr>
          <a:xfrm>
            <a:off x="900000" y="3357720"/>
            <a:ext cx="7128000" cy="3166920"/>
            <a:chOff x="900000" y="3357720"/>
            <a:chExt cx="7128000" cy="3166920"/>
          </a:xfrm>
        </p:grpSpPr>
        <p:sp>
          <p:nvSpPr>
            <p:cNvPr id="537" name="椭圆 20"/>
            <p:cNvSpPr/>
            <p:nvPr/>
          </p:nvSpPr>
          <p:spPr>
            <a:xfrm>
              <a:off x="6720120" y="3907440"/>
              <a:ext cx="11448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1"/>
            <p:cNvSpPr/>
            <p:nvPr/>
          </p:nvSpPr>
          <p:spPr>
            <a:xfrm>
              <a:off x="6676200" y="5009760"/>
              <a:ext cx="149760" cy="16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组合 19"/>
            <p:cNvGrpSpPr/>
            <p:nvPr/>
          </p:nvGrpSpPr>
          <p:grpSpPr>
            <a:xfrm>
              <a:off x="900000" y="3357720"/>
              <a:ext cx="2769840" cy="3166920"/>
              <a:chOff x="900000" y="3357720"/>
              <a:chExt cx="2769840" cy="3166920"/>
            </a:xfrm>
          </p:grpSpPr>
          <p:sp>
            <p:nvSpPr>
              <p:cNvPr id="540" name="文本框 2"/>
              <p:cNvSpPr/>
              <p:nvPr/>
            </p:nvSpPr>
            <p:spPr>
              <a:xfrm>
                <a:off x="910800" y="3358440"/>
                <a:ext cx="678960" cy="159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1" name="图片 18" descr="图片1"/>
              <p:cNvPicPr/>
              <p:nvPr/>
            </p:nvPicPr>
            <p:blipFill>
              <a:blip r:embed="rId2"/>
              <a:stretch/>
            </p:blipFill>
            <p:spPr>
              <a:xfrm>
                <a:off x="900000" y="3357720"/>
                <a:ext cx="2769840" cy="3166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542" name="文本框 2"/>
            <p:cNvSpPr/>
            <p:nvPr/>
          </p:nvSpPr>
          <p:spPr>
            <a:xfrm>
              <a:off x="907920" y="3367440"/>
              <a:ext cx="5990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图一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图片 15" descr="2"/>
            <p:cNvPicPr/>
            <p:nvPr/>
          </p:nvPicPr>
          <p:blipFill>
            <a:blip r:embed="rId4"/>
            <a:stretch/>
          </p:blipFill>
          <p:spPr>
            <a:xfrm>
              <a:off x="3749400" y="3388680"/>
              <a:ext cx="2777760" cy="311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4" name="文本框 2"/>
            <p:cNvSpPr/>
            <p:nvPr/>
          </p:nvSpPr>
          <p:spPr>
            <a:xfrm>
              <a:off x="3758400" y="3387600"/>
              <a:ext cx="599040" cy="442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图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2"/>
            <p:cNvSpPr/>
            <p:nvPr/>
          </p:nvSpPr>
          <p:spPr>
            <a:xfrm>
              <a:off x="6579000" y="3988080"/>
              <a:ext cx="144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愈</a:t>
              </a:r>
              <a:r>
                <a:rPr b="1" lang="en-US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00000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城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文本框 2"/>
            <p:cNvSpPr/>
            <p:nvPr/>
          </p:nvSpPr>
          <p:spPr>
            <a:xfrm>
              <a:off x="6552360" y="5148000"/>
              <a:ext cx="144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愈</a:t>
              </a:r>
              <a:r>
                <a:rPr b="1" lang="en-US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00000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城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0" y="476280"/>
            <a:ext cx="28796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资本主义工商业的发展和新航路开辟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第一次工业革命促进人口大规模流动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强大的垄断公司进行频繁的资本输出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欧洲联合推动人员和劳务的自由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3059280" y="1268280"/>
            <a:ext cx="2881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早期殖民扩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第一次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第二次工业革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战后全球化、区域集团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6084720" y="2133720"/>
            <a:ext cx="3059280" cy="43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界市场粗具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界市场初步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更加理智、成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世界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战后资本主义世界经济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全球化浪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395280" y="47628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一、学情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届历史教学组织及考试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8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届教学组织及教学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、学生现阶段学习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7848360" cy="3067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7921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Users\Administrator\Desktop\IMG_0580.JPG"/>
          <p:cNvPicPr/>
          <p:nvPr/>
        </p:nvPicPr>
        <p:blipFill>
          <a:blip r:embed="rId1"/>
          <a:stretch/>
        </p:blipFill>
        <p:spPr>
          <a:xfrm>
            <a:off x="1476360" y="76500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95280" y="476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年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46836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培养学生讲故事的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https://timgsa.baidu.com/timg?image&amp;quality=80&amp;size=b9999_10000&amp;sec=1506434999631&amp;di=bcc953086436e4690a77327c8d3bac7d&amp;imgtype=0&amp;src=http%3A%2F%2Fpic.58pic.com%2F58pic%2F15%2F70%2F31%2F57f58PICcqR_1024.JPG"/>
          <p:cNvPicPr/>
          <p:nvPr/>
        </p:nvPicPr>
        <p:blipFill>
          <a:blip r:embed="rId1"/>
          <a:stretch/>
        </p:blipFill>
        <p:spPr>
          <a:xfrm>
            <a:off x="0" y="1773360"/>
            <a:ext cx="4546440" cy="3747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ttps://timgsa.baidu.com/timg?image&amp;quality=80&amp;size=b9999_10000&amp;sec=1506435136671&amp;di=f3890917b1c5c3d95ed725fe0af821da&amp;imgtype=0&amp;src=http%3A%2F%2Fp3.pstatp.com%2Flarge%2F6d10001b6c9244bf68b"/>
          <p:cNvPicPr/>
          <p:nvPr/>
        </p:nvPicPr>
        <p:blipFill>
          <a:blip r:embed="rId2"/>
          <a:stretch/>
        </p:blipFill>
        <p:spPr>
          <a:xfrm>
            <a:off x="4643280" y="1557360"/>
            <a:ext cx="4213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"/>
          <p:cNvSpPr/>
          <p:nvPr/>
        </p:nvSpPr>
        <p:spPr>
          <a:xfrm>
            <a:off x="324000" y="476280"/>
            <a:ext cx="849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、以知识能力达成为手段设计考试训练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---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以答题能力的强化攻坚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12"/>
          <p:cNvGrpSpPr/>
          <p:nvPr/>
        </p:nvGrpSpPr>
        <p:grpSpPr>
          <a:xfrm>
            <a:off x="250920" y="1413000"/>
            <a:ext cx="2665440" cy="3456000"/>
            <a:chOff x="250920" y="1413000"/>
            <a:chExt cx="2665440" cy="3456000"/>
          </a:xfrm>
        </p:grpSpPr>
        <p:sp>
          <p:nvSpPr>
            <p:cNvPr id="559" name="流程图: 过程 3"/>
            <p:cNvSpPr/>
            <p:nvPr/>
          </p:nvSpPr>
          <p:spPr>
            <a:xfrm>
              <a:off x="250920" y="1413000"/>
              <a:ext cx="2665440" cy="863640"/>
            </a:xfrm>
            <a:prstGeom prst="flowChartProcess">
              <a:avLst/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流程图: 过程 4"/>
            <p:cNvSpPr/>
            <p:nvPr/>
          </p:nvSpPr>
          <p:spPr>
            <a:xfrm>
              <a:off x="250920" y="2708280"/>
              <a:ext cx="2665440" cy="865080"/>
            </a:xfrm>
            <a:prstGeom prst="flowChartProcess">
              <a:avLst/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流程图: 过程 5"/>
            <p:cNvSpPr/>
            <p:nvPr/>
          </p:nvSpPr>
          <p:spPr>
            <a:xfrm>
              <a:off x="250920" y="4005360"/>
              <a:ext cx="2665440" cy="863640"/>
            </a:xfrm>
            <a:prstGeom prst="flowChartProcess">
              <a:avLst/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6"/>
            <p:cNvSpPr/>
            <p:nvPr/>
          </p:nvSpPr>
          <p:spPr>
            <a:xfrm>
              <a:off x="349560" y="426420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考点、基础知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7"/>
            <p:cNvSpPr/>
            <p:nvPr/>
          </p:nvSpPr>
          <p:spPr>
            <a:xfrm>
              <a:off x="250920" y="2795400"/>
              <a:ext cx="25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史料研读、问题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8"/>
            <p:cNvSpPr/>
            <p:nvPr/>
          </p:nvSpPr>
          <p:spPr>
            <a:xfrm>
              <a:off x="349560" y="1585800"/>
              <a:ext cx="246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理顺思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rbel"/>
                  <a:ea typeface="华文楷体"/>
                </a:rPr>
                <a:t>清晰完整作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直接箭头连接符 10"/>
            <p:cNvCxnSpPr>
              <a:stCxn id="560" idx="2"/>
              <a:endCxn id="561" idx="0"/>
            </p:cNvCxnSpPr>
            <p:nvPr/>
          </p:nvCxnSpPr>
          <p:spPr>
            <a:xfrm>
              <a:off x="1584000" y="3573360"/>
              <a:ext cx="1080" cy="432360"/>
            </a:xfrm>
            <a:prstGeom prst="straightConnector1">
              <a:avLst/>
            </a:prstGeom>
            <a:ln w="9360">
              <a:solidFill>
                <a:srgbClr val="ccb661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66" name="直接箭头连接符 11"/>
            <p:cNvCxnSpPr/>
            <p:nvPr/>
          </p:nvCxnSpPr>
          <p:spPr>
            <a:xfrm>
              <a:off x="1533240" y="2276280"/>
              <a:ext cx="1080" cy="432360"/>
            </a:xfrm>
            <a:prstGeom prst="straightConnector1">
              <a:avLst/>
            </a:prstGeom>
            <a:ln w="9360">
              <a:solidFill>
                <a:srgbClr val="ccb661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567" name="TextBox 13"/>
          <p:cNvSpPr/>
          <p:nvPr/>
        </p:nvSpPr>
        <p:spPr>
          <a:xfrm>
            <a:off x="2916360" y="1413000"/>
            <a:ext cx="62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学生的几个问题：不重视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不重视审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不重视组织答案的有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不重视基本的答题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几个建议：控制数量，不搞疲劳轰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控制难度，争取巧中求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改编试题，适应学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讲解精当，方法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3"/>
          <p:cNvSpPr/>
          <p:nvPr/>
        </p:nvSpPr>
        <p:spPr>
          <a:xfrm>
            <a:off x="324000" y="40464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阅读材料，请回答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材料一 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“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马歇尔计划改变了美国处理与欧洲关系的方式，为此也改变了欧洲国家处理相互关系的方式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……它播下了制度的种子，逐渐将西欧连接在一起，建立了欧洲经济与合作组织、欧洲联盟和北约等机制，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为弥合历史久远的分歧奠定了基础。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美国总统克林顿在纪念马歇尔计划讲话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周年时讲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材料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整理自“百度．百科”：“中国版马歇尔计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）根据材料并结合所学分析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马歇尔计划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出笼的背景及其产生的影响。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）综合材料一、二，从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实质角度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谈谈你对“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中国版马歇尔计划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”观点的认识，结合所学举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例说明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世纪之交</a:t>
            </a:r>
            <a:r>
              <a:rPr b="0" lang="zh-CN" sz="1800" spc="-1" strike="noStrike">
                <a:solidFill>
                  <a:srgbClr val="ff0000"/>
                </a:solidFill>
                <a:latin typeface="Corbel"/>
                <a:ea typeface="华文楷体"/>
              </a:rPr>
              <a:t>中国政府在外交领域为世界和平发展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所作的贡献。（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042920" y="2492280"/>
          <a:ext cx="7345440" cy="1646280"/>
        </p:xfrm>
        <a:graphic>
          <a:graphicData uri="http://schemas.openxmlformats.org/drawingml/2006/table">
            <a:tbl>
              <a:tblPr/>
              <a:tblGrid>
                <a:gridCol w="1757520"/>
                <a:gridCol w="5587920"/>
              </a:tblGrid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习近平提出建设“丝绸之路经济带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习近平提出建设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21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世纪海上丝绸之路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中国、印度、新加坡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国决定成立“亚投行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20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66760" indent="-2667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兴业证券研究报告认为“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Corbel"/>
                          <a:ea typeface="华文楷体"/>
                        </a:rPr>
                        <a:t>中国版马歇尔计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orbel"/>
                          <a:ea typeface="华文楷体"/>
                        </a:rPr>
                        <a:t>”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324000" y="404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Corbel"/>
                <a:ea typeface="华文楷体"/>
              </a:rPr>
              <a:t>一带一路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概念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古代丝绸之路   汉、唐、宋元、明清，为何兴盛？为何衰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区别郑和下西洋，区别马歇尔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早期殖民扩张   三角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英国主导的资本主义世界市场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战后美国主导的世界贸易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全球化浪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C:\Users\Administrator\Desktop\2017-09\IMG_0581.JPG"/>
          <p:cNvPicPr/>
          <p:nvPr/>
        </p:nvPicPr>
        <p:blipFill>
          <a:blip r:embed="rId1"/>
          <a:stretch/>
        </p:blipFill>
        <p:spPr>
          <a:xfrm>
            <a:off x="3995640" y="33336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2"/>
          <p:cNvSpPr/>
          <p:nvPr/>
        </p:nvSpPr>
        <p:spPr>
          <a:xfrm>
            <a:off x="324000" y="549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ff8"/>
                </a:solidFill>
                <a:latin typeface="Corbel"/>
                <a:ea typeface="华文楷体"/>
              </a:rPr>
              <a:t>精编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324000" y="40464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高度关注教学及学生学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制定教学一体的复习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高度关注学生在学习过程中的全情参与   提高有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全程参与不等于全情投入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课堂效益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改善操作过程的硬件、软件（设施设备、答疑、问题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1"/>
          <p:cNvSpPr/>
          <p:nvPr/>
        </p:nvSpPr>
        <p:spPr>
          <a:xfrm>
            <a:off x="1042920" y="2060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63ff8"/>
                </a:solidFill>
                <a:latin typeface="Corbel"/>
                <a:ea typeface="华文楷体"/>
              </a:rPr>
              <a:t>敬请批评指正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395280" y="4762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017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届历史教学组织及考试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468360" y="1268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教学组织：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C4A8B----1C4A-----5A-----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届   学考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559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人，选考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9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539640" y="3284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几点教训：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随着教学班规模、形式变化及时调整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降低身段，重视基本概念、基本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高度重视加试题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分的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高度重视必修选修的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395280" y="476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018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届教学组织及教学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教学组织：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C3A8B-----2C3A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选考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94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月开始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选修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必修一轮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小专题加精炼精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选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395280" y="476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学生现阶段学习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几个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知识相对熟悉，但线索、特征掌握不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把题目做好的愿望强烈，但做题能力没有实质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）意识到首次选考的重要性，但疲态已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468360" y="836640"/>
            <a:ext cx="51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二、考情变化带来的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试题指向明确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--------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学科核心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新高考试题结构变化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教学及学生应对的压力陡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611280" y="692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、试题指向明确</a:t>
            </a:r>
            <a:r>
              <a:rPr b="1" lang="en-US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--------</a:t>
            </a:r>
            <a:r>
              <a:rPr b="1" lang="zh-CN" sz="2400" spc="-1" strike="noStrike">
                <a:solidFill>
                  <a:srgbClr val="363ff8"/>
                </a:solidFill>
                <a:latin typeface="Corbel"/>
                <a:ea typeface="华文楷体"/>
              </a:rPr>
              <a:t>学科核心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"/>
          <p:cNvSpPr/>
          <p:nvPr/>
        </p:nvSpPr>
        <p:spPr>
          <a:xfrm>
            <a:off x="826920" y="1484280"/>
            <a:ext cx="61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历史学科核心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理论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唯物史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思维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时空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方法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史料实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能力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历史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核心价值观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--------------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华文楷体"/>
              </a:rPr>
              <a:t>家国情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0" y="333360"/>
            <a:ext cx="9144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rbel"/>
                <a:ea typeface="华文楷体"/>
              </a:rPr>
              <a:t>时空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27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、【加试题】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1866</a:t>
            </a:r>
            <a:r>
              <a:rPr b="1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年清朝官员斌椿考察欧洲，所著《乘槎笔记》被认为是中国知识分子最早亲历欧洲的记述。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下列项中，不可能在其笔记中出现的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在伦敦，访威斯敏斯特宫（议会所在地），“高峻宏敞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到曼彻斯特，观纺织工厂“皆用火轮法，总轮有四百匹马力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在巴黎，见“电机寄信法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通都大邑以及乡村镇市，线到处，皆可通信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到柏林，访帝国议会，见“会议厅甚大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------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旁有皇座，备德皇降临之用焉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17-4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30.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【加试题】世界文化造产有其特定的时代性与区域性，下国所示罗马文化遗迹，按其</a:t>
            </a:r>
            <a:r>
              <a:rPr b="0" lang="zh-CN" sz="2000" spc="-1" strike="noStrike">
                <a:solidFill>
                  <a:srgbClr val="ff0000"/>
                </a:solidFill>
                <a:latin typeface="Corbel"/>
                <a:ea typeface="华文楷体"/>
              </a:rPr>
              <a:t>建成的先后顺序排列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正确的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A. 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①③④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①④③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④①②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Corbel"/>
                <a:ea typeface="华文楷体"/>
              </a:rPr>
              <a:t>④②①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" descr="C:\DOCUME~1\ADMINI~1\LOCALS~1\Temp\WeChat Files\251445170368241726.jpg"/>
          <p:cNvPicPr/>
          <p:nvPr/>
        </p:nvPicPr>
        <p:blipFill>
          <a:blip r:embed="rId1"/>
          <a:stretch/>
        </p:blipFill>
        <p:spPr>
          <a:xfrm>
            <a:off x="4859280" y="3933720"/>
            <a:ext cx="3673440" cy="2600280"/>
          </a:xfrm>
          <a:prstGeom prst="rect">
            <a:avLst/>
          </a:prstGeom>
          <a:ln w="0">
            <a:noFill/>
          </a:ln>
        </p:spPr>
      </p:pic>
      <p:sp>
        <p:nvSpPr>
          <p:cNvPr id="494" name="TextBox 3"/>
          <p:cNvSpPr/>
          <p:nvPr/>
        </p:nvSpPr>
        <p:spPr>
          <a:xfrm>
            <a:off x="2484360" y="18900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16-10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，</a:t>
            </a:r>
            <a:r>
              <a:rPr b="1" lang="en-US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31 (2)</a:t>
            </a:r>
            <a:r>
              <a:rPr b="1" lang="zh-CN" sz="2000" spc="-1" strike="noStrike">
                <a:solidFill>
                  <a:srgbClr val="363ff8"/>
                </a:solidFill>
                <a:latin typeface="Corbel"/>
                <a:ea typeface="华文楷体"/>
              </a:rPr>
              <a:t>人类是在特定的空间里创造历史，而历史又在不断地改变着人类的空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09:17:42Z</dcterms:created>
  <dc:creator>Administrator</dc:creator>
  <dc:description/>
  <dc:language>en-US</dc:language>
  <cp:lastModifiedBy>Administrator</cp:lastModifiedBy>
  <dcterms:modified xsi:type="dcterms:W3CDTF">2017-10-06T11:41:57Z</dcterms:modified>
  <cp:revision>81</cp:revision>
  <dc:subject/>
  <dc:title>幻灯片 1</dc:title>
</cp:coreProperties>
</file>