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E823-0733-4983-9FF4-F7A3425C4D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6FA-D7A1-4861-913D-2C89542B0B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9BF-9725-4549-8B17-9718483B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22A-DDEA-4928-BAD7-22B1C46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906-8F73-49BC-9316-1849E2CD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D01-2A1D-42E2-BC1B-22E02F31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C04F-51E6-4E0B-9D20-BE62729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9340-2DAF-43F8-9242-D688676C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23F7-7CE2-4663-9E92-F5949411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AC1E-BDC7-43BB-A386-1B290C4C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44F0-D378-4848-BF1A-CD02A4B4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4259-9448-49DD-8768-62F5A25A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7015-9EF8-4F89-ABEA-566570F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7B9-9943-4D2B-B4E3-359D728D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73C9-7460-4E6A-A35D-EFB9FD4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1911-3C35-4FAD-98BC-758AAF4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BD2D-D249-4DBE-85DB-C8EAE1F4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F451-4960-4AFD-AF79-99B823CB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08BF-779E-4013-84B6-5347ED8F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7FA-25A8-4BB9-B7C6-4E0EF40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116-8EDF-4DE1-B6CE-F8058CEB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C3B-CE0A-49E6-83E6-391BAEC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163-68F0-4B9C-84DD-6EF4914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390-16D3-4F2D-82AD-065D9D3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127-64C7-48C5-9CF8-C4E44F0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DA5-5151-4E0D-B315-EDE435E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ACD3-4C45-42F2-B3B6-66AA545976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DED2-0C70-4F8D-9786-C0298E802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940360" y="321444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迷你简超粗圆"/>
                <a:ea typeface="迷你简超粗圆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迷你简超粗圆"/>
                <a:ea typeface="迷你简超粗圆"/>
              </a:rPr>
              <a:t>中国是一只睡狮，一旦它醒来，整个世界都会为之颤抖——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0" t="2439" r="8130" b="0"/>
          <a:stretch/>
        </p:blipFill>
        <p:spPr>
          <a:xfrm>
            <a:off x="11160" y="2700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5897160" y="605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拿破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《中国人民政治协商会议共同纲领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新中国的名称</a:t>
            </a:r>
            <a:r>
              <a:rPr b="1" lang="zh-CN" sz="3200" spc="-1" strike="noStrike">
                <a:solidFill>
                  <a:srgbClr val="050507"/>
                </a:solidFill>
                <a:latin typeface="Arial"/>
              </a:rPr>
              <a:t>——中华人民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国家性质</a:t>
            </a:r>
            <a:r>
              <a:rPr b="1" lang="zh-CN" sz="3200" spc="-1" strike="noStrike">
                <a:solidFill>
                  <a:srgbClr val="050507"/>
                </a:solidFill>
                <a:latin typeface="Arial"/>
              </a:rPr>
              <a:t>——工人阶级领导的以工农联盟为基础的人民民主专政的国家，人民是国家的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作用</a:t>
            </a:r>
            <a:r>
              <a:rPr b="1" lang="zh-CN" sz="3200" spc="-1" strike="noStrike">
                <a:solidFill>
                  <a:srgbClr val="050507"/>
                </a:solidFill>
                <a:latin typeface="Arial"/>
              </a:rPr>
              <a:t>——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相当于临时宪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44600" y="1557360"/>
            <a:ext cx="304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324000" y="836640"/>
            <a:ext cx="8229600" cy="4724280"/>
            <a:chOff x="324000" y="836640"/>
            <a:chExt cx="8229600" cy="4724280"/>
          </a:xfrm>
        </p:grpSpPr>
        <p:sp>
          <p:nvSpPr>
            <p:cNvPr id="564" name=""/>
            <p:cNvSpPr/>
            <p:nvPr/>
          </p:nvSpPr>
          <p:spPr>
            <a:xfrm>
              <a:off x="324000" y="836640"/>
              <a:ext cx="8229600" cy="4724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8800">
              <a:off x="1221120" y="1722240"/>
              <a:ext cx="897480" cy="8856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40800">
              <a:off x="2268720" y="1205640"/>
              <a:ext cx="373680" cy="36864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3132000">
              <a:off x="2570400" y="1793160"/>
              <a:ext cx="368640" cy="37404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871800">
              <a:off x="2418480" y="2386080"/>
              <a:ext cx="373680" cy="3690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716800">
              <a:off x="2047320" y="2900520"/>
              <a:ext cx="368640" cy="37368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5448240" y="1887480"/>
            <a:ext cx="3048120" cy="132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红色代表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黄色代表光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195640" y="404640"/>
            <a:ext cx="2666880" cy="914400"/>
            <a:chOff x="2195640" y="404640"/>
            <a:chExt cx="2666880" cy="914400"/>
          </a:xfrm>
        </p:grpSpPr>
        <p:sp>
          <p:nvSpPr>
            <p:cNvPr id="572" name=""/>
            <p:cNvSpPr/>
            <p:nvPr/>
          </p:nvSpPr>
          <p:spPr>
            <a:xfrm>
              <a:off x="2195640" y="404640"/>
              <a:ext cx="2666880" cy="914400"/>
            </a:xfrm>
            <a:prstGeom prst="wedgeRoundRectCallout">
              <a:avLst>
                <a:gd name="adj1" fmla="val -64462"/>
                <a:gd name="adj2" fmla="val 106425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47920" y="55692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中国共产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3348000" y="3860640"/>
            <a:ext cx="3276720" cy="838440"/>
          </a:xfrm>
          <a:prstGeom prst="wedgeRoundRectCallout">
            <a:avLst>
              <a:gd name="adj1" fmla="val -73689"/>
              <a:gd name="adj2" fmla="val -170833"/>
              <a:gd name="adj3" fmla="val 16667"/>
            </a:avLst>
          </a:prstGeom>
          <a:solidFill>
            <a:srgbClr val="ffffff"/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全国各族人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5734080"/>
            <a:ext cx="8209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五颗五角星及其相互关系象征共产党领导下的革命人民大团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000" y="2997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新中国国徽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旗和天安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为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国旗表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革命政权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天安门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四运动以来的革命斗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，也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人民共和国的诞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齿轮和麦稻穗，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农联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guoqi11"/>
          <p:cNvPicPr/>
          <p:nvPr/>
        </p:nvPicPr>
        <p:blipFill>
          <a:blip r:embed="rId1"/>
          <a:stretch/>
        </p:blipFill>
        <p:spPr>
          <a:xfrm>
            <a:off x="2843280" y="0"/>
            <a:ext cx="2665440" cy="3429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579720" y="1268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宋体-方正超大字符集"/>
              </a:rPr>
              <a:t>国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73920" cy="5322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2978280" cy="1484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3276720" y="54864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词作者：田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59436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曲作者：聂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164360" cy="53719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6699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“三年以来，在人民解放战争中和人民革命中牺牲的人民英雄们永垂不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三十年来，在人民解放战争中和人民革命中牺牲的人民英雄们永垂不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由此上溯到一千八百四十年，从那时起，为了反对内外敌人，争取民族独立和人民自由幸福，在历次斗争中牺牲的人民英雄们永垂不朽！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民英雄纪念碑碑文：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08360" y="0"/>
            <a:ext cx="4248360" cy="936720"/>
          </a:xfrm>
          <a:prstGeom prst="cloudCallout">
            <a:avLst>
              <a:gd name="adj1" fmla="val -75000"/>
              <a:gd name="adj2" fmla="val 92541"/>
            </a:avLst>
          </a:prstGeom>
          <a:solidFill>
            <a:srgbClr val="3333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解放战争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5106240" y="13680"/>
            <a:ext cx="1241280" cy="5046480"/>
          </a:xfrm>
          <a:prstGeom prst="wedgeRoundRectCallout">
            <a:avLst>
              <a:gd name="adj1" fmla="val -37027"/>
              <a:gd name="adj2" fmla="val -64814"/>
              <a:gd name="adj3" fmla="val 16667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以五四运动为起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新民主主义革命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03280" y="5661000"/>
            <a:ext cx="5977080" cy="936720"/>
          </a:xfrm>
          <a:prstGeom prst="wedgeRectCallout">
            <a:avLst>
              <a:gd name="adj1" fmla="val 11541"/>
              <a:gd name="adj2" fmla="val -135592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鸦片战争（近代史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3500280"/>
            <a:ext cx="237816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47640" y="1268280"/>
            <a:ext cx="230508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08360" y="4941720"/>
            <a:ext cx="367200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913440" cy="47516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090880" y="0"/>
            <a:ext cx="494640" cy="9169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二、开国大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92360" y="589752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1949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10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5808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7" name=""/>
          <p:cNvSpPr/>
          <p:nvPr/>
        </p:nvSpPr>
        <p:spPr>
          <a:xfrm>
            <a:off x="6300720" y="549360"/>
            <a:ext cx="251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毛泽东在天安门城楼上庄严宣告：“中华人民共和国中央人民政府今天成立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1031" descr="图片1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WordArt 1028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8435880" cy="3144960"/>
          </a:xfrm>
          <a:prstGeom prst="rect">
            <a:avLst/>
          </a:prstGeom>
          <a:ln w="0">
            <a:noFill/>
          </a:ln>
        </p:spPr>
      </p:pic>
      <p:pic>
        <p:nvPicPr>
          <p:cNvPr id="601" name="WordArt 1029" descr=""/>
          <p:cNvPicPr/>
          <p:nvPr/>
        </p:nvPicPr>
        <p:blipFill>
          <a:blip r:embed="rId3"/>
          <a:stretch/>
        </p:blipFill>
        <p:spPr>
          <a:xfrm>
            <a:off x="1603440" y="907920"/>
            <a:ext cx="6497640" cy="16574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030"/>
          <p:cNvSpPr/>
          <p:nvPr/>
        </p:nvSpPr>
        <p:spPr>
          <a:xfrm>
            <a:off x="0" y="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知识拓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3029040" cy="70344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活 动 探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23200" y="6206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结合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-方正超大字符集"/>
              </a:rPr>
              <a:t>以下图片及材料从国内、国际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中华人民共和国成立的历史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627280" cy="27352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2987640" y="184464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2935440" cy="26654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297080" y="4627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《南京条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92720" y="4627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《马关条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29320" y="604692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56360" y="4627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《辛丑条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530064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二战”后，非洲兴起独立浪潮。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195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年，埃及推翻英国的傀儡政权，建立埃及共和国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19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年是“非洲独立年”，这一年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个国家获得独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13360" y="69228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国内意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1484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开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中国历史新纪元，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结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一百多年来被侵略被奴役的屈辱历史，真正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成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独立自主的国家，中国人民从此站起来了，成为国家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3720" y="3933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国际意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4724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壮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世界和平、民主和社会主义的力量，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鼓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世界被压迫民族和被压迫人民争取解放的斗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1557360"/>
            <a:ext cx="129528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093080" y="2781360"/>
            <a:ext cx="17524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9280" y="3357720"/>
            <a:ext cx="856944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933720"/>
            <a:ext cx="12589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08720" y="1628640"/>
            <a:ext cx="1218960" cy="53352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620640"/>
            <a:ext cx="5867280" cy="576360"/>
          </a:xfrm>
          <a:prstGeom prst="wedgeRoundRectCallout">
            <a:avLst>
              <a:gd name="adj1" fmla="val -3435"/>
              <a:gd name="adj2" fmla="val 111981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黑体"/>
              </a:rPr>
              <a:t>半殖民地半封建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 rot="591600">
            <a:off x="23760" y="-417240"/>
            <a:ext cx="22464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合作探究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国歌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1997年7月1日解放军进驻香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4"/>
          <p:cNvSpPr/>
          <p:nvPr/>
        </p:nvSpPr>
        <p:spPr>
          <a:xfrm>
            <a:off x="900000" y="1197000"/>
            <a:ext cx="73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中华人民共和国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（中国现代史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961360" y="357336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949.10.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～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889308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26323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5877720" y="6237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人民解放军进入拉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26920" y="1052640"/>
            <a:ext cx="24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0560" y="105264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1951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256536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64000" y="234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祖国大陆获得了统一，各族人民实现了大团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670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日，毛泽东在北京设宴款待班禅额尔德尼和阿沛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旺晋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3745080" cy="22924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2779920" y="0"/>
            <a:ext cx="494640" cy="9169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三、西藏和平解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00000" y="191628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13520" y="18162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阿沛• 阿旺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313080" cy="13255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1268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现在有人要搞西藏“独立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谈谈你对藏独分子分裂祖国行为的看法？并用史实说明西藏是中国领土不可分割的一部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95280" y="981000"/>
            <a:ext cx="8139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唐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元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清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981080" y="9810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唐太宗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成公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入吐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唐中宗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金城公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入吐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835280" y="278136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设宣政院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管辖今天的西藏地区。西藏正式归属中央政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835280" y="4083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顺治帝册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五世达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达赖喇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康熙帝册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五世班禅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班禅额尔德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雍正帝设置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驻藏大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乾隆帝时形成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金瓶掣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45200" y="1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-方正超大字符集"/>
              </a:rPr>
              <a:t>用史实说明西藏是中国领土不可分割的一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个意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人民共和国成立的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二个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 ；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三个事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届中国人民政治协商会议召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国大典；    西藏和平解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四个决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旗、国歌、首都、纪念碑等决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3"/>
          <p:cNvSpPr txBox="1"/>
          <p:nvPr/>
        </p:nvSpPr>
        <p:spPr>
          <a:xfrm>
            <a:off x="324000" y="260280"/>
            <a:ext cx="42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新中国建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年庆典上，天安门广场以复兴之路为主题，举行了盛大的阅兵式和群众游行。下面是一组庆典上的游行方阵，其中喻指新中国诞生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开天辟地方阵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艰苦创业方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春天的故事方阵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走进新时代方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1871640" cy="15840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2089080" cy="1441440"/>
          </a:xfrm>
          <a:prstGeom prst="rect">
            <a:avLst/>
          </a:prstGeom>
          <a:ln w="0">
            <a:noFill/>
          </a:ln>
        </p:spPr>
      </p:pic>
      <p:pic>
        <p:nvPicPr>
          <p:cNvPr id="649" name="imgb" descr=""/>
          <p:cNvPicPr/>
          <p:nvPr/>
        </p:nvPicPr>
        <p:blipFill>
          <a:blip r:embed="rId4"/>
          <a:stretch/>
        </p:blipFill>
        <p:spPr>
          <a:xfrm>
            <a:off x="5724360" y="4797360"/>
            <a:ext cx="2448000" cy="1258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284720" y="1628640"/>
            <a:ext cx="79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中华人民共和国的成立开辟了中国历史新纪元。对这句话理解正确的是：新中国的成立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壮大了世界和平、民主和社会主义的力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鼓舞了世界被压迫民族和被压迫人民争取解放的斗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开创了社会主义现代化建设的新局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结束了被侵略被奴役的历史，中国真正成为独立自主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627280" y="1197000"/>
            <a:ext cx="93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D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右图是中华人民共和国同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年庆典上的镜头，与它相关的历史事件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三大战役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新中国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西藏和平解放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土地改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中国共产党完成了孙中山未竟的事业，主要表现在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完成了反帝反封建的历史任务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建立了人民民主专政的国家政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全面建设小康社会，实现现代化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建立起公有制，实现了共同富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“毛泽东思想标语”方阵"/>
          <p:cNvPicPr/>
          <p:nvPr/>
        </p:nvPicPr>
        <p:blipFill>
          <a:blip r:embed="rId1"/>
          <a:stretch/>
        </p:blipFill>
        <p:spPr>
          <a:xfrm>
            <a:off x="7307280" y="1268280"/>
            <a:ext cx="1836720" cy="18399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6588000" y="549360"/>
            <a:ext cx="86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40000" y="3141720"/>
            <a:ext cx="93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五星红旗第一次冉冉升起，孙爷爷和家人齐集天安门经历的活动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开国大典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中华民国的成立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南京国民政府成立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武汉国民政府的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它以和平的方式获得了解放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代它经过民主改革走上了社会主义发展的道路，今天它已发展成为我国的五大牧区之一。这里的“它”是指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新疆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西藏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内蒙古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青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003640" y="260280"/>
            <a:ext cx="64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843280" y="4076640"/>
            <a:ext cx="647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联是中华民族优秀传统文化的主要组成部分，具有很强的时代性。下列对联中反映新中国成立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食堂巧煮千家饭，公社饱暖万人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改革开放同添异彩，经济建设共展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扎根农村干革命，志在全球一片红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万里河山归人民，五亿群众庆新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中华人民共和国成立中中国现代史上的伟大事件，也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世界的伟大事件之一。其国际意义不包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标志着新民主主义革命的胜利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沉重地打击了帝国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壮大了社会主义力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鼓舞了殖民地、半殖民地人民争取解放的斗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451640" y="836640"/>
            <a:ext cx="79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D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7093080" y="4437000"/>
            <a:ext cx="790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612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地区以和平方式获得解放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天津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西藏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新疆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湖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国务院总理温家宝在十一届全国人大三次会议的记者见面会上说：“我们国家的发展不仅是要搞好经济建设，而且要推进社会的公平正义，促进人的全面和自由发展，这三者不可偏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认为，公平正义比太阳还要有光辉。”新中国成立后，党和国家非常重视民主法制建设，建国初期起到临时宪法作用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华民国临时约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刑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同纲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华人民共和国宪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77080" y="0"/>
            <a:ext cx="79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012000" y="3933720"/>
            <a:ext cx="79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C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10526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我国新民主主义革命取得胜利的历史事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开辟了中国历史新纪元的历史事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中国人民从此站起来的历史事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标志着我国终于完成了反帝反封建任务的历史事件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38080" y="15228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拓展延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609480" y="76320"/>
            <a:ext cx="8255160" cy="1371600"/>
            <a:chOff x="609480" y="76320"/>
            <a:chExt cx="8255160" cy="1371600"/>
          </a:xfrm>
        </p:grpSpPr>
        <p:sp>
          <p:nvSpPr>
            <p:cNvPr id="519" name=""/>
            <p:cNvSpPr/>
            <p:nvPr/>
          </p:nvSpPr>
          <p:spPr>
            <a:xfrm>
              <a:off x="609480" y="76320"/>
              <a:ext cx="7197840" cy="1371600"/>
            </a:xfrm>
            <a:custGeom>
              <a:avLst/>
              <a:gdLst>
                <a:gd name="textAreaLeft" fmla="*/ 1643040 w 7197840"/>
                <a:gd name="textAreaRight" fmla="*/ 5554800 w 719784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57400" y="380880"/>
              <a:ext cx="680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中国现代史的历史分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11280" y="162864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49——195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新民主主义社会向社会主义社会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过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299736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6——196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全面建设社会主义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4495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66——197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“文化大革命”十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5668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78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今：社会主义现代化建设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94640" y="60199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86600" y="2895480"/>
            <a:ext cx="1371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05680" y="3094200"/>
            <a:ext cx="1884240" cy="252360"/>
          </a:xfrm>
          <a:custGeom>
            <a:avLst/>
            <a:gdLst/>
            <a:ahLst/>
            <a:rect l="l" t="t" r="r" b="b"/>
            <a:pathLst>
              <a:path w="1187" h="159">
                <a:moveTo>
                  <a:pt x="344" y="49"/>
                </a:moveTo>
                <a:cubicBezTo>
                  <a:pt x="390" y="37"/>
                  <a:pt x="421" y="14"/>
                  <a:pt x="466" y="0"/>
                </a:cubicBezTo>
                <a:cubicBezTo>
                  <a:pt x="560" y="4"/>
                  <a:pt x="654" y="3"/>
                  <a:pt x="748" y="12"/>
                </a:cubicBezTo>
                <a:cubicBezTo>
                  <a:pt x="819" y="19"/>
                  <a:pt x="888" y="68"/>
                  <a:pt x="956" y="85"/>
                </a:cubicBezTo>
                <a:cubicBezTo>
                  <a:pt x="1001" y="81"/>
                  <a:pt x="1047" y="82"/>
                  <a:pt x="1091" y="73"/>
                </a:cubicBezTo>
                <a:cubicBezTo>
                  <a:pt x="1105" y="70"/>
                  <a:pt x="1113" y="49"/>
                  <a:pt x="1128" y="49"/>
                </a:cubicBezTo>
                <a:cubicBezTo>
                  <a:pt x="1143" y="49"/>
                  <a:pt x="1153" y="65"/>
                  <a:pt x="1165" y="73"/>
                </a:cubicBezTo>
                <a:cubicBezTo>
                  <a:pt x="1183" y="129"/>
                  <a:pt x="1187" y="140"/>
                  <a:pt x="1128" y="159"/>
                </a:cubicBezTo>
                <a:cubicBezTo>
                  <a:pt x="887" y="151"/>
                  <a:pt x="646" y="149"/>
                  <a:pt x="405" y="134"/>
                </a:cubicBezTo>
                <a:cubicBezTo>
                  <a:pt x="359" y="131"/>
                  <a:pt x="306" y="91"/>
                  <a:pt x="258" y="85"/>
                </a:cubicBezTo>
                <a:cubicBezTo>
                  <a:pt x="64" y="61"/>
                  <a:pt x="92" y="61"/>
                  <a:pt x="0" y="6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30320" y="765000"/>
            <a:ext cx="90136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第一单元 中华人民共和国的成立和巩固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第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1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课 中国人民站起来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332000" y="1890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052640"/>
            <a:ext cx="9144000" cy="2837160"/>
          </a:xfrm>
          <a:prstGeom prst="rect">
            <a:avLst/>
          </a:prstGeom>
          <a:noFill/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了解第一届中国人民政治协商会议，知道开国大典和西藏和平解放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掌握中华人民共和国成立的意义。</a:t>
            </a:r>
            <a:r>
              <a:rPr b="0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696000" cy="3960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 rot="5400000">
            <a:off x="5971320" y="3758400"/>
            <a:ext cx="472752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华文新魏"/>
              </a:rPr>
              <a:t>筹建新中国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华文新魏"/>
              <a:ea typeface="华文新魏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0"/>
            <a:ext cx="8604000" cy="91692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-方正超大字符集"/>
              </a:rPr>
              <a:t>一、中国人民政治协商会议的召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17680" y="633564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48360" y="5877000"/>
            <a:ext cx="34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1949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年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9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宋体-方正超大字符集"/>
              </a:rPr>
              <a:t>月 北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174760" cy="2924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2175120" cy="2924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2211480" cy="2973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395440" y="3357720"/>
            <a:ext cx="2247840" cy="29509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4788000" y="3357720"/>
            <a:ext cx="2008080" cy="2952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6926400" y="3357720"/>
            <a:ext cx="2217600" cy="29527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16080" y="28494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毛泽东                        刘少奇                        朱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62784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宋庆龄            李济深             张澜             高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09480" y="5335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3640" y="320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6280" y="1692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177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27800" y="13824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会议名称、时间、地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9320" y="907920"/>
            <a:ext cx="266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内容：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个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184464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文件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306864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④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面国旗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4437000"/>
            <a:ext cx="44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⑤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首国歌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06920" y="436572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⑥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首都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5589720"/>
            <a:ext cx="47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⑧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座纪念碑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98920" y="5589720"/>
            <a:ext cx="20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⑦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种纪年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068640"/>
            <a:ext cx="42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③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主席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1916280"/>
            <a:ext cx="47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一个委员会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58:03Z</dcterms:created>
  <dc:creator>Lenovo User</dc:creator>
  <dc:description/>
  <dc:language>en-US</dc:language>
  <cp:lastModifiedBy>yanying</cp:lastModifiedBy>
  <dcterms:modified xsi:type="dcterms:W3CDTF">2014-02-17T04:34:43Z</dcterms:modified>
  <cp:revision>338</cp:revision>
  <dc:subject/>
  <dc:title>第一单元 中华人民共和国的成立和巩固</dc:title>
</cp:coreProperties>
</file>