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330-88FB-43F5-95C0-081AD83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B36-826E-48C4-B885-C287205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53B-E417-4ABE-BED7-106052B6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180-257A-45B0-B6E5-D853DBA0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C9F-AE57-46F6-AE43-20490C6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2CE-C822-4D47-BBBE-3E58F114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E4FB-508D-42B2-8430-8BB9C374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FE7-E108-41D5-A295-D799896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3AB7-1F4A-46E5-8FE8-E99ECD86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BB3D-69A4-4240-ACEC-722B317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CF87-EC92-486C-B7BC-CB63264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544-82D6-4FED-AAA2-4F73212D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0A88-6C05-47D6-9862-47D25C5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9F17-D9CF-46F8-88A5-298055A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12D6-BC11-4CE3-8AEC-1F354C01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ED9-4B1B-49ED-ACEE-E7B8364A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B5AD-D88B-4488-88B8-861B322F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E67-07E5-49E8-BAF6-CD2ADD61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E40-71AE-49FD-B083-AD6FC74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6C8-3A77-4F14-AD88-52390D1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599-4EB2-467E-A354-835AC6B6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CBE-6504-454A-A60B-2337077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288-6507-48D5-9A87-C85CB6E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DF7-645C-4E0B-BE46-3DA83E9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9BC0-6285-49B7-B918-A6F3F57A6FF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D5C-3746-4330-AFBF-46A86AC9109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3348000"/>
            <a:ext cx="5219640" cy="351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322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6735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0" y="0"/>
            <a:ext cx="5076720" cy="3462480"/>
            <a:chOff x="0" y="0"/>
            <a:chExt cx="5076720" cy="34624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17270" t="16230" r="13621" b="7749"/>
            <a:stretch/>
          </p:blipFill>
          <p:spPr>
            <a:xfrm>
              <a:off x="0" y="0"/>
              <a:ext cx="507672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1197000"/>
              <a:ext cx="611280" cy="1800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56000" y="5484960"/>
            <a:ext cx="21240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承包的土地进行现代化管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参加管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0"/>
            <a:ext cx="212436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农民工”拿到工资存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5911920"/>
            <a:ext cx="212400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女接受现代化教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19640" y="2997360"/>
            <a:ext cx="259380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现代农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改革的起止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——195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比较分析：土地改革的起止时间与抗美援朝的起止时间有什么异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22320" y="404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《中华人民共和国土地改革法》的公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14972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主要内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97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都开始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；但是，全国土改基本完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底，抗美援朝胜利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4000" y="508464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废除地主阶级封建剥削的土地所有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实行农民的土地所有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课本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“文献资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华人民共和国土地改革法》条款”，讨论回答：结合文献内容，说明此次改革主要是改什么？改的目的是什么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48336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改地主阶级封建剥削的土地制度为农民的土地所有制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目的是为了解放农村生产力，发展农业生产，为新中国的工业化开辟道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补充：封建土地所有制与农民土地所有制有何异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提示：从土地占有者、地主阶级与农民的关系、产品分配等方面考虑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765000"/>
            <a:ext cx="9143640" cy="5329440"/>
            <a:chOff x="0" y="765000"/>
            <a:chExt cx="9143640" cy="5329440"/>
          </a:xfrm>
        </p:grpSpPr>
        <p:sp>
          <p:nvSpPr>
            <p:cNvPr id="140" name=""/>
            <p:cNvSpPr/>
            <p:nvPr/>
          </p:nvSpPr>
          <p:spPr>
            <a:xfrm>
              <a:off x="5485320" y="4635360"/>
              <a:ext cx="228564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32720" y="4635360"/>
              <a:ext cx="235260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1080" y="4635360"/>
              <a:ext cx="160128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4635360"/>
              <a:ext cx="153108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5320" y="3094920"/>
              <a:ext cx="228564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720" y="3094920"/>
              <a:ext cx="235260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1080" y="3094920"/>
              <a:ext cx="160128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3094920"/>
              <a:ext cx="153108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封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土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有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71320" y="1555200"/>
              <a:ext cx="1372320" cy="45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5320" y="1555200"/>
              <a:ext cx="228564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产品分配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720" y="1555200"/>
              <a:ext cx="235260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1080" y="1555200"/>
              <a:ext cx="160128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1320" y="765000"/>
              <a:ext cx="137232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31080" y="765000"/>
              <a:ext cx="62402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765000"/>
              <a:ext cx="1531080" cy="23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765000"/>
              <a:ext cx="9143640" cy="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094920"/>
              <a:ext cx="777132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4635360"/>
              <a:ext cx="777132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094440"/>
              <a:ext cx="9143640" cy="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765000"/>
              <a:ext cx="0" cy="53294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1080" y="765000"/>
              <a:ext cx="0" cy="53294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1320" y="765000"/>
              <a:ext cx="0" cy="53294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3640" y="765000"/>
              <a:ext cx="0" cy="53294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2720" y="1555200"/>
              <a:ext cx="0" cy="453888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5320" y="1555200"/>
              <a:ext cx="0" cy="453888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31080" y="1555200"/>
              <a:ext cx="761256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16000" y="476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15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33577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486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3068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与农民之间是剥削与被剥削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653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农民一样参加劳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占有绝大部分劳动成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46530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民自己占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劳动成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1773360"/>
            <a:ext cx="86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归私人所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83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8366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1773360"/>
            <a:ext cx="151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占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65000"/>
            <a:ext cx="1476360" cy="2303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2864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16905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农民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021360"/>
            <a:ext cx="5778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改革的具体办法是什么呢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17280" y="3211920"/>
            <a:ext cx="491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批进行；没收地主土地，分给无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少地的农民耕种；同时也分给地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得的一份，让他们自己耕种，自食其力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次土地改革有什么特点？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分批进行，区别对待；既满足农民的土地要求，又注意保存富农经济，保护中农和小土地出租者，同时也给地主分上应得的一份土地，让他们自食其力，富有人性色彩，减少了改革的阻力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土地改革这种区别性的措施有什么好处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是这种区别性的措施，使土地改革实现了四个心：贫雇农得地开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农有利放心，富农不动定心，地主劳动回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此次土地改革的效果如何？取得了什么成果？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到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年底，除一部分少数民族地区外，全国大陆已基本完成土地改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同学们从三个方面总结了土地改革的意义即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4842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彻底摧毁了我国存在两千多年的封建土地制度，地主阶级也被消灭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农民翻了身，得到了土地，成为土地的主人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使人民政权更加巩固，也大大解放了农村生产力，农业生产获得迅速恢复和发展，为国家的工业化建设准备了条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32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352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土地改革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4" descr="10"/>
          <p:cNvPicPr/>
          <p:nvPr/>
        </p:nvPicPr>
        <p:blipFill>
          <a:blip r:embed="rId2"/>
          <a:stretch/>
        </p:blipFill>
        <p:spPr>
          <a:xfrm>
            <a:off x="3564000" y="333360"/>
            <a:ext cx="5580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土地改革实现了孙中山先生梦寐以求的“耕者有其田”的目标。孙中山先生把民生问题概括为衣、食、住、行四个要素。时代在发展，而民生要素的内涵和外延也在不断变化。放眼中国，如何在民生问题中体现以人为本的原则，是老百姓既关心又期盼的大事，同时也是各级政府和全社会逐步达成的一个共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以来，中央采取了减免农业税、对种粮农民实行直接补贴等一系列重大政策措施，体现了党中央对农民殷殷的人文关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到目前为止，我国的吉林、黑龙江、北京、天津四个省市全面免征了农业税。农村税费改革是党中央、国务院在农业发展新阶段为解决好农业、农村、农民问题采取的重大举措，被称为继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代初实行土地改革、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代初实行家庭联产承包责任制之后的中国农村“第三次革命”，当然三农问题要圆满解决任重而道远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7680" y="33336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毛女》剧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889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6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16600"/>
            <a:ext cx="9144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歌剧白毛女讲述了这样一个故事，恶霸地主黄世仁逼死佃户杨白劳，又企图将其女儿卖掉。喜儿逃居深山多年，头发全白，被农民传说为“白毛仙姑”。八路军解放该地后，斗倒恶霸，喜儿获得翻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请回答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是什么土地制度，迫使喜儿逃居深山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2)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种土地制度有什么危害，会产生什么影响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2600" y="566064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封建土地制度；地主富农人少地多，农民人多地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这就束缚了农村生产力，严重阻碍着农业生产的发展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192720" cy="537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300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改革前我国广大农民的生活十分贫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幅图所反映的正是当时四川一个农民贫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的情形。身后的草棚就是他们的住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932360" y="1773360"/>
            <a:ext cx="4392720" cy="3563640"/>
            <a:chOff x="4932360" y="1773360"/>
            <a:chExt cx="4392720" cy="3563640"/>
          </a:xfrm>
        </p:grpSpPr>
        <p:sp>
          <p:nvSpPr>
            <p:cNvPr id="103" name=""/>
            <p:cNvSpPr/>
            <p:nvPr/>
          </p:nvSpPr>
          <p:spPr>
            <a:xfrm>
              <a:off x="4932360" y="1773360"/>
              <a:ext cx="3564000" cy="356364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45440" y="2490840"/>
              <a:ext cx="19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20-30%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5640" y="1700280"/>
            <a:ext cx="3564000" cy="3564000"/>
            <a:chOff x="755640" y="1700280"/>
            <a:chExt cx="3564000" cy="3564000"/>
          </a:xfrm>
        </p:grpSpPr>
        <p:sp>
          <p:nvSpPr>
            <p:cNvPr id="106" name=""/>
            <p:cNvSpPr/>
            <p:nvPr/>
          </p:nvSpPr>
          <p:spPr>
            <a:xfrm>
              <a:off x="755640" y="1700280"/>
              <a:ext cx="3564000" cy="356400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378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90%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867280" y="333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有土地比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333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占农村人口比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700280"/>
            <a:ext cx="2014560" cy="1852560"/>
            <a:chOff x="684360" y="1700280"/>
            <a:chExt cx="2014560" cy="18525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84360" y="1700280"/>
              <a:ext cx="18730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19280" y="18414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10%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59280" y="1773360"/>
            <a:ext cx="3662280" cy="3671640"/>
            <a:chOff x="4859280" y="1773360"/>
            <a:chExt cx="3662280" cy="367164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859280" y="1773360"/>
              <a:ext cx="366228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076720" y="3862080"/>
              <a:ext cx="25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70-80%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87280" y="5373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950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6165720"/>
            <a:ext cx="1008000" cy="432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5516640"/>
            <a:ext cx="10080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时农民最强烈的愿望是什么呢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11880" y="270720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广大新解放区农民迫切要求进行土地改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获得土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2060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封建土地制度严重阻碍农村经济和中国社会的发展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本原因）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716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广大农民迫切要求进行土地改革，获得土地。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3840" y="476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土地改革的原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土地改革有没有它的法律依据或指导文件呢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2952720" cy="3573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165840" y="5826240"/>
            <a:ext cx="339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中央人民政府颁布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《中华人民共和国土地改革法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21:20Z</dcterms:created>
  <dc:creator>庞剑</dc:creator>
  <dc:description/>
  <dc:language>en-US</dc:language>
  <cp:lastModifiedBy>Lenovo User</cp:lastModifiedBy>
  <dcterms:modified xsi:type="dcterms:W3CDTF">2013-03-05T01:28:56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