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D0B0-1C08-4D29-A453-C50A1939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B6F0-7038-422F-BF5C-078D8422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89C-A385-4F2F-8788-A516FCE8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4F72-1876-4821-879C-6236A099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82B7-4D26-4695-90E5-D2802815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651E-F527-4A95-BA36-EC1ACEE3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736D-98BD-4794-A936-4ABEEA38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7289-12C8-4769-A5ED-DAD6FA22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06AE-5436-4C89-95DA-D11F14DE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461B-A49F-46A5-8538-078B3E84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A72A-0B3E-47B4-B3F3-458332E1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DF8-ADA3-495E-8CB8-88D6169B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CB40-2C10-4FC9-A7D6-A3F944E6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6725-FF34-4D2E-8D46-A6BD2811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778C-ACC4-4104-919B-C2940D5D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3BCA-565A-4CD7-B47F-104C36AC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DFBA-6EDA-48A6-8FE0-7BC308C9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1A7-27E7-4022-BD33-D0383197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7C82-2C11-4EA8-BDEE-898146BD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6E8-CF27-4B81-A010-3CA115E8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6EB-6F43-436D-9630-50FC4AEA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268E-068E-421B-9D6F-3C53A9CE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3B4-3414-4418-9ACB-06282E51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19A0-7088-4EBA-9F6B-549DC9AE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00CA-7532-4F4C-A275-2B541FF51E5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AB8E-C82F-421A-B582-909BA86242A2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24360" y="3348000"/>
            <a:ext cx="5219640" cy="3510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211640" y="0"/>
            <a:ext cx="4932360" cy="3322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3352680"/>
            <a:ext cx="4673520" cy="350532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0" y="0"/>
            <a:ext cx="5076720" cy="3462480"/>
            <a:chOff x="0" y="0"/>
            <a:chExt cx="5076720" cy="34624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17270" t="16230" r="13621" b="7749"/>
            <a:stretch/>
          </p:blipFill>
          <p:spPr>
            <a:xfrm>
              <a:off x="0" y="0"/>
              <a:ext cx="5076720" cy="34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1197000"/>
              <a:ext cx="611280" cy="18003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56000" y="5484960"/>
            <a:ext cx="2124000" cy="947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对承包的土地进行现代化管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161928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参加管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6720" y="0"/>
            <a:ext cx="2124360" cy="947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农民工”拿到工资存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20000" y="5911920"/>
            <a:ext cx="212400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子女接受现代化教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19640" y="2997360"/>
            <a:ext cx="2593800" cy="11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现代农民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48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土地改革的起止时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——195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底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比较分析：土地改革的起止时间与抗美援朝的起止时间有什么异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22320" y="4046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《中华人民共和国土地改革法》的公布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14972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主要内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29973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都开始于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195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年；但是，全国土改基本完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1952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年底，抗美援朝胜利于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1953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月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4000" y="508464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废除地主阶级封建剥削的土地所有制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实行农民的土地所有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47628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课本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“文献资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中华人民共和国土地改革法》条款”，讨论回答：结合文献内容，说明此次改革主要是改什么？改的目的是什么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348336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改地主阶级封建剥削的土地制度为农民的土地所有制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目的是为了解放农村生产力，发展农业生产，为新中国的工业化开辟道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补充：封建土地所有制与农民土地所有制有何异同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提示：从土地占有者、地主阶级与农民的关系、产品分配等方面考虑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981000"/>
            <a:ext cx="61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765000"/>
            <a:ext cx="9143640" cy="5329440"/>
            <a:chOff x="0" y="765000"/>
            <a:chExt cx="9143640" cy="5329440"/>
          </a:xfrm>
        </p:grpSpPr>
        <p:sp>
          <p:nvSpPr>
            <p:cNvPr id="140" name=""/>
            <p:cNvSpPr/>
            <p:nvPr/>
          </p:nvSpPr>
          <p:spPr>
            <a:xfrm>
              <a:off x="5485320" y="4635360"/>
              <a:ext cx="2285640" cy="14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32720" y="4635360"/>
              <a:ext cx="2352600" cy="14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1080" y="4635360"/>
              <a:ext cx="1601280" cy="14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4635360"/>
              <a:ext cx="1531080" cy="14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85320" y="3094920"/>
              <a:ext cx="2285640" cy="15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720" y="3094920"/>
              <a:ext cx="2352600" cy="15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31080" y="3094920"/>
              <a:ext cx="1601280" cy="15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3094920"/>
              <a:ext cx="1531080" cy="15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封建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土地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所有制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71320" y="1555200"/>
              <a:ext cx="1372320" cy="45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85320" y="1555200"/>
              <a:ext cx="2285640" cy="15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产品分配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32720" y="1555200"/>
              <a:ext cx="2352600" cy="15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31080" y="1555200"/>
              <a:ext cx="1601280" cy="15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71320" y="765000"/>
              <a:ext cx="137232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31080" y="765000"/>
              <a:ext cx="62402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765000"/>
              <a:ext cx="1531080" cy="23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765000"/>
              <a:ext cx="9143640" cy="0"/>
            </a:xfrm>
            <a:prstGeom prst="line">
              <a:avLst/>
            </a:prstGeom>
            <a:ln cap="sq"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3094920"/>
              <a:ext cx="7771320" cy="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4635360"/>
              <a:ext cx="7771320" cy="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6094440"/>
              <a:ext cx="9143640" cy="0"/>
            </a:xfrm>
            <a:prstGeom prst="line">
              <a:avLst/>
            </a:prstGeom>
            <a:ln cap="sq"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765000"/>
              <a:ext cx="0" cy="5329440"/>
            </a:xfrm>
            <a:prstGeom prst="line">
              <a:avLst/>
            </a:prstGeom>
            <a:ln cap="sq"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31080" y="765000"/>
              <a:ext cx="0" cy="53294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71320" y="765000"/>
              <a:ext cx="0" cy="53294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143640" y="765000"/>
              <a:ext cx="0" cy="5329440"/>
            </a:xfrm>
            <a:prstGeom prst="line">
              <a:avLst/>
            </a:prstGeom>
            <a:ln cap="sq"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32720" y="1555200"/>
              <a:ext cx="0" cy="453888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85320" y="1555200"/>
              <a:ext cx="0" cy="453888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31080" y="1555200"/>
              <a:ext cx="7612560" cy="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116000" y="47628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653000"/>
            <a:ext cx="151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农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土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有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63640" y="3357720"/>
            <a:ext cx="9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主阶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63640" y="4869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农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32000" y="306864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主阶级与农民之间是剥削与被剥削关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4653000"/>
            <a:ext cx="208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主阶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农民一样参加劳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314172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主阶级占有绝大部分劳动成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465300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农民自己占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劳动成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01080" y="1773360"/>
            <a:ext cx="86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土地归私人所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836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同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67640" y="83664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同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19280" y="1773360"/>
            <a:ext cx="151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土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占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765000"/>
            <a:ext cx="1476360" cy="23036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907920"/>
            <a:ext cx="57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类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628640"/>
            <a:ext cx="6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3640" y="169056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主阶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农民关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8360" y="6021360"/>
            <a:ext cx="57780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土地改革的具体办法是什么呢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17280" y="3211920"/>
            <a:ext cx="491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批进行；没收地主土地，分给无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少地的农民耕种；同时也分给地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应得的一份，让他们自己耕种，自食其力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这次土地改革有什么特点？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分批进行，区别对待；既满足农民的土地要求，又注意保存富农经济，保护中农和小土地出租者，同时也给地主分上应得的一份土地，让他们自食其力，富有人性色彩，减少了改革的阻力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土地改革这种区别性的措施有什么好处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是这种区别性的措施，使土地改革实现了四个心：贫雇农得地开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农有利放心，富农不动定心，地主劳动回心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此次土地改革的效果如何？取得了什么成果？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到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1952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年底，除一部分少数民族地区外，全国大陆已基本完成土地改革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同学们从三个方面总结了土地改革的意义即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484280"/>
            <a:ext cx="8353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彻底摧毁了我国存在两千多年的封建土地制度，地主阶级也被消灭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农民翻了身，得到了土地，成为土地的主人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使人民政权更加巩固，也大大解放了农村生产力，农业生产获得迅速恢复和发展，为国家的工业化建设准备了条件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2707920"/>
            <a:ext cx="32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0560" y="3860280"/>
            <a:ext cx="352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琥珀"/>
                <a:ea typeface="华文琥珀"/>
              </a:rPr>
              <a:t>土地改革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4" name="Picture 4" descr="10"/>
          <p:cNvPicPr/>
          <p:nvPr/>
        </p:nvPicPr>
        <p:blipFill>
          <a:blip r:embed="rId2"/>
          <a:stretch/>
        </p:blipFill>
        <p:spPr>
          <a:xfrm>
            <a:off x="3564000" y="333360"/>
            <a:ext cx="558000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土地改革实现了孙中山先生梦寐以求的“耕者有其田”的目标。孙中山先生把民生问题概括为衣、食、住、行四个要素。时代在发展，而民生要素的内涵和外延也在不断变化。放眼中国，如何在民生问题中体现以人为本的原则，是老百姓既关心又期盼的大事，同时也是各级政府和全社会逐步达成的一个共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2005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年以来，中央采取了减免农业税、对种粮农民实行直接补贴等一系列重大政策措施，体现了党中央对农民殷殷的人文关怀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到目前为止，我国的吉林、黑龙江、北京、天津四个省市全面免征了农业税。农村税费改革是党中央、国务院在农业发展新阶段为解决好农业、农村、农民问题采取的重大举措，被称为继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世纪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年代初实行土地改革、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80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年代初实行家庭联产承包责任制之后的中国农村“第三次革命”，当然三农问题要圆满解决任重而道远</a:t>
            </a:r>
            <a:r>
              <a:rPr b="0" lang="zh-CN" sz="2800" spc="-1" strike="noStrike">
                <a:solidFill>
                  <a:srgbClr val="6600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127680" y="333360"/>
            <a:ext cx="231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毛女》剧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1052640"/>
            <a:ext cx="88930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6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316600"/>
            <a:ext cx="9144000" cy="21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歌剧白毛女讲述了这样一个故事，恶霸地主黄世仁逼死佃户杨白劳，又企图将其女儿卖掉。喜儿逃居深山多年，头发全白，被农民传说为“白毛仙姑”。八路军解放该地后，斗倒恶霸，喜儿获得翻身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请回答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(1)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是什么土地制度，迫使喜儿逃居深山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(2)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这种土地制度有什么危害，会产生什么影响？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72600" y="5660640"/>
            <a:ext cx="508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封建土地制度；地主富农人少地多，农民人多地少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这就束缚了农村生产力，严重阻碍着农业生产的发展。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192720" cy="5373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530064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土地改革前我国广大农民的生活十分贫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幅图所反映的正是当时四川一个农民贫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的情形。身后的草棚就是他们的住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4932360" y="1773360"/>
            <a:ext cx="4392720" cy="3563640"/>
            <a:chOff x="4932360" y="1773360"/>
            <a:chExt cx="4392720" cy="3563640"/>
          </a:xfrm>
        </p:grpSpPr>
        <p:sp>
          <p:nvSpPr>
            <p:cNvPr id="103" name=""/>
            <p:cNvSpPr/>
            <p:nvPr/>
          </p:nvSpPr>
          <p:spPr>
            <a:xfrm>
              <a:off x="4932360" y="1773360"/>
              <a:ext cx="3564000" cy="3563640"/>
            </a:xfrm>
            <a:prstGeom prst="ellipse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45440" y="2490840"/>
              <a:ext cx="19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20-30%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55640" y="1700280"/>
            <a:ext cx="3564000" cy="3564000"/>
            <a:chOff x="755640" y="1700280"/>
            <a:chExt cx="3564000" cy="3564000"/>
          </a:xfrm>
        </p:grpSpPr>
        <p:sp>
          <p:nvSpPr>
            <p:cNvPr id="106" name=""/>
            <p:cNvSpPr/>
            <p:nvPr/>
          </p:nvSpPr>
          <p:spPr>
            <a:xfrm>
              <a:off x="755640" y="1700280"/>
              <a:ext cx="3564000" cy="3564000"/>
            </a:xfrm>
            <a:prstGeom prst="ellipse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35280" y="3789360"/>
              <a:ext cx="129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90%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867280" y="333360"/>
            <a:ext cx="17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占有土地比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3333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占农村人口比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84360" y="1700280"/>
            <a:ext cx="2014560" cy="1852560"/>
            <a:chOff x="684360" y="1700280"/>
            <a:chExt cx="2014560" cy="185256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684360" y="1700280"/>
              <a:ext cx="187308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619280" y="184140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10%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859280" y="1773360"/>
            <a:ext cx="3662280" cy="3671640"/>
            <a:chOff x="4859280" y="1773360"/>
            <a:chExt cx="3662280" cy="367164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4859280" y="1773360"/>
              <a:ext cx="366228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076720" y="3862080"/>
              <a:ext cx="25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70-80%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187280" y="5373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59500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农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56000" y="6165720"/>
            <a:ext cx="1008000" cy="432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5516640"/>
            <a:ext cx="100800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时农民最强烈的愿望是什么呢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11880" y="2707200"/>
            <a:ext cx="48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广大新解放区农民迫切要求进行土地改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获得土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9640" y="20606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封建土地制度严重阻碍农村经济和中国社会的发展。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本原因）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3716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广大农民迫切要求进行土地改革，获得土地。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3840" y="4762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土地改革的原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土地改革有没有它的法律依据或指导文件呢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203640" y="1916280"/>
            <a:ext cx="2952720" cy="3573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3165840" y="5826240"/>
            <a:ext cx="3390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195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年中央人民政府颁布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《中华人民共和国土地改革法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2:21:20Z</dcterms:created>
  <dc:creator>庞剑</dc:creator>
  <dc:description/>
  <dc:language>en-US</dc:language>
  <cp:lastModifiedBy>Lenovo User</cp:lastModifiedBy>
  <dcterms:modified xsi:type="dcterms:W3CDTF">2013-03-05T01:28:56Z</dcterms:modified>
  <cp:revision>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