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39.png" ContentType="image/png"/>
  <Override PartName="/ppt/media/image11.jpeg" ContentType="image/jpeg"/>
  <Override PartName="/ppt/media/image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7.png" ContentType="image/png"/>
  <Override PartName="/ppt/media/image34.jpeg" ContentType="image/jpeg"/>
  <Override PartName="/ppt/media/image35.wmf" ContentType="image/x-wmf"/>
  <Override PartName="/ppt/media/image24.jpeg" ContentType="image/jpeg"/>
  <Override PartName="/ppt/media/image36.png" ContentType="image/png"/>
  <Override PartName="/ppt/media/image31.wmf" ContentType="image/x-wmf"/>
  <Override PartName="/ppt/media/image41.jpeg" ContentType="image/jpeg"/>
  <Override PartName="/ppt/media/image38.png" ContentType="image/png"/>
  <Override PartName="/ppt/media/image8.png" ContentType="image/png"/>
  <Override PartName="/ppt/media/image29.jpeg" ContentType="image/jpeg"/>
  <Override PartName="/ppt/media/image37.jpeg" ContentType="image/jpeg"/>
  <Override PartName="/ppt/media/image3.jpeg" ContentType="image/jpeg"/>
  <Override PartName="/ppt/media/image30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B56-C1DE-4E92-9EDD-B8182B39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C385-35F7-48B0-8CAE-79D039FD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0A3-AD3F-4294-9A48-F5313753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0D3-7AE3-4EC1-A7B0-CD996129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B35-8052-41FF-98B4-30E13FCB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927-51B3-469B-B3AD-D75CC7FE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0F7B-F7B6-4068-92AD-4C0A6362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0C0-5B88-4FD6-A169-2EB35C46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FD3-ECAD-4CC7-A153-90BED308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BCE-8F11-4F2B-A4D8-1DE97DC6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5C5-F686-4405-8123-1A100C79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A18-BBE7-4A8A-B8CF-3F796887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FA57-DFCD-4D91-B7FC-6A3DCE59DE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9.png"/><Relationship Id="rId3" Type="http://schemas.openxmlformats.org/officeDocument/2006/relationships/image" Target="../media/image18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9640" y="1557360"/>
            <a:ext cx="8064720" cy="35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98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邓小平会见知名人士傅朝枢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ū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时说：“我们要力求通过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和平方式解决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台湾问题，实现祖国统一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台湾作为中华人民共和国的一个省，一个区，还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保持它原有的制度、生活方式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16000" y="522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邓小平主张如何实现国家的统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4762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伟大构想定乾坤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908000" y="907920"/>
            <a:ext cx="4200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“</a:t>
            </a:r>
            <a:r>
              <a:rPr b="1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一国两制”的构想</a:t>
            </a:r>
            <a:endParaRPr b="1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9280" y="2602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伟大构想定乾坤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997360"/>
            <a:ext cx="817236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国两制”是由谁提出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国两制”就是在中华人民共和国境内，大陆实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台湾、香港和澳门实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国两制”伟大构想的提出有着怎样的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484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快速阅读课本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66-67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页的相关内容，结合自学导航的提示，思考下列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 rot="5400000">
            <a:off x="-506520" y="37544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自学导航</a:t>
            </a:r>
            <a:endParaRPr b="0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3068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邓小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4005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社会主义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4508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资本主义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050920" y="907920"/>
            <a:ext cx="42004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“</a:t>
            </a:r>
            <a:r>
              <a:rPr b="1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一国两制”的构想</a:t>
            </a:r>
            <a:endParaRPr b="1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9280" y="11592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伟大构想定乾坤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1844640"/>
          <a:ext cx="7488000" cy="3889440"/>
        </p:xfrm>
        <a:graphic>
          <a:graphicData uri="http://schemas.openxmlformats.org/drawingml/2006/table">
            <a:tbl>
              <a:tblPr/>
              <a:tblGrid>
                <a:gridCol w="1800000"/>
                <a:gridCol w="5688000"/>
              </a:tblGrid>
              <a:tr h="792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个国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两种制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564000" y="2781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中华人民共和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87640" y="371628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陆实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社会主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4437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资本主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4508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台湾、香港和澳门实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制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700360" y="836640"/>
            <a:ext cx="42004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“</a:t>
            </a:r>
            <a:r>
              <a:rPr b="1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一国两制”的构想</a:t>
            </a:r>
            <a:endParaRPr b="1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890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伟大构想定乾坤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"/>
          <p:cNvSpPr/>
          <p:nvPr/>
        </p:nvSpPr>
        <p:spPr>
          <a:xfrm>
            <a:off x="4356000" y="2349360"/>
            <a:ext cx="3816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4221000"/>
            <a:ext cx="3240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3645000"/>
            <a:ext cx="403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413000"/>
            <a:ext cx="799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香港、澳门一向实行资本主义制度，保持其原有的社会经济制度，有利于保证这两个地区的继续繁荣稳定。中国的主体是社会主义。在这样一个社会主义的大国中，容许个别的小的地区实行资本主义制度，对整个社会主义事业的发展不但无害，而且有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—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共产党的七十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2781360"/>
            <a:ext cx="2374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373720"/>
            <a:ext cx="84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结合材料，思考：“一国两制”具有怎样的历史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700360" y="836640"/>
            <a:ext cx="42004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“</a:t>
            </a:r>
            <a:r>
              <a:rPr b="1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一国两制”的构想</a:t>
            </a:r>
            <a:endParaRPr b="1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1890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伟大构想定乾坤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2492280"/>
            <a:ext cx="36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利于港澳台地区的稳定、繁荣和发展，有利于整个国家的经济发展，有利于实现国家的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7993080" cy="4595760"/>
        </p:xfrm>
        <a:graphic>
          <a:graphicData uri="http://schemas.openxmlformats.org/drawingml/2006/table">
            <a:tbl>
              <a:tblPr/>
              <a:tblGrid>
                <a:gridCol w="1440000"/>
                <a:gridCol w="3168360"/>
                <a:gridCol w="338472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个国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7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两种制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050920" y="22050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中华人民共和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3284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陆实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社会主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4508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湾、香港和澳门实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资本主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000" y="544500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595920" y="260280"/>
            <a:ext cx="25480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艰难的谈判</a:t>
            </a:r>
            <a:endParaRPr b="1" i="1" lang="en-US" sz="1800" spc="-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8136000" cy="5256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512640" y="115920"/>
            <a:ext cx="3267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港澳回归谱新篇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19280" y="1125360"/>
            <a:ext cx="5616720" cy="4104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4360" y="530064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8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中英两国签署联合声明，宣布中华人民共和国政府将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对香港恢复行使主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64000" y="57340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74280" y="5661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93200" y="5661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1125360"/>
            <a:ext cx="5616720" cy="4104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1592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港澳回归谱新篇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2484360" y="6206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997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年 香港回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6237360"/>
            <a:ext cx="74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感受最深的一幕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8352000" cy="5040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68360" y="11592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港澳回归谱新篇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68360" y="11592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港澳回归谱新篇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476360" y="2133720"/>
            <a:ext cx="2735280" cy="201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867280" y="1989000"/>
            <a:ext cx="2160720" cy="2233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92360" y="4869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区旗、区徽蕴含着怎样的设计理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98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香港区旗和区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7696080" cy="496908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55640" y="6021360"/>
            <a:ext cx="755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月，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中葡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关于澳门问题的联合声明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签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3720" y="5950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87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26028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港澳回归谱新篇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03280" y="536400"/>
            <a:ext cx="604836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第</a:t>
            </a:r>
            <a:r>
              <a:rPr b="1" lang="en-US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13</a:t>
            </a: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课 香港和澳门的回归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1"/>
          <a:stretch/>
        </p:blipFill>
        <p:spPr>
          <a:xfrm>
            <a:off x="755640" y="2227320"/>
            <a:ext cx="3745080" cy="2496960"/>
          </a:xfrm>
          <a:prstGeom prst="rect">
            <a:avLst/>
          </a:prstGeom>
          <a:ln cap="rnd" w="190440">
            <a:solidFill>
              <a:srgbClr val="ffffff"/>
            </a:solidFill>
            <a:miter/>
          </a:ln>
        </p:spPr>
      </p:pic>
      <p:pic>
        <p:nvPicPr>
          <p:cNvPr id="44" name="图片 4" descr=""/>
          <p:cNvPicPr/>
          <p:nvPr/>
        </p:nvPicPr>
        <p:blipFill>
          <a:blip r:embed="rId2"/>
          <a:stretch/>
        </p:blipFill>
        <p:spPr>
          <a:xfrm>
            <a:off x="4643280" y="2189160"/>
            <a:ext cx="3816360" cy="2535120"/>
          </a:xfrm>
          <a:prstGeom prst="rect">
            <a:avLst/>
          </a:prstGeom>
          <a:ln cap="rnd" w="190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76360" y="6021360"/>
            <a:ext cx="690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日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，中葡澳门政权交接仪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547640" y="6021360"/>
            <a:ext cx="2662560" cy="459720"/>
            <a:chOff x="1547640" y="6021360"/>
            <a:chExt cx="2662560" cy="459720"/>
          </a:xfrm>
        </p:grpSpPr>
        <p:sp>
          <p:nvSpPr>
            <p:cNvPr id="149" name=""/>
            <p:cNvSpPr/>
            <p:nvPr/>
          </p:nvSpPr>
          <p:spPr>
            <a:xfrm>
              <a:off x="1547640" y="6021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199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46000" y="60213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0440" y="60213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2"/>
          <a:srcRect l="0" t="0" r="0" b="14965"/>
          <a:stretch/>
        </p:blipFill>
        <p:spPr>
          <a:xfrm>
            <a:off x="826920" y="981000"/>
            <a:ext cx="7632720" cy="4969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68360" y="18900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港澳回归谱新篇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图片1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627280" y="1413000"/>
            <a:ext cx="3986280" cy="3921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55" name="Rectangle 5"/>
          <p:cNvSpPr/>
          <p:nvPr/>
        </p:nvSpPr>
        <p:spPr>
          <a:xfrm>
            <a:off x="2666880" y="541008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Death of Hong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财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372360" y="260280"/>
            <a:ext cx="25477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西方的预言</a:t>
            </a:r>
            <a:endParaRPr b="1" i="1" lang="en-US" sz="1800" spc="-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-27177840" y="730080"/>
            <a:ext cx="37797840" cy="5867280"/>
            <a:chOff x="-27177840" y="730080"/>
            <a:chExt cx="37797840" cy="5867280"/>
          </a:xfrm>
        </p:grpSpPr>
        <p:sp>
          <p:nvSpPr>
            <p:cNvPr id="158" name=""/>
            <p:cNvSpPr/>
            <p:nvPr/>
          </p:nvSpPr>
          <p:spPr>
            <a:xfrm>
              <a:off x="-27177840" y="6202080"/>
              <a:ext cx="3603456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imes New Roman"/>
                </a:rPr>
                <a:t>                  </a:t>
              </a:r>
              <a:r>
                <a:rPr b="1" lang="zh-CN" sz="2000" spc="-1" strike="noStrike">
                  <a:solidFill>
                    <a:srgbClr val="ff0066"/>
                  </a:solidFill>
                  <a:latin typeface="Times New Roman"/>
                </a:rPr>
                <a:t>香港会议展览中心                                                   海洋公园                                               迪士尼乐园                                               维多利亚港夜景                                            联合证券交易所                                                       机场                                                             集装箱码头                                                金紫荆广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-26961840" y="730080"/>
              <a:ext cx="37581840" cy="5400720"/>
              <a:chOff x="-26961840" y="730080"/>
              <a:chExt cx="37581840" cy="5400720"/>
            </a:xfrm>
          </p:grpSpPr>
          <p:pic>
            <p:nvPicPr>
              <p:cNvPr id="16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-18647640" y="730080"/>
                <a:ext cx="3777480" cy="539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2"/>
              <a:srcRect l="0" t="11964" r="0" b="23282"/>
              <a:stretch/>
            </p:blipFill>
            <p:spPr>
              <a:xfrm>
                <a:off x="-4539600" y="730080"/>
                <a:ext cx="4031280" cy="539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3"/>
              <a:srcRect l="0" t="26147" r="0" b="0"/>
              <a:stretch/>
            </p:blipFill>
            <p:spPr>
              <a:xfrm>
                <a:off x="-6480" y="730080"/>
                <a:ext cx="4284000" cy="539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9328320" y="730080"/>
                <a:ext cx="4031280" cy="539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5"/>
              <a:srcRect l="0" t="4272" r="0" b="17175"/>
              <a:stretch/>
            </p:blipFill>
            <p:spPr>
              <a:xfrm>
                <a:off x="-22929840" y="730080"/>
                <a:ext cx="3940920" cy="539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6"/>
              <a:srcRect l="0" t="4922" r="0" b="19715"/>
              <a:stretch/>
            </p:blipFill>
            <p:spPr>
              <a:xfrm>
                <a:off x="-26961840" y="730080"/>
                <a:ext cx="4031640" cy="539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-14112360" y="730080"/>
                <a:ext cx="4029840" cy="539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572720" y="730080"/>
                <a:ext cx="6047280" cy="540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8" name=""/>
          <p:cNvSpPr txBox="1"/>
          <p:nvPr/>
        </p:nvSpPr>
        <p:spPr>
          <a:xfrm>
            <a:off x="3419640" y="189000"/>
            <a:ext cx="237636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香港映像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8172360" y="18900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40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40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40020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416720" cy="3673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804000" y="50133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位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港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72000" y="1268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香港回归后国民生产总值变化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77840" y="5805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香港映像”图片和国民生产总值变化图说明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57280" y="35002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.22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万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5280" y="27795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.04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万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5516640"/>
            <a:ext cx="14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宋体"/>
              </a:rPr>
              <a:t>想一想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宋体"/>
              <a:ea typeface="宋体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395280" y="18900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相映生辉耀盛世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W020070702391386157039"/>
          <p:cNvPicPr/>
          <p:nvPr/>
        </p:nvPicPr>
        <p:blipFill>
          <a:blip r:embed="rId2"/>
          <a:stretch/>
        </p:blipFill>
        <p:spPr>
          <a:xfrm>
            <a:off x="611280" y="981000"/>
            <a:ext cx="3270240" cy="365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81" name="Rectangle 12"/>
          <p:cNvSpPr/>
          <p:nvPr/>
        </p:nvSpPr>
        <p:spPr>
          <a:xfrm>
            <a:off x="684360" y="4869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啊，我们错了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财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40360" y="189000"/>
            <a:ext cx="2548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预言的破碎</a:t>
            </a:r>
            <a:endParaRPr b="1" i="1" lang="en-US" sz="1800" spc="-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284720" y="981000"/>
            <a:ext cx="4859280" cy="5657760"/>
            <a:chOff x="4284720" y="981000"/>
            <a:chExt cx="4859280" cy="5657760"/>
          </a:xfrm>
        </p:grpSpPr>
        <p:pic>
          <p:nvPicPr>
            <p:cNvPr id="184" name="Picture 3" descr="00114320dfe107dc1c5102"/>
            <p:cNvPicPr/>
            <p:nvPr/>
          </p:nvPicPr>
          <p:blipFill>
            <a:blip r:embed="rId3"/>
            <a:stretch/>
          </p:blipFill>
          <p:spPr>
            <a:xfrm>
              <a:off x="4859280" y="981000"/>
              <a:ext cx="3457800" cy="39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5"/>
            <p:cNvSpPr/>
            <p:nvPr/>
          </p:nvSpPr>
          <p:spPr>
            <a:xfrm>
              <a:off x="4284720" y="5081760"/>
              <a:ext cx="4859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07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月，美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时代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周刊：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那是个不荣誉地、错误地预测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香港甚至比从前更有生命力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 txBox="1"/>
          <p:nvPr/>
        </p:nvSpPr>
        <p:spPr>
          <a:xfrm>
            <a:off x="395280" y="26028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相映生辉耀盛世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4572000" cy="4392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771640" y="35733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84.27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11640" y="1628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88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5950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澳门回归后的国民生产总值的变化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105264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澳门回归后的国民生产总值变化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95600" y="4581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位：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亿澳门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95280" y="40464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相映生辉耀盛世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68360" y="1125360"/>
            <a:ext cx="525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香港和澳门回归的历史意义？</a:t>
            </a:r>
            <a:endParaRPr b="0" lang="en-US" sz="1800" spc="1" strike="noStrike">
              <a:ln w="255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263700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香港、澳门回归祖国，中国人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洗雪了百年国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，标志着我国在完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祖国统一大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的道路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迈出了重要一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940360" y="189000"/>
            <a:ext cx="2548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感悟历史</a:t>
            </a:r>
            <a:endParaRPr b="1" i="1" lang="en-US" sz="1800" spc="-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451640" y="5589720"/>
            <a:ext cx="1447920" cy="868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250920" y="26028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相映生辉耀盛世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5940360" y="189000"/>
            <a:ext cx="2548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感悟历史</a:t>
            </a:r>
            <a:endParaRPr b="1" i="1" lang="en-US" sz="1800" spc="-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179280" y="4581360"/>
            <a:ext cx="8820360" cy="99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"/>
              </a:rPr>
              <a:t>进入改革开放的新时期后，我国为什么能够顺利的收回香港和澳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提示：从国家实力、政策、民心所向、领导人态度等方面思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79280" y="7650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合作探究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696080" y="5989680"/>
            <a:ext cx="1447920" cy="868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1197000"/>
            <a:ext cx="835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材料一  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香港问题为什么能够谈成呢？主要是我们这个国家这几年发展起来了，是个有力量的国家</a:t>
            </a: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当然，香港问题能够解决好，还是由于‘一国两制’的根本方针或者说战略搞对了。      </a:t>
            </a: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邓小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2852640"/>
            <a:ext cx="849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材料二   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“对英国来说，这不是也不可能是胜利，因为我们是同一个不愿意妥协和实力远占优势的对手打交道。英国并不打算把香港整个交还中国，到最后不得不同意交还整个香港地区。”     </a:t>
            </a: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英国首相撒切尔夫人回忆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124000" y="1557360"/>
            <a:ext cx="496908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第</a:t>
            </a:r>
            <a:r>
              <a:rPr b="1" lang="en-US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13</a:t>
            </a:r>
            <a:r>
              <a:rPr b="1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课 香港和澳门的回归</a:t>
            </a:r>
            <a:endParaRPr b="1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315200" y="6206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知识整理</a:t>
            </a:r>
            <a:endParaRPr b="0" i="1" lang="en-US" sz="1800" spc="-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3860640"/>
            <a:ext cx="1871640" cy="217800"/>
          </a:xfrm>
          <a:prstGeom prst="rightArrow">
            <a:avLst>
              <a:gd name="adj1" fmla="val 50000"/>
              <a:gd name="adj2" fmla="val 2148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314172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国两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2997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香港回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3068640"/>
            <a:ext cx="71640" cy="1944720"/>
          </a:xfrm>
          <a:custGeom>
            <a:avLst/>
            <a:gdLst>
              <a:gd name="textAreaLeft" fmla="*/ 45720 w 71640"/>
              <a:gd name="textAreaRight" fmla="*/ 72000 w 71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57336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83560" y="472428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999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78120" y="40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澳门回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4076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对台湾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9640" y="29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香港、澳门回归祖国，中国人民洗雪了百年国耻，标志着我国在完成祖国统一大业的道路上迈出了重要一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3860640"/>
            <a:ext cx="647640" cy="217800"/>
          </a:xfrm>
          <a:prstGeom prst="rightArrow">
            <a:avLst>
              <a:gd name="adj1" fmla="val 50000"/>
              <a:gd name="adj2" fmla="val 743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0"/>
            <a:ext cx="2663640" cy="10098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7"/>
          <p:cNvSpPr txBox="1"/>
          <p:nvPr/>
        </p:nvSpPr>
        <p:spPr>
          <a:xfrm>
            <a:off x="611280" y="260280"/>
            <a:ext cx="1447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宋体"/>
              </a:rPr>
              <a:t>巩固提升</a:t>
            </a:r>
            <a:endParaRPr b="0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0" y="24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0" y="3498120"/>
            <a:ext cx="883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母亲”是运用什么方针让她回来的？这一方针是由谁提出来的？最初是为解决什么问题提出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这一方针，“母亲”的另一个“孩子”在什么时候也回到“母亲”的怀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两个孩子回归“母亲”的怀抱有何重大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"/>
          <p:cNvPicPr/>
          <p:nvPr/>
        </p:nvPicPr>
        <p:blipFill>
          <a:blip r:embed="rId1"/>
          <a:stretch/>
        </p:blipFill>
        <p:spPr>
          <a:xfrm>
            <a:off x="3124080" y="333360"/>
            <a:ext cx="601992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1125360"/>
            <a:ext cx="304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合右图，请回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歌词中的“妈港”是什么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母亲”指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2781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澳门    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41497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国两制”   邓小平    台湾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4000" y="5013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58053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香港、澳门回归祖国，中国人民洗雪了百年国耻，标志着我国在完成祖国统一大业的道路上迈出了重要一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843280" y="29242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伟大构想定乾坤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1908360" cy="25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020000" y="2205000"/>
            <a:ext cx="1927080" cy="246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843280" y="364500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港澳回归谱新篇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43280" y="220500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百年屈辱成国耻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3280" y="436572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相映生辉耀盛世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14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1331640" cy="1366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1476360" cy="1513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2809800" cy="2735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>
            <a:lum bright="36000"/>
          </a:blip>
          <a:stretch/>
        </p:blipFill>
        <p:spPr>
          <a:xfrm>
            <a:off x="3419640" y="3357720"/>
            <a:ext cx="2339640" cy="2735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6156360" y="1341360"/>
            <a:ext cx="2771640" cy="3838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093080" y="5373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2997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24360" y="2997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999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6165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香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95640" y="6165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澳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 rot="5400000">
            <a:off x="-468720" y="3213360"/>
            <a:ext cx="2808360" cy="50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香港问题的由来</a:t>
            </a:r>
            <a:endParaRPr b="1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" name="Picture 112" descr="英国侵占香港示意图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600200" y="965160"/>
            <a:ext cx="6932520" cy="5511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291280" y="1484280"/>
            <a:ext cx="2809800" cy="863640"/>
          </a:xfrm>
          <a:prstGeom prst="wedgeRoundRectCallout">
            <a:avLst>
              <a:gd name="adj1" fmla="val -62597"/>
              <a:gd name="adj2" fmla="val 215259"/>
              <a:gd name="adj3" fmla="val 16667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60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条约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割占</a:t>
            </a:r>
            <a:r>
              <a:rPr b="1" lang="zh-CN" sz="2000" spc="-1" strike="noStrike" u="sng">
                <a:solidFill>
                  <a:srgbClr val="333399"/>
                </a:solidFill>
                <a:uFillTx/>
                <a:latin typeface="华文中宋"/>
                <a:ea typeface="华文中宋"/>
              </a:rPr>
              <a:t>九龙半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92720" y="4653000"/>
            <a:ext cx="2808360" cy="863640"/>
          </a:xfrm>
          <a:prstGeom prst="wedgeRoundRectCallout">
            <a:avLst>
              <a:gd name="adj1" fmla="val -57407"/>
              <a:gd name="adj2" fmla="val -86027"/>
              <a:gd name="adj3" fmla="val 16667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42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南京条约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割占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         </a:t>
            </a:r>
            <a:r>
              <a:rPr b="1" lang="zh-CN" sz="2000" spc="-1" strike="noStrike" u="sng">
                <a:solidFill>
                  <a:srgbClr val="800000"/>
                </a:solidFill>
                <a:uFillTx/>
                <a:latin typeface="华文中宋"/>
                <a:ea typeface="华文中宋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765000"/>
            <a:ext cx="3024000" cy="1727280"/>
          </a:xfrm>
          <a:prstGeom prst="wedgeRoundRectCallout">
            <a:avLst>
              <a:gd name="adj1" fmla="val 41708"/>
              <a:gd name="adj2" fmla="val 79962"/>
              <a:gd name="adj3" fmla="val 16667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98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拓展香港界址专条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强行</a:t>
            </a:r>
            <a:r>
              <a:rPr b="1" lang="zh-CN" sz="2000" spc="-1" strike="noStrike" u="sng">
                <a:solidFill>
                  <a:srgbClr val="333399"/>
                </a:solidFill>
                <a:uFillTx/>
                <a:latin typeface="华文中宋"/>
                <a:ea typeface="华文中宋"/>
              </a:rPr>
              <a:t>租借新界</a:t>
            </a:r>
            <a:r>
              <a:rPr b="1" lang="zh-CN" sz="2000" spc="-1" strike="noStrike">
                <a:solidFill>
                  <a:srgbClr val="800000"/>
                </a:solidFill>
                <a:latin typeface="华文中宋"/>
                <a:ea typeface="华文中宋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租期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99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，至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97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日期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1592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百年屈辱成国耻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/>
          <p:nvPr/>
        </p:nvSpPr>
        <p:spPr>
          <a:xfrm>
            <a:off x="6312600" y="4941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香港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84720" y="5300640"/>
            <a:ext cx="1295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59640" cy="5073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17080" y="6165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带枷锁的“犯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59280" y="189000"/>
            <a:ext cx="3097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殖民统治下的香港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488360" cy="499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25440" y="6093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临时医院里的香港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987640" y="260280"/>
            <a:ext cx="3097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殖民统治下的香港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310600" cy="5167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43280" y="5734080"/>
            <a:ext cx="32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监视下的“劳工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987640" y="189000"/>
            <a:ext cx="3097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殖民统治下的香港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417080" cy="4643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97080" y="5962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殖民官员出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987640" y="189000"/>
            <a:ext cx="3097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殖民统治下的香港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 rot="5400000">
            <a:off x="-239400" y="3128760"/>
            <a:ext cx="23050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澳门问题的由来</a:t>
            </a:r>
            <a:endParaRPr b="1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05440" cy="4680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58920" y="57340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5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始攫取澳门的居住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71640" y="5661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葡萄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920" y="18900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百年屈辱成国耻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01:19:53Z</dcterms:created>
  <dc:creator>微软用户</dc:creator>
  <dc:description/>
  <dc:language>en-US</dc:language>
  <cp:lastModifiedBy>微软用户</cp:lastModifiedBy>
  <dcterms:modified xsi:type="dcterms:W3CDTF">2014-06-05T01:22:55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