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6.png" ContentType="image/png"/>
  <Override PartName="/ppt/media/image17.jpeg" ContentType="image/jpeg"/>
  <Override PartName="/ppt/media/image16.png" ContentType="image/png"/>
  <Override PartName="/ppt/media/image15.jpeg" ContentType="image/jpeg"/>
  <Override PartName="/ppt/media/image22.jpeg" ContentType="image/jpeg"/>
  <Override PartName="/ppt/media/image39.png" ContentType="image/png"/>
  <Override PartName="/ppt/media/image11.jpeg" ContentType="image/jpeg"/>
  <Override PartName="/ppt/media/image9.jpeg" ContentType="image/jpeg"/>
  <Override PartName="/ppt/media/image12.jpeg" ContentType="image/jpeg"/>
  <Override PartName="/ppt/media/image13.jpeg" ContentType="image/jpeg"/>
  <Override PartName="/ppt/media/image40.jpeg" ContentType="image/jpeg"/>
  <Override PartName="/ppt/media/image7.png" ContentType="image/png"/>
  <Override PartName="/ppt/media/image34.jpeg" ContentType="image/jpeg"/>
  <Override PartName="/ppt/media/image35.wmf" ContentType="image/x-wmf"/>
  <Override PartName="/ppt/media/image24.jpeg" ContentType="image/jpeg"/>
  <Override PartName="/ppt/media/image36.png" ContentType="image/png"/>
  <Override PartName="/ppt/media/image31.wmf" ContentType="image/x-wmf"/>
  <Override PartName="/ppt/media/image41.jpeg" ContentType="image/jpeg"/>
  <Override PartName="/ppt/media/image38.png" ContentType="image/png"/>
  <Override PartName="/ppt/media/image8.png" ContentType="image/png"/>
  <Override PartName="/ppt/media/image29.jpeg" ContentType="image/jpeg"/>
  <Override PartName="/ppt/media/image37.jpeg" ContentType="image/jpeg"/>
  <Override PartName="/ppt/media/image3.jpeg" ContentType="image/jpeg"/>
  <Override PartName="/ppt/media/image30.png" ContentType="image/png"/>
  <Override PartName="/ppt/media/image5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0.jpeg" ContentType="image/jpeg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A594-6B91-4A63-BFF2-84C6118C8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07BA-7533-4A75-8414-375CE517D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02F8-F833-4425-BB76-1F7FFCF46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661E-30D0-4BB8-9FF0-953E1AF7F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A930-8B22-4BD7-BB5B-608574EB0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853E-AF60-4C3C-9D95-E22B0729F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869C-D530-43D4-B608-538F42CC4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A340-2BCB-4F47-A0A2-BEFDEF975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17FA-7FFD-4BE4-82EA-5288529FD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2B1A-314F-473D-A0F3-014AE128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6431-B611-4FF5-8E2A-27636529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4FC0-78B5-461F-83A1-3E30FDA5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ABA58-17D2-4929-90D7-4B56EEBFC8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png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9.png"/><Relationship Id="rId3" Type="http://schemas.openxmlformats.org/officeDocument/2006/relationships/image" Target="../media/image18.pn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39640" y="1557360"/>
            <a:ext cx="8064720" cy="352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20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98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6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日邓小平会见知名人士傅朝枢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ū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时说：“我们要力求通过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和平方式解决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台湾问题，实现祖国统一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台湾作为中华人民共和国的一个省，一个区，还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保持它原有的制度、生活方式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116000" y="522936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邓小平主张如何实现国家的统一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79280" y="47628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>
                    <a:alpha val="98000"/>
                  </a:srgbClr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伟大构想定乾坤</a:t>
            </a:r>
            <a:endParaRPr b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ff">
                  <a:alpha val="98000"/>
                </a:srgbClr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1908000" y="907920"/>
            <a:ext cx="42008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808080">
                      <a:alpha val="78000"/>
                    </a:srgbClr>
                  </a:outerShdw>
                </a:effectLst>
                <a:latin typeface="宋体"/>
              </a:rPr>
              <a:t>“</a:t>
            </a:r>
            <a:r>
              <a:rPr b="1" lang="zh-CN" sz="1800" spc="-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808080">
                      <a:alpha val="78000"/>
                    </a:srgbClr>
                  </a:outerShdw>
                </a:effectLst>
                <a:latin typeface="宋体"/>
              </a:rPr>
              <a:t>一国两制”的构想</a:t>
            </a:r>
            <a:endParaRPr b="1" lang="en-US" sz="1800" spc="-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80808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79280" y="26028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>
                    <a:alpha val="98000"/>
                  </a:srgbClr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伟大构想定乾坤</a:t>
            </a:r>
            <a:endParaRPr b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ff">
                  <a:alpha val="98000"/>
                </a:srgbClr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5" name=""/>
          <p:cNvSpPr/>
          <p:nvPr/>
        </p:nvSpPr>
        <p:spPr>
          <a:xfrm>
            <a:off x="755640" y="2997360"/>
            <a:ext cx="817236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国两制”是由谁提出来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国两制”就是在中华人民共和国境内，大陆实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台湾、香港和澳门实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国两制”伟大构想的提出有着怎样的意义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148428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宋体"/>
              </a:rPr>
              <a:t>快速阅读课本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66-67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</a:rPr>
              <a:t>页的相关内容，结合自学导航的提示，思考下列问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 rot="5400000">
            <a:off x="-506520" y="375444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808080">
                      <a:alpha val="78000"/>
                    </a:srgbClr>
                  </a:outerShdw>
                </a:effectLst>
                <a:latin typeface="宋体"/>
              </a:rPr>
              <a:t>自学导航</a:t>
            </a:r>
            <a:endParaRPr b="0" lang="en-US" sz="1800" spc="-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80808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8" name=""/>
          <p:cNvSpPr/>
          <p:nvPr/>
        </p:nvSpPr>
        <p:spPr>
          <a:xfrm>
            <a:off x="6516720" y="306864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邓小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35280" y="400536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社会主义制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87280" y="450864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资本主义制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2050920" y="907920"/>
            <a:ext cx="420048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808080">
                      <a:alpha val="78000"/>
                    </a:srgbClr>
                  </a:outerShdw>
                </a:effectLst>
                <a:latin typeface="宋体"/>
              </a:rPr>
              <a:t>“</a:t>
            </a:r>
            <a:r>
              <a:rPr b="1" lang="zh-CN" sz="1800" spc="-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808080">
                      <a:alpha val="78000"/>
                    </a:srgbClr>
                  </a:outerShdw>
                </a:effectLst>
                <a:latin typeface="宋体"/>
              </a:rPr>
              <a:t>一国两制”的构想</a:t>
            </a:r>
            <a:endParaRPr b="1" lang="en-US" sz="1800" spc="-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80808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79280" y="11592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>
                    <a:alpha val="98000"/>
                  </a:srgbClr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伟大构想定乾坤</a:t>
            </a:r>
            <a:endParaRPr b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ff">
                  <a:alpha val="98000"/>
                </a:srgbClr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84360" y="1844640"/>
          <a:ext cx="7488000" cy="3889440"/>
        </p:xfrm>
        <a:graphic>
          <a:graphicData uri="http://schemas.openxmlformats.org/drawingml/2006/table">
            <a:tbl>
              <a:tblPr/>
              <a:tblGrid>
                <a:gridCol w="1800000"/>
                <a:gridCol w="5688000"/>
              </a:tblGrid>
              <a:tr h="792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内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一个国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两种制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3564000" y="278136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中华人民共和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987640" y="3716280"/>
            <a:ext cx="46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陆实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制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00720" y="364500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社会主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443700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资本主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450864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台湾、香港和澳门实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制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2700360" y="836640"/>
            <a:ext cx="420048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808080">
                      <a:alpha val="78000"/>
                    </a:srgbClr>
                  </a:outerShdw>
                </a:effectLst>
                <a:latin typeface="宋体"/>
              </a:rPr>
              <a:t>“</a:t>
            </a:r>
            <a:r>
              <a:rPr b="1" lang="zh-CN" sz="1800" spc="-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808080">
                      <a:alpha val="78000"/>
                    </a:srgbClr>
                  </a:outerShdw>
                </a:effectLst>
                <a:latin typeface="宋体"/>
              </a:rPr>
              <a:t>一国两制”的构想</a:t>
            </a:r>
            <a:endParaRPr b="1" lang="en-US" sz="1800" spc="-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80808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79280" y="18900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>
                    <a:alpha val="98000"/>
                  </a:srgbClr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伟大构想定乾坤</a:t>
            </a:r>
            <a:endParaRPr b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ff">
                  <a:alpha val="98000"/>
                </a:srgbClr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3" name=""/>
          <p:cNvSpPr/>
          <p:nvPr/>
        </p:nvSpPr>
        <p:spPr>
          <a:xfrm>
            <a:off x="4356000" y="2349360"/>
            <a:ext cx="38163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4221000"/>
            <a:ext cx="32400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3645000"/>
            <a:ext cx="40323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1413000"/>
            <a:ext cx="7993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香港、澳门一向实行资本主义制度，保持其原有的社会经济制度，有利于保证这两个地区的继续繁荣稳定。中国的主体是社会主义。在这样一个社会主义的大国中，容许个别的小的地区实行资本主义制度，对整个社会主义事业的发展不但无害，而且有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——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国共产党的七十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2781360"/>
            <a:ext cx="23749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5373720"/>
            <a:ext cx="8424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结合材料，思考：“一国两制”具有怎样的历史意义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2700360" y="836640"/>
            <a:ext cx="420048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808080">
                      <a:alpha val="78000"/>
                    </a:srgbClr>
                  </a:outerShdw>
                </a:effectLst>
                <a:latin typeface="宋体"/>
              </a:rPr>
              <a:t>“</a:t>
            </a:r>
            <a:r>
              <a:rPr b="1" lang="zh-CN" sz="1800" spc="-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808080">
                      <a:alpha val="78000"/>
                    </a:srgbClr>
                  </a:outerShdw>
                </a:effectLst>
                <a:latin typeface="宋体"/>
              </a:rPr>
              <a:t>一国两制”的构想</a:t>
            </a:r>
            <a:endParaRPr b="1" lang="en-US" sz="1800" spc="-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80808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79280" y="18900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>
                    <a:alpha val="98000"/>
                  </a:srgbClr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伟大构想定乾坤</a:t>
            </a:r>
            <a:endParaRPr b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ff">
                  <a:alpha val="98000"/>
                </a:srgbClr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2" name=""/>
          <p:cNvSpPr/>
          <p:nvPr/>
        </p:nvSpPr>
        <p:spPr>
          <a:xfrm>
            <a:off x="5148360" y="2492280"/>
            <a:ext cx="36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有利于港澳台地区的稳定、繁荣和发展，有利于整个国家的经济发展，有利于实现国家的统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39640" y="1484280"/>
          <a:ext cx="7993080" cy="4595760"/>
        </p:xfrm>
        <a:graphic>
          <a:graphicData uri="http://schemas.openxmlformats.org/drawingml/2006/table">
            <a:tbl>
              <a:tblPr/>
              <a:tblGrid>
                <a:gridCol w="1440000"/>
                <a:gridCol w="3168360"/>
                <a:gridCol w="3384720"/>
              </a:tblGrid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内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意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一个国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7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两种制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57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2050920" y="220500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中华人民共和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328464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陆实行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社会主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制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08000" y="450864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台湾、香港和澳门实行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资本主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制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68000" y="5445000"/>
            <a:ext cx="806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595920" y="260280"/>
            <a:ext cx="254808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78000"/>
                    </a:srgbClr>
                  </a:outerShdw>
                </a:effectLst>
                <a:latin typeface="宋体"/>
              </a:rPr>
              <a:t>艰难的谈判</a:t>
            </a:r>
            <a:endParaRPr b="1" i="1" lang="en-US" sz="1800" spc="-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39640" y="1052640"/>
            <a:ext cx="8136000" cy="5256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512640" y="115920"/>
            <a:ext cx="32673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79000"/>
                    </a:srgbClr>
                  </a:outerShdw>
                </a:effectLst>
                <a:latin typeface="宋体"/>
              </a:rPr>
              <a:t>港澳回归谱新篇</a:t>
            </a:r>
            <a:endParaRPr b="1" lang="en-US" sz="1800" spc="-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6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619280" y="1125360"/>
            <a:ext cx="5616720" cy="4104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84360" y="5300640"/>
            <a:ext cx="799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8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中英两国签署联合声明，宣布中华人民共和国政府将于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日对香港恢复行使主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564000" y="573408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宋体"/>
              </a:rPr>
              <a:t>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74280" y="5661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993200" y="5661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宋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19280" y="1125360"/>
            <a:ext cx="5616720" cy="410400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8360" y="115920"/>
            <a:ext cx="3267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79000"/>
                    </a:srgbClr>
                  </a:outerShdw>
                </a:effectLst>
                <a:latin typeface="宋体"/>
              </a:rPr>
              <a:t>港澳回归谱新篇</a:t>
            </a:r>
            <a:endParaRPr b="1" lang="en-US" sz="1800" spc="-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2484360" y="62064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1997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年 香港回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24000" y="6237360"/>
            <a:ext cx="741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感受最深的一幕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95280" y="1197000"/>
            <a:ext cx="8352000" cy="50403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468360" y="115920"/>
            <a:ext cx="3267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79000"/>
                    </a:srgbClr>
                  </a:outerShdw>
                </a:effectLst>
                <a:latin typeface="宋体"/>
              </a:rPr>
              <a:t>港澳回归谱新篇</a:t>
            </a:r>
            <a:endParaRPr b="1" lang="en-US" sz="1800" spc="-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2" dur="1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468360" y="115920"/>
            <a:ext cx="3267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79000"/>
                    </a:srgbClr>
                  </a:outerShdw>
                </a:effectLst>
                <a:latin typeface="宋体"/>
              </a:rPr>
              <a:t>港澳回归谱新篇</a:t>
            </a:r>
            <a:endParaRPr b="1" lang="en-US" sz="1800" spc="-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476360" y="2133720"/>
            <a:ext cx="2735280" cy="2016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5867280" y="1989000"/>
            <a:ext cx="2160720" cy="22338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692360" y="4869000"/>
            <a:ext cx="66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区旗、区徽蕴含着怎样的设计理念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76720" y="98100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香港区旗和区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84360" y="907920"/>
            <a:ext cx="7696080" cy="4969080"/>
          </a:xfrm>
          <a:prstGeom prst="rect">
            <a:avLst/>
          </a:prstGeom>
          <a:ln w="38160">
            <a:solidFill>
              <a:srgbClr val="808000"/>
            </a:solidFill>
            <a:miter/>
          </a:ln>
        </p:spPr>
      </p:pic>
      <p:sp>
        <p:nvSpPr>
          <p:cNvPr id="143" name=""/>
          <p:cNvSpPr/>
          <p:nvPr/>
        </p:nvSpPr>
        <p:spPr>
          <a:xfrm>
            <a:off x="755640" y="6021360"/>
            <a:ext cx="75596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______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月，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中葡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关于澳门问题的联合声明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签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83720" y="59500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987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50920" y="260280"/>
            <a:ext cx="3267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79000"/>
                    </a:srgbClr>
                  </a:outerShdw>
                </a:effectLst>
                <a:latin typeface="宋体"/>
              </a:rPr>
              <a:t>港澳回归谱新篇</a:t>
            </a:r>
            <a:endParaRPr b="1" lang="en-US" sz="1800" spc="-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403280" y="536400"/>
            <a:ext cx="6048360" cy="8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78000"/>
                    </a:srgbClr>
                  </a:outerShdw>
                </a:effectLst>
                <a:latin typeface="宋体"/>
              </a:rPr>
              <a:t>第</a:t>
            </a:r>
            <a:r>
              <a:rPr b="1" lang="en-US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78000"/>
                    </a:srgbClr>
                  </a:outerShdw>
                </a:effectLst>
                <a:latin typeface="宋体"/>
              </a:rPr>
              <a:t>13</a:t>
            </a:r>
            <a:r>
              <a:rPr b="1" lang="zh-CN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78000"/>
                    </a:srgbClr>
                  </a:outerShdw>
                </a:effectLst>
                <a:latin typeface="宋体"/>
              </a:rPr>
              <a:t>课 香港和澳门的回归</a:t>
            </a:r>
            <a:endParaRPr b="1" lang="en-US" sz="18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3" name="图片 3" descr=""/>
          <p:cNvPicPr/>
          <p:nvPr/>
        </p:nvPicPr>
        <p:blipFill>
          <a:blip r:embed="rId1"/>
          <a:stretch/>
        </p:blipFill>
        <p:spPr>
          <a:xfrm>
            <a:off x="755640" y="2227320"/>
            <a:ext cx="3745080" cy="2496960"/>
          </a:xfrm>
          <a:prstGeom prst="rect">
            <a:avLst/>
          </a:prstGeom>
          <a:ln cap="rnd" w="190440">
            <a:solidFill>
              <a:srgbClr val="ffffff"/>
            </a:solidFill>
            <a:miter/>
          </a:ln>
        </p:spPr>
      </p:pic>
      <p:pic>
        <p:nvPicPr>
          <p:cNvPr id="44" name="图片 4" descr=""/>
          <p:cNvPicPr/>
          <p:nvPr/>
        </p:nvPicPr>
        <p:blipFill>
          <a:blip r:embed="rId2"/>
          <a:stretch/>
        </p:blipFill>
        <p:spPr>
          <a:xfrm>
            <a:off x="4643280" y="2189160"/>
            <a:ext cx="3816360" cy="2535120"/>
          </a:xfrm>
          <a:prstGeom prst="rect">
            <a:avLst/>
          </a:prstGeom>
          <a:ln cap="rnd" w="190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476360" y="6021360"/>
            <a:ext cx="6904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年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____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月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____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日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，中葡澳门政权交接仪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547640" y="6021360"/>
            <a:ext cx="2662560" cy="459720"/>
            <a:chOff x="1547640" y="6021360"/>
            <a:chExt cx="2662560" cy="459720"/>
          </a:xfrm>
        </p:grpSpPr>
        <p:sp>
          <p:nvSpPr>
            <p:cNvPr id="149" name=""/>
            <p:cNvSpPr/>
            <p:nvPr/>
          </p:nvSpPr>
          <p:spPr>
            <a:xfrm>
              <a:off x="1547640" y="60213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199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646000" y="602136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520440" y="602136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" name="" descr=""/>
          <p:cNvPicPr/>
          <p:nvPr/>
        </p:nvPicPr>
        <p:blipFill>
          <a:blip r:embed="rId2"/>
          <a:srcRect l="0" t="0" r="0" b="14965"/>
          <a:stretch/>
        </p:blipFill>
        <p:spPr>
          <a:xfrm>
            <a:off x="826920" y="981000"/>
            <a:ext cx="7632720" cy="49690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468360" y="189000"/>
            <a:ext cx="3267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79000"/>
                    </a:srgbClr>
                  </a:outerShdw>
                </a:effectLst>
                <a:latin typeface="宋体"/>
              </a:rPr>
              <a:t>港澳回归谱新篇</a:t>
            </a:r>
            <a:endParaRPr b="1" lang="en-US" sz="1800" spc="-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图片1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627280" y="1413000"/>
            <a:ext cx="3986280" cy="39211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55" name="Rectangle 5"/>
          <p:cNvSpPr/>
          <p:nvPr/>
        </p:nvSpPr>
        <p:spPr>
          <a:xfrm>
            <a:off x="2666880" y="5410080"/>
            <a:ext cx="4343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 Death of Hongk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财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372360" y="260280"/>
            <a:ext cx="2547720" cy="4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78000"/>
                    </a:srgbClr>
                  </a:outerShdw>
                </a:effectLst>
                <a:latin typeface="宋体"/>
              </a:rPr>
              <a:t>西方的预言</a:t>
            </a:r>
            <a:endParaRPr b="1" i="1" lang="en-US" sz="1800" spc="-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-27177840" y="730080"/>
            <a:ext cx="37797840" cy="5867280"/>
            <a:chOff x="-27177840" y="730080"/>
            <a:chExt cx="37797840" cy="5867280"/>
          </a:xfrm>
        </p:grpSpPr>
        <p:sp>
          <p:nvSpPr>
            <p:cNvPr id="158" name=""/>
            <p:cNvSpPr/>
            <p:nvPr/>
          </p:nvSpPr>
          <p:spPr>
            <a:xfrm>
              <a:off x="-27177840" y="6202080"/>
              <a:ext cx="36034560" cy="3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66"/>
                  </a:solidFill>
                  <a:latin typeface="Times New Roman"/>
                </a:rPr>
                <a:t>                  </a:t>
              </a:r>
              <a:r>
                <a:rPr b="1" lang="zh-CN" sz="2000" spc="-1" strike="noStrike">
                  <a:solidFill>
                    <a:srgbClr val="ff0066"/>
                  </a:solidFill>
                  <a:latin typeface="Times New Roman"/>
                </a:rPr>
                <a:t>香港会议展览中心                                                   海洋公园                                               迪士尼乐园                                               维多利亚港夜景                                            联合证券交易所                                                       机场                                                             集装箱码头                                                金紫荆广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-26961840" y="730080"/>
              <a:ext cx="37581840" cy="5400720"/>
              <a:chOff x="-26961840" y="730080"/>
              <a:chExt cx="37581840" cy="5400720"/>
            </a:xfrm>
          </p:grpSpPr>
          <p:pic>
            <p:nvPicPr>
              <p:cNvPr id="16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-18647640" y="730080"/>
                <a:ext cx="3777480" cy="5398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2"/>
              <a:srcRect l="0" t="11964" r="0" b="23282"/>
              <a:stretch/>
            </p:blipFill>
            <p:spPr>
              <a:xfrm>
                <a:off x="-4539600" y="730080"/>
                <a:ext cx="4031280" cy="5398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3"/>
              <a:srcRect l="0" t="26147" r="0" b="0"/>
              <a:stretch/>
            </p:blipFill>
            <p:spPr>
              <a:xfrm>
                <a:off x="-6480" y="730080"/>
                <a:ext cx="4284000" cy="5398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9328320" y="730080"/>
                <a:ext cx="4031280" cy="5398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4" name="" descr=""/>
              <p:cNvPicPr/>
              <p:nvPr/>
            </p:nvPicPr>
            <p:blipFill>
              <a:blip r:embed="rId5"/>
              <a:srcRect l="0" t="4272" r="0" b="17175"/>
              <a:stretch/>
            </p:blipFill>
            <p:spPr>
              <a:xfrm>
                <a:off x="-22929840" y="730080"/>
                <a:ext cx="3940920" cy="5398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" name="" descr=""/>
              <p:cNvPicPr/>
              <p:nvPr/>
            </p:nvPicPr>
            <p:blipFill>
              <a:blip r:embed="rId6"/>
              <a:srcRect l="0" t="4922" r="0" b="19715"/>
              <a:stretch/>
            </p:blipFill>
            <p:spPr>
              <a:xfrm>
                <a:off x="-26961840" y="730080"/>
                <a:ext cx="4031640" cy="5398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6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-14112360" y="730080"/>
                <a:ext cx="4029840" cy="5398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572720" y="730080"/>
                <a:ext cx="6047280" cy="5400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68" name=""/>
          <p:cNvSpPr txBox="1"/>
          <p:nvPr/>
        </p:nvSpPr>
        <p:spPr>
          <a:xfrm>
            <a:off x="3419640" y="189000"/>
            <a:ext cx="2376360" cy="40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香港映像</a:t>
            </a:r>
            <a:endParaRPr b="1" lang="en-US" sz="48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9"/>
          <a:stretch/>
        </p:blipFill>
        <p:spPr>
          <a:xfrm>
            <a:off x="8172360" y="189000"/>
            <a:ext cx="576360" cy="57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40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40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40020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416720" cy="36734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6804000" y="5013360"/>
            <a:ext cx="23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单位：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港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772000" y="126828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香港回归后国民生产总值变化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77840" y="5805360"/>
            <a:ext cx="806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香港映像”图片和国民生产总值变化图说明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57280" y="350028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1.22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万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5280" y="277956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2.04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万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0" y="5516640"/>
            <a:ext cx="1440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宋体"/>
              </a:rPr>
              <a:t>想一想 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宋体"/>
              <a:ea typeface="宋体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 txBox="1"/>
          <p:nvPr/>
        </p:nvSpPr>
        <p:spPr>
          <a:xfrm>
            <a:off x="395280" y="189000"/>
            <a:ext cx="3267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79000"/>
                    </a:srgbClr>
                  </a:outerShdw>
                </a:effectLst>
                <a:latin typeface="宋体"/>
              </a:rPr>
              <a:t>相映生辉耀盛世</a:t>
            </a:r>
            <a:endParaRPr b="1" lang="en-US" sz="1800" spc="-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W020070702391386157039"/>
          <p:cNvPicPr/>
          <p:nvPr/>
        </p:nvPicPr>
        <p:blipFill>
          <a:blip r:embed="rId2"/>
          <a:stretch/>
        </p:blipFill>
        <p:spPr>
          <a:xfrm>
            <a:off x="611280" y="981000"/>
            <a:ext cx="3270240" cy="36576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81" name="Rectangle 12"/>
          <p:cNvSpPr/>
          <p:nvPr/>
        </p:nvSpPr>
        <p:spPr>
          <a:xfrm>
            <a:off x="684360" y="486900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啊，我们错了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财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940360" y="189000"/>
            <a:ext cx="2548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78000"/>
                    </a:srgbClr>
                  </a:outerShdw>
                </a:effectLst>
                <a:latin typeface="宋体"/>
              </a:rPr>
              <a:t>预言的破碎</a:t>
            </a:r>
            <a:endParaRPr b="1" i="1" lang="en-US" sz="1800" spc="-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4284720" y="981000"/>
            <a:ext cx="4859280" cy="5657760"/>
            <a:chOff x="4284720" y="981000"/>
            <a:chExt cx="4859280" cy="5657760"/>
          </a:xfrm>
        </p:grpSpPr>
        <p:pic>
          <p:nvPicPr>
            <p:cNvPr id="184" name="Picture 3" descr="00114320dfe107dc1c5102"/>
            <p:cNvPicPr/>
            <p:nvPr/>
          </p:nvPicPr>
          <p:blipFill>
            <a:blip r:embed="rId3"/>
            <a:stretch/>
          </p:blipFill>
          <p:spPr>
            <a:xfrm>
              <a:off x="4859280" y="981000"/>
              <a:ext cx="3457800" cy="397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5"/>
            <p:cNvSpPr/>
            <p:nvPr/>
          </p:nvSpPr>
          <p:spPr>
            <a:xfrm>
              <a:off x="4284720" y="5081760"/>
              <a:ext cx="48592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007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年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6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月，美国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《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时代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》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周刊：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“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那是个不荣誉地、错误地预测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,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香港甚至比从前更有生命力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"/>
          <p:cNvSpPr txBox="1"/>
          <p:nvPr/>
        </p:nvSpPr>
        <p:spPr>
          <a:xfrm>
            <a:off x="395280" y="260280"/>
            <a:ext cx="3267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79000"/>
                    </a:srgbClr>
                  </a:outerShdw>
                </a:effectLst>
                <a:latin typeface="宋体"/>
              </a:rPr>
              <a:t>相映生辉耀盛世</a:t>
            </a:r>
            <a:endParaRPr b="1" lang="en-US" sz="1800" spc="-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979640" y="1773360"/>
            <a:ext cx="4572000" cy="43923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771640" y="3573360"/>
            <a:ext cx="29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584.27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211640" y="162864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883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4360" y="59500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澳门回归后的国民生产总值的变化说明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50920" y="1052640"/>
            <a:ext cx="51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澳门回归后的国民生产总值变化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095600" y="458136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单位：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亿澳门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95280" y="404640"/>
            <a:ext cx="3267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79000"/>
                    </a:srgbClr>
                  </a:outerShdw>
                </a:effectLst>
                <a:latin typeface="宋体"/>
              </a:rPr>
              <a:t>相映生辉耀盛世</a:t>
            </a:r>
            <a:endParaRPr b="1" lang="en-US" sz="1800" spc="-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 txBox="1"/>
          <p:nvPr/>
        </p:nvSpPr>
        <p:spPr>
          <a:xfrm>
            <a:off x="468360" y="1125360"/>
            <a:ext cx="5256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55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宋体"/>
              </a:rPr>
              <a:t>香港和澳门回归的历史意义？</a:t>
            </a:r>
            <a:endParaRPr b="0" lang="en-US" sz="1800" spc="1" strike="noStrike">
              <a:ln w="2556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6" name=""/>
          <p:cNvSpPr/>
          <p:nvPr/>
        </p:nvSpPr>
        <p:spPr>
          <a:xfrm>
            <a:off x="1332000" y="2637000"/>
            <a:ext cx="60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香港、澳门回归祖国，中国人民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仿宋_GB2312"/>
              </a:rPr>
              <a:t>洗雪了百年国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，标志着我国在完成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仿宋_GB2312"/>
              </a:rPr>
              <a:t>祖国统一大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的道路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仿宋_GB2312"/>
              </a:rPr>
              <a:t>迈出了重要一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940360" y="189000"/>
            <a:ext cx="2548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78000"/>
                    </a:srgbClr>
                  </a:outerShdw>
                </a:effectLst>
                <a:latin typeface="宋体"/>
              </a:rPr>
              <a:t>感悟历史</a:t>
            </a:r>
            <a:endParaRPr b="1" i="1" lang="en-US" sz="1800" spc="-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7451640" y="5589720"/>
            <a:ext cx="1447920" cy="8683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250920" y="260280"/>
            <a:ext cx="3267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79000"/>
                    </a:srgbClr>
                  </a:outerShdw>
                </a:effectLst>
                <a:latin typeface="宋体"/>
              </a:rPr>
              <a:t>相映生辉耀盛世</a:t>
            </a:r>
            <a:endParaRPr b="1" lang="en-US" sz="1800" spc="-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5940360" y="189000"/>
            <a:ext cx="2548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78000"/>
                    </a:srgbClr>
                  </a:outerShdw>
                </a:effectLst>
                <a:latin typeface="宋体"/>
              </a:rPr>
              <a:t>感悟历史</a:t>
            </a:r>
            <a:endParaRPr b="1" i="1" lang="en-US" sz="1800" spc="-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2" name="Rectangle 14"/>
          <p:cNvSpPr/>
          <p:nvPr/>
        </p:nvSpPr>
        <p:spPr>
          <a:xfrm>
            <a:off x="179280" y="4581360"/>
            <a:ext cx="8820360" cy="997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"/>
              </a:rPr>
              <a:t>进入改革开放的新时期后，我国为什么能够顺利的收回香港和澳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仿宋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"/>
              </a:rPr>
              <a:t>提示：从国家实力、政策、民心所向、领导人态度等方面思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仿宋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79280" y="76500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78000"/>
                    </a:srgbClr>
                  </a:outerShdw>
                </a:effectLst>
                <a:latin typeface="宋体"/>
              </a:rPr>
              <a:t>合作探究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696080" y="5989680"/>
            <a:ext cx="1447920" cy="8683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95280" y="1197000"/>
            <a:ext cx="8353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材料一  </a:t>
            </a: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香港问题为什么能够谈成呢？主要是我们这个国家这几年发展起来了，是个有力量的国家</a:t>
            </a:r>
            <a:r>
              <a:rPr b="1" lang="en-US" sz="26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当然，香港问题能够解决好，还是由于‘一国两制’的根本方针或者说战略搞对了。      </a:t>
            </a:r>
            <a:r>
              <a:rPr b="1" lang="en-US" sz="26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邓小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4000" y="2852640"/>
            <a:ext cx="849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材料二   </a:t>
            </a: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“对英国来说，这不是也不可能是胜利，因为我们是同一个不愿意妥协和实力远占优势的对手打交道。英国并不打算把香港整个交还中国，到最后不得不同意交还整个香港地区。”     </a:t>
            </a:r>
            <a:r>
              <a:rPr b="1" lang="en-US" sz="26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英国首相撒切尔夫人回忆录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2124000" y="1557360"/>
            <a:ext cx="4969080" cy="8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808080">
                      <a:alpha val="78000"/>
                    </a:srgbClr>
                  </a:outerShdw>
                </a:effectLst>
                <a:latin typeface="宋体"/>
              </a:rPr>
              <a:t>第</a:t>
            </a:r>
            <a:r>
              <a:rPr b="1" lang="en-US" sz="1800" spc="-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808080">
                      <a:alpha val="78000"/>
                    </a:srgbClr>
                  </a:outerShdw>
                </a:effectLst>
                <a:latin typeface="宋体"/>
              </a:rPr>
              <a:t>13</a:t>
            </a:r>
            <a:r>
              <a:rPr b="1" lang="zh-CN" sz="1800" spc="-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808080">
                      <a:alpha val="78000"/>
                    </a:srgbClr>
                  </a:outerShdw>
                </a:effectLst>
                <a:latin typeface="宋体"/>
              </a:rPr>
              <a:t>课 香港和澳门的回归</a:t>
            </a:r>
            <a:endParaRPr b="1" lang="en-US" sz="1800" spc="-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80808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7315200" y="62064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78000"/>
                    </a:srgbClr>
                  </a:outerShdw>
                </a:effectLst>
                <a:latin typeface="宋体"/>
              </a:rPr>
              <a:t>知识整理</a:t>
            </a:r>
            <a:endParaRPr b="0" i="1" lang="en-US" sz="1800" spc="-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0" name=""/>
          <p:cNvSpPr/>
          <p:nvPr/>
        </p:nvSpPr>
        <p:spPr>
          <a:xfrm>
            <a:off x="755640" y="3860640"/>
            <a:ext cx="1871640" cy="217800"/>
          </a:xfrm>
          <a:prstGeom prst="rightArrow">
            <a:avLst>
              <a:gd name="adj1" fmla="val 50000"/>
              <a:gd name="adj2" fmla="val 21483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4360" y="3141720"/>
            <a:ext cx="24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国两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03640" y="299736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香港回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987640" y="3068640"/>
            <a:ext cx="71640" cy="1944720"/>
          </a:xfrm>
          <a:custGeom>
            <a:avLst/>
            <a:gdLst>
              <a:gd name="textAreaLeft" fmla="*/ 45720 w 71640"/>
              <a:gd name="textAreaRight" fmla="*/ 72000 w 7164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276720" y="3573360"/>
            <a:ext cx="33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997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年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月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83560" y="4724280"/>
            <a:ext cx="24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999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年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2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月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20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678120" y="4076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澳门回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39640" y="407664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对台湾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119640" y="292428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香港、澳门回归祖国，中国人民洗雪了百年国耻，标志着我国在完成祖国统一大业的道路上迈出了重要一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435640" y="3860640"/>
            <a:ext cx="647640" cy="217800"/>
          </a:xfrm>
          <a:prstGeom prst="rightArrow">
            <a:avLst>
              <a:gd name="adj1" fmla="val 50000"/>
              <a:gd name="adj2" fmla="val 743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50920" y="0"/>
            <a:ext cx="2663640" cy="10098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WordArt 7"/>
          <p:cNvSpPr txBox="1"/>
          <p:nvPr/>
        </p:nvSpPr>
        <p:spPr>
          <a:xfrm>
            <a:off x="611280" y="260280"/>
            <a:ext cx="1447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宋体"/>
              </a:rPr>
              <a:t>巩固提升</a:t>
            </a:r>
            <a:endParaRPr b="0" lang="en-US" sz="1800" spc="-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宋体"/>
              <a:ea typeface="宋体"/>
            </a:endParaRPr>
          </a:p>
        </p:txBody>
      </p:sp>
      <p:sp>
        <p:nvSpPr>
          <p:cNvPr id="222" name="Rectangle 13"/>
          <p:cNvSpPr/>
          <p:nvPr/>
        </p:nvSpPr>
        <p:spPr>
          <a:xfrm>
            <a:off x="0" y="245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4"/>
          <p:cNvSpPr/>
          <p:nvPr/>
        </p:nvSpPr>
        <p:spPr>
          <a:xfrm>
            <a:off x="0" y="3498120"/>
            <a:ext cx="8839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②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母亲”是运用什么方针让她回来的？这一方针是由谁提出来的？最初是为解决什么问题提出来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根据这一方针，“母亲”的另一个“孩子”在什么时候也回到“母亲”的怀抱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这两个孩子回归“母亲”的怀抱有何重大意义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5" descr=""/>
          <p:cNvPicPr/>
          <p:nvPr/>
        </p:nvPicPr>
        <p:blipFill>
          <a:blip r:embed="rId1"/>
          <a:stretch/>
        </p:blipFill>
        <p:spPr>
          <a:xfrm>
            <a:off x="3124080" y="333360"/>
            <a:ext cx="6019920" cy="29718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0" y="1125360"/>
            <a:ext cx="3048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合右图，请回答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①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歌词中的“妈港”是什么地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母亲”指谁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50920" y="278136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澳门    中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39640" y="414972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一国两制”   邓小平    台湾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564000" y="501336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997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年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7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月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0920" y="580536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香港、澳门回归祖国，中国人民洗雪了百年国耻，标志着我国在完成祖国统一大业的道路上迈出了重要一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2843280" y="292428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>
                    <a:alpha val="98000"/>
                  </a:srgbClr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伟大构想定乾坤</a:t>
            </a:r>
            <a:endParaRPr b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ff">
                  <a:alpha val="98000"/>
                </a:srgbClr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79280" y="2276640"/>
            <a:ext cx="1908360" cy="2519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7020000" y="2205000"/>
            <a:ext cx="1927080" cy="2460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2843280" y="3645000"/>
            <a:ext cx="3267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79000"/>
                    </a:srgbClr>
                  </a:outerShdw>
                </a:effectLst>
                <a:latin typeface="宋体"/>
              </a:rPr>
              <a:t>港澳回归谱新篇</a:t>
            </a:r>
            <a:endParaRPr b="1" lang="en-US" sz="1800" spc="-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843280" y="2205000"/>
            <a:ext cx="3267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79000"/>
                    </a:srgbClr>
                  </a:outerShdw>
                </a:effectLst>
                <a:latin typeface="宋体"/>
              </a:rPr>
              <a:t>百年屈辱成国耻</a:t>
            </a:r>
            <a:endParaRPr b="1" lang="en-US" sz="1800" spc="-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3280" y="4365720"/>
            <a:ext cx="3267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79000"/>
                    </a:srgbClr>
                  </a:outerShdw>
                </a:effectLst>
                <a:latin typeface="宋体"/>
              </a:rPr>
              <a:t>相映生辉耀盛世</a:t>
            </a:r>
            <a:endParaRPr b="1" lang="en-US" sz="1800" spc="-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143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4067280" y="1557360"/>
            <a:ext cx="1331640" cy="13669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1042920" y="1484280"/>
            <a:ext cx="1476360" cy="15130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250920" y="3357720"/>
            <a:ext cx="2809800" cy="27352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5">
            <a:lum bright="36000"/>
          </a:blip>
          <a:stretch/>
        </p:blipFill>
        <p:spPr>
          <a:xfrm>
            <a:off x="3419640" y="3357720"/>
            <a:ext cx="2339640" cy="27352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6"/>
          <a:stretch/>
        </p:blipFill>
        <p:spPr>
          <a:xfrm>
            <a:off x="6156360" y="1341360"/>
            <a:ext cx="2771640" cy="38386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7093080" y="537372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台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00000" y="299736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1997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年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月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924360" y="299736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1999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年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12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月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20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71640" y="616572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香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995640" y="616572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澳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 rot="5400000">
            <a:off x="-468720" y="3213360"/>
            <a:ext cx="2808360" cy="502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808080">
                      <a:alpha val="78000"/>
                    </a:srgbClr>
                  </a:outerShdw>
                </a:effectLst>
                <a:latin typeface="宋体"/>
              </a:rPr>
              <a:t>香港问题的由来</a:t>
            </a:r>
            <a:endParaRPr b="1" lang="en-US" sz="1800" spc="-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80808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3" name="Picture 112" descr="英国侵占香港示意图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1600200" y="965160"/>
            <a:ext cx="6932520" cy="5511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291280" y="1484280"/>
            <a:ext cx="2809800" cy="863640"/>
          </a:xfrm>
          <a:prstGeom prst="wedgeRoundRectCallout">
            <a:avLst>
              <a:gd name="adj1" fmla="val -62597"/>
              <a:gd name="adj2" fmla="val 215259"/>
              <a:gd name="adj3" fmla="val 16667"/>
            </a:avLst>
          </a:prstGeom>
          <a:blipFill rotWithShape="0">
            <a:blip r:embed="rId2"/>
            <a:srcRect/>
            <a:stretch/>
          </a:blip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1860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</a:t>
            </a:r>
            <a:r>
              <a:rPr b="1" lang="en-US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北京条约</a:t>
            </a:r>
            <a:r>
              <a:rPr b="1" lang="en-US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割占</a:t>
            </a:r>
            <a:r>
              <a:rPr b="1" lang="zh-CN" sz="2000" spc="-1" strike="noStrike" u="sng">
                <a:solidFill>
                  <a:srgbClr val="333399"/>
                </a:solidFill>
                <a:uFillTx/>
                <a:latin typeface="华文中宋"/>
                <a:ea typeface="华文中宋"/>
              </a:rPr>
              <a:t>九龙半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92720" y="4653000"/>
            <a:ext cx="2808360" cy="863640"/>
          </a:xfrm>
          <a:prstGeom prst="wedgeRoundRectCallout">
            <a:avLst>
              <a:gd name="adj1" fmla="val -57407"/>
              <a:gd name="adj2" fmla="val -86027"/>
              <a:gd name="adj3" fmla="val 16667"/>
            </a:avLst>
          </a:prstGeom>
          <a:blipFill rotWithShape="0">
            <a:blip r:embed="rId3"/>
            <a:srcRect/>
            <a:stretch/>
          </a:blip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1842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</a:t>
            </a:r>
            <a:r>
              <a:rPr b="1" lang="en-US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南京条约</a:t>
            </a:r>
            <a:r>
              <a:rPr b="1" lang="en-US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割占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华文中宋"/>
                <a:ea typeface="华文中宋"/>
              </a:rPr>
              <a:t>         </a:t>
            </a:r>
            <a:r>
              <a:rPr b="1" lang="zh-CN" sz="2000" spc="-1" strike="noStrike" u="sng">
                <a:solidFill>
                  <a:srgbClr val="800000"/>
                </a:solidFill>
                <a:uFillTx/>
                <a:latin typeface="华文中宋"/>
                <a:ea typeface="华文中宋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2360" y="765000"/>
            <a:ext cx="3024000" cy="1727280"/>
          </a:xfrm>
          <a:prstGeom prst="wedgeRoundRectCallout">
            <a:avLst>
              <a:gd name="adj1" fmla="val 41708"/>
              <a:gd name="adj2" fmla="val 79962"/>
              <a:gd name="adj3" fmla="val 16667"/>
            </a:avLst>
          </a:prstGeom>
          <a:blipFill rotWithShape="0">
            <a:blip r:embed="rId4"/>
            <a:srcRect/>
            <a:stretch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1898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</a:t>
            </a:r>
            <a:r>
              <a:rPr b="1" lang="en-US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拓展香港界址专条</a:t>
            </a:r>
            <a:r>
              <a:rPr b="1" lang="en-US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强行</a:t>
            </a:r>
            <a:r>
              <a:rPr b="1" lang="zh-CN" sz="2000" spc="-1" strike="noStrike" u="sng">
                <a:solidFill>
                  <a:srgbClr val="333399"/>
                </a:solidFill>
                <a:uFillTx/>
                <a:latin typeface="华文中宋"/>
                <a:ea typeface="华文中宋"/>
              </a:rPr>
              <a:t>租借新界</a:t>
            </a:r>
            <a:r>
              <a:rPr b="1" lang="zh-CN" sz="2000" spc="-1" strike="noStrike">
                <a:solidFill>
                  <a:srgbClr val="800000"/>
                </a:solidFill>
                <a:latin typeface="华文中宋"/>
                <a:ea typeface="华文中宋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租期</a:t>
            </a:r>
            <a:r>
              <a:rPr b="1" lang="en-US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99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，至</a:t>
            </a:r>
            <a:r>
              <a:rPr b="1" lang="en-US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1997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</a:t>
            </a:r>
            <a:r>
              <a:rPr b="1" lang="en-US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月</a:t>
            </a:r>
            <a:r>
              <a:rPr b="1" lang="en-US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日期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15920"/>
            <a:ext cx="3267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79000"/>
                    </a:srgbClr>
                  </a:outerShdw>
                </a:effectLst>
                <a:latin typeface="宋体"/>
              </a:rPr>
              <a:t>百年屈辱成国耻</a:t>
            </a:r>
            <a:endParaRPr b="1" lang="en-US" sz="1800" spc="-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8" name=""/>
          <p:cNvSpPr/>
          <p:nvPr/>
        </p:nvSpPr>
        <p:spPr>
          <a:xfrm>
            <a:off x="6312600" y="49417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香港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84720" y="5300640"/>
            <a:ext cx="12956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459640" cy="50738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817080" y="61657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带枷锁的“犯人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059280" y="189000"/>
            <a:ext cx="30970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78000"/>
                    </a:srgbClr>
                  </a:outerShdw>
                </a:effectLst>
                <a:latin typeface="宋体"/>
              </a:rPr>
              <a:t>殖民统治下的香港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488360" cy="4994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925440" y="60930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临时医院里的香港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987640" y="260280"/>
            <a:ext cx="30970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78000"/>
                    </a:srgbClr>
                  </a:outerShdw>
                </a:effectLst>
                <a:latin typeface="宋体"/>
              </a:rPr>
              <a:t>殖民统治下的香港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8310600" cy="5167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843280" y="5734080"/>
            <a:ext cx="324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监视下的“劳工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987640" y="189000"/>
            <a:ext cx="30970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78000"/>
                    </a:srgbClr>
                  </a:outerShdw>
                </a:effectLst>
                <a:latin typeface="宋体"/>
              </a:rPr>
              <a:t>殖民统治下的香港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00000" y="981000"/>
            <a:ext cx="7417080" cy="46436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997080" y="59626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殖民官员出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987640" y="189000"/>
            <a:ext cx="30970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78000"/>
                    </a:srgbClr>
                  </a:outerShdw>
                </a:effectLst>
                <a:latin typeface="宋体"/>
              </a:rPr>
              <a:t>殖民统治下的香港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 rot="5400000">
            <a:off x="-239400" y="3128760"/>
            <a:ext cx="230508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808080">
                      <a:alpha val="78000"/>
                    </a:srgbClr>
                  </a:outerShdw>
                </a:effectLst>
                <a:latin typeface="宋体"/>
              </a:rPr>
              <a:t>澳门问题的由来</a:t>
            </a:r>
            <a:endParaRPr b="1" lang="en-US" sz="1800" spc="-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80808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619280" y="836640"/>
            <a:ext cx="5905440" cy="4680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258920" y="5734080"/>
            <a:ext cx="64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55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开始攫取澳门的居住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771640" y="566100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葡萄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50920" y="189000"/>
            <a:ext cx="3267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79000"/>
                    </a:srgbClr>
                  </a:outerShdw>
                </a:effectLst>
                <a:latin typeface="宋体"/>
              </a:rPr>
              <a:t>百年屈辱成国耻</a:t>
            </a:r>
            <a:endParaRPr b="1" lang="en-US" sz="1800" spc="-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30T01:19:53Z</dcterms:created>
  <dc:creator>微软用户</dc:creator>
  <dc:description/>
  <dc:language>en-US</dc:language>
  <cp:lastModifiedBy>微软用户</cp:lastModifiedBy>
  <dcterms:modified xsi:type="dcterms:W3CDTF">2014-06-05T01:22:55Z</dcterms:modified>
  <cp:revision>3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