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1E6-F41B-45D2-8BB1-0479A71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E3B-CD78-484E-AC68-F485699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097-6419-4B05-9F13-AA058727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9EC-271C-47A6-86ED-C9B6FC2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685-6EA4-4411-B3AC-DFE4D63C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10F-E960-4611-BEF1-2B9794C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573-AB6E-4531-9E7B-01F26A8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F1D-F403-4718-9AAB-E654579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D3D-CF74-467A-AD05-122469D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56D-D648-4053-B8FF-8A4499A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DE1-C3BB-4103-89CE-B8437EB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8B1-28EA-4097-B4E6-C9C5DF5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104-0770-4492-9D00-259292D9F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42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47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609480"/>
            <a:ext cx="49528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1143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近期，台湾学生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“反服贸运动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为焦点。许多台湾人聚集在总统府外，反对两岸服务贸易协议，要求政府就服贸协议重新进行谈判，或者撤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88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1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2254320" y="5821560"/>
            <a:ext cx="4057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两岸人员往来近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80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次再创新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00" y="46022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以后，台湾同胞来祖国大陆探亲的人数明显增多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一年就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万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台胞来大陆探亲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以后，每年来祖国大陆探亲的台胞都超过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百万人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876920" y="990720"/>
            <a:ext cx="327636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919480" y="3705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台湾同胞返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1000" y="6048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人员往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85800" y="1295280"/>
            <a:ext cx="2971800" cy="256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1360" y="3857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大陆同胞到台湾旅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20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684360" y="659520"/>
            <a:ext cx="77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两岸大三通实现：从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半小时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钟</a:t>
            </a:r>
            <a:r>
              <a:rPr b="1" lang="zh-CN" sz="2800" spc="-1" strike="noStrike">
                <a:solidFill>
                  <a:srgbClr val="660033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56674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从北京、上海、天津、深圳、台北、高雄等多个空港、海港同时启动两岸三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762120" y="1268280"/>
            <a:ext cx="7704000" cy="406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216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2286000" y="685800"/>
            <a:ext cx="4419720" cy="4292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1600" y="5486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年，大陆赠台大熊猫团团圆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27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8985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60360" y="2997360"/>
            <a:ext cx="7667640" cy="1852560"/>
          </a:xfrm>
          <a:prstGeom prst="rect">
            <a:avLst/>
          </a:prstGeom>
          <a:ln w="47520">
            <a:solidFill>
              <a:srgbClr val="009999"/>
            </a:solidFill>
            <a:miter/>
          </a:ln>
        </p:spPr>
      </p:pic>
      <p:sp>
        <p:nvSpPr>
          <p:cNvPr id="236" name=""/>
          <p:cNvSpPr txBox="1"/>
          <p:nvPr/>
        </p:nvSpPr>
        <p:spPr>
          <a:xfrm rot="5400000">
            <a:off x="-528840" y="1615680"/>
            <a:ext cx="1944720" cy="528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和平之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7522920" y="3860640"/>
            <a:ext cx="208908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搭桥之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8" name="" descr="李敖神州文化之旅"/>
          <p:cNvPicPr/>
          <p:nvPr/>
        </p:nvPicPr>
        <p:blipFill>
          <a:blip r:embed="rId6"/>
          <a:stretch/>
        </p:blipFill>
        <p:spPr>
          <a:xfrm>
            <a:off x="395280" y="5013360"/>
            <a:ext cx="7705800" cy="1569960"/>
          </a:xfrm>
          <a:prstGeom prst="rect">
            <a:avLst/>
          </a:prstGeom>
          <a:ln w="47520">
            <a:solidFill>
              <a:srgbClr val="009999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65080" y="1103400"/>
            <a:ext cx="8028000" cy="160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42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不再添愁：期盼统一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914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两岸服务贸易协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岸服务贸易协议，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CF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两岸经济合作框架协议）后的跟进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CF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经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该协议下，大陆将对台湾开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服务领域，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台湾则是开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其中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项目，包括汽车租赁、中医药批发和餐馆业已经面对来自大陆的竞争。服务贸易协议给予台湾更多有利条件进入大陆市场，其条件好于世贸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T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成员享有的条件，台湾向大陆开放的项目则没有超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T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253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2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不再添愁：期盼统一的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09480" y="16765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你认为两岸能否实现统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如果能，你的理由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如果不能，你认为存在哪些阻碍因素？并且请你为两岸早日实现统一献出你的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3520" y="990720"/>
            <a:ext cx="20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合作探究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1300600">
            <a:off x="1690200" y="2757600"/>
            <a:ext cx="6551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第１３课　海峡两岸的交往</a:t>
            </a:r>
            <a:endParaRPr b="1" i="1" lang="en-US" sz="9600" spc="1" strike="noStrike">
              <a:ln w="1908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8920" y="18900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四单元　民族团结和祖国统一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55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8000" y="190008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190008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1935000"/>
            <a:ext cx="90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8920" y="1900080"/>
            <a:ext cx="90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夷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727360"/>
            <a:ext cx="1544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琉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2920" y="2727360"/>
            <a:ext cx="1544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0" y="3876840"/>
            <a:ext cx="240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6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10240"/>
            <a:ext cx="19051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迷你简毡笔黑"/>
              </a:rPr>
              <a:t>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迷你简毡笔黑"/>
              </a:rPr>
              <a:t>收复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3894120"/>
            <a:ext cx="2180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6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4653000"/>
            <a:ext cx="27259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清设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台湾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941720"/>
            <a:ext cx="190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日占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4600" y="3948120"/>
            <a:ext cx="122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30640" y="3573360"/>
            <a:ext cx="1966680" cy="1323000"/>
            <a:chOff x="5030640" y="3573360"/>
            <a:chExt cx="1966680" cy="1323000"/>
          </a:xfrm>
        </p:grpSpPr>
        <p:sp>
          <p:nvSpPr>
            <p:cNvPr id="74" name=""/>
            <p:cNvSpPr/>
            <p:nvPr/>
          </p:nvSpPr>
          <p:spPr>
            <a:xfrm>
              <a:off x="5030640" y="3573360"/>
              <a:ext cx="1966680" cy="132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迷你简毡笔黑"/>
                  <a:ea typeface="迷你简毡笔黑"/>
                </a:rPr>
                <a:t>189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迷你简毡笔黑"/>
                  <a:ea typeface="迷你简毡笔黑"/>
                </a:rPr>
                <a:t>19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4760" y="4149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912000" y="4937040"/>
            <a:ext cx="190800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国共内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离至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01820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588000" y="3933720"/>
            <a:ext cx="731880" cy="57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284720" y="3933720"/>
            <a:ext cx="731880" cy="5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763640" y="400536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146560" y="207648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346560" y="2079720"/>
            <a:ext cx="731880" cy="579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12762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6642000"/>
            <a:ext cx="9144000" cy="217440"/>
            <a:chOff x="0" y="6642000"/>
            <a:chExt cx="9144000" cy="217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rcRect l="0" t="10449" r="0" b="86513"/>
            <a:stretch/>
          </p:blipFill>
          <p:spPr>
            <a:xfrm rot="10800000">
              <a:off x="0" y="664200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2"/>
            <a:srcRect l="37" t="82121" r="-33" b="10782"/>
            <a:stretch/>
          </p:blipFill>
          <p:spPr>
            <a:xfrm>
              <a:off x="0" y="670716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乡愁何来：台湾问题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台湾自古以来就是中国的领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9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乡愁何来：台湾问题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4920" y="83808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4038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，美国总统杜鲁门命令美国第七舰队侵入了台湾海峡，美国第十三航空队进驻了台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0" y="838080"/>
            <a:ext cx="3541680" cy="2378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4815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美国又与台湾当局签订了所谓《共同防御条约》，将中国的台湾省置于美国的“保护”之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04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0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4357800" y="137160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迷你简超粗圆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确立了要争取用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和平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解放台湾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526400" y="59364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新中国成立后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4080" y="5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解放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9720" y="143352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世纪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年代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6400" y="310212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改革开放以后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4680" y="3063960"/>
            <a:ext cx="41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形成了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和平统一，一国两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对台基本方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3400" y="496800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．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1995</a:t>
            </a:r>
            <a:r>
              <a:rPr b="1" lang="zh-CN" sz="3200" spc="-1" strike="noStrike">
                <a:solidFill>
                  <a:srgbClr val="660033"/>
                </a:solidFill>
                <a:latin typeface="隶书"/>
                <a:ea typeface="隶书"/>
              </a:rPr>
              <a:t>年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24200" y="489276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泽民发展两岸关系的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八项主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4320" y="702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5600" y="2656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邓小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4920" y="45514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泽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8360" y="90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胡锦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914400"/>
            <a:ext cx="142920" cy="121932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23080" y="4861080"/>
            <a:ext cx="485640" cy="398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92920" y="5470560"/>
            <a:ext cx="485640" cy="398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大陆对台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-12600" y="0"/>
            <a:ext cx="9155160" cy="667800"/>
            <a:chOff x="-12600" y="0"/>
            <a:chExt cx="9155160" cy="667800"/>
          </a:xfrm>
        </p:grpSpPr>
        <p:grpSp>
          <p:nvGrpSpPr>
            <p:cNvPr id="128" name=""/>
            <p:cNvGrpSpPr/>
            <p:nvPr/>
          </p:nvGrpSpPr>
          <p:grpSpPr>
            <a:xfrm>
              <a:off x="-12600" y="450720"/>
              <a:ext cx="9144000" cy="217080"/>
              <a:chOff x="-12600" y="450720"/>
              <a:chExt cx="9144000" cy="21708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-1260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-1260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-144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6667560"/>
            <a:ext cx="9144000" cy="217440"/>
            <a:chOff x="0" y="6667560"/>
            <a:chExt cx="9144000" cy="21744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3080" y="765000"/>
            <a:ext cx="63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台湾当局调整“三不”政策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1987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948680"/>
            <a:ext cx="7315200" cy="5205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197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年元旦全国人大常委会发表《告台湾同胞书》以后，台湾当局提出“三不”政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即：不接触、不谈判、不妥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迷你简超粗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8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意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581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海峡两岸同胞近三十八年的隔绝状态被打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两岸关系发生了历史性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41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881440" cy="2881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19400" y="548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海峡两岸关系协会徽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5120" y="465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海基会和海协会的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61960"/>
            <a:ext cx="7391160" cy="5814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两岸授权两个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民间团体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开始进行经济性、事务性商谈和政治对话。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54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176120" y="16477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内容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2155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双方的共识是“海峡两岸均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坚持一个中国原则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努力谋求国家的统一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720" y="681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九二共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55160" cy="667800"/>
            <a:chOff x="0" y="0"/>
            <a:chExt cx="9155160" cy="667800"/>
          </a:xfrm>
        </p:grpSpPr>
        <p:grpSp>
          <p:nvGrpSpPr>
            <p:cNvPr id="166" name=""/>
            <p:cNvGrpSpPr/>
            <p:nvPr/>
          </p:nvGrpSpPr>
          <p:grpSpPr>
            <a:xfrm>
              <a:off x="0" y="450720"/>
              <a:ext cx="9144000" cy="217080"/>
              <a:chOff x="0" y="450720"/>
              <a:chExt cx="9144000" cy="21708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rcRect l="0" t="10449" r="0" b="86513"/>
              <a:stretch/>
            </p:blipFill>
            <p:spPr>
              <a:xfrm>
                <a:off x="0" y="458640"/>
                <a:ext cx="914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"/>
              <a:srcRect l="37" t="82121" r="-33" b="10782"/>
              <a:stretch/>
            </p:blipFill>
            <p:spPr>
              <a:xfrm rot="10800000">
                <a:off x="0" y="450360"/>
                <a:ext cx="914400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11160" y="0"/>
              <a:ext cx="9144000" cy="58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600" y="6667560"/>
            <a:ext cx="9144000" cy="217440"/>
            <a:chOff x="12600" y="6667560"/>
            <a:chExt cx="9144000" cy="2174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rcRect l="0" t="10449" r="0" b="86513"/>
            <a:stretch/>
          </p:blipFill>
          <p:spPr>
            <a:xfrm rot="10800000">
              <a:off x="12600" y="6667560"/>
              <a:ext cx="91440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4"/>
            <a:srcRect l="37" t="82121" r="-33" b="10782"/>
            <a:stretch/>
          </p:blipFill>
          <p:spPr>
            <a:xfrm>
              <a:off x="12600" y="6732720"/>
              <a:ext cx="91440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95280" y="2514600"/>
            <a:ext cx="1726920" cy="1053360"/>
            <a:chOff x="395280" y="2514600"/>
            <a:chExt cx="1726920" cy="1053360"/>
          </a:xfrm>
        </p:grpSpPr>
        <p:sp>
          <p:nvSpPr>
            <p:cNvPr id="174" name=""/>
            <p:cNvSpPr/>
            <p:nvPr/>
          </p:nvSpPr>
          <p:spPr>
            <a:xfrm>
              <a:off x="395280" y="2514600"/>
              <a:ext cx="1655640" cy="1041480"/>
            </a:xfrm>
            <a:prstGeom prst="borderCallout2">
              <a:avLst>
                <a:gd name="adj1" fmla="val 18750"/>
                <a:gd name="adj2" fmla="val -8333"/>
                <a:gd name="adj3" fmla="val 10976"/>
                <a:gd name="adj4" fmla="val 117546"/>
                <a:gd name="adj5" fmla="val 110824"/>
                <a:gd name="adj6" fmla="val 13068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" y="2635200"/>
              <a:ext cx="15843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汪道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海协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186680" y="2057400"/>
            <a:ext cx="1728720" cy="1008000"/>
            <a:chOff x="7186680" y="2057400"/>
            <a:chExt cx="1728720" cy="1008000"/>
          </a:xfrm>
        </p:grpSpPr>
        <p:sp>
          <p:nvSpPr>
            <p:cNvPr id="177" name=""/>
            <p:cNvSpPr/>
            <p:nvPr/>
          </p:nvSpPr>
          <p:spPr>
            <a:xfrm>
              <a:off x="7186680" y="2057400"/>
              <a:ext cx="1650960" cy="1008000"/>
            </a:xfrm>
            <a:prstGeom prst="borderCallout2">
              <a:avLst>
                <a:gd name="adj1" fmla="val 18750"/>
                <a:gd name="adj2" fmla="val -8333"/>
                <a:gd name="adj3" fmla="val 11337"/>
                <a:gd name="adj4" fmla="val -27597"/>
                <a:gd name="adj5" fmla="val 149134"/>
                <a:gd name="adj6" fmla="val -5115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31040" y="2130480"/>
              <a:ext cx="15843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辜振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海基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110040" y="762120"/>
            <a:ext cx="18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" y="398952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9080" y="5208480"/>
            <a:ext cx="18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1000" y="6048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汪辜会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琥珀"/>
              </a:rPr>
              <a:t>何以解愁：海峡两岸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809880" cy="340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62680" y="76212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52880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海峡两岸关系的发展迈出了历史性的重要一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14-04-14T11:31:1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