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gif" ContentType="image/gif"/>
  <Override PartName="/ppt/media/image1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4708-3645-4E1C-B421-02D35003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7182-21E9-43C8-AF61-B6663A03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84C0-8145-427E-895A-098FB91EB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3057-F060-4D73-A4B1-048BA2D8B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4D08-A08E-45E9-A6E0-482B43BA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C77C-5647-4EBA-A10F-6AA2269C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A09C-2A78-42AC-BC25-30E00354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936A-E0CD-494B-BE24-DFEEA293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CD95-5F43-4C80-9EBB-DF831F8F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9976-61CB-47AB-98AB-07F64FF7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724B-F5A2-4EAF-9D32-24D441A1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7A42-3733-4FF1-9C04-182215B9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8ABE-66D9-4B32-9DBF-3C84285109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jpeg"/><Relationship Id="rId11" Type="http://schemas.openxmlformats.org/officeDocument/2006/relationships/image" Target="../media/image1.png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5160" cy="667800"/>
            <a:chOff x="0" y="0"/>
            <a:chExt cx="9155160" cy="667800"/>
          </a:xfrm>
        </p:grpSpPr>
        <p:grpSp>
          <p:nvGrpSpPr>
            <p:cNvPr id="42" name=""/>
            <p:cNvGrpSpPr/>
            <p:nvPr/>
          </p:nvGrpSpPr>
          <p:grpSpPr>
            <a:xfrm>
              <a:off x="0" y="450720"/>
              <a:ext cx="9144000" cy="217080"/>
              <a:chOff x="0" y="450720"/>
              <a:chExt cx="9144000" cy="217080"/>
            </a:xfrm>
          </p:grpSpPr>
          <p:pic>
            <p:nvPicPr>
              <p:cNvPr id="43" name="" descr=""/>
              <p:cNvPicPr/>
              <p:nvPr/>
            </p:nvPicPr>
            <p:blipFill>
              <a:blip r:embed="rId1"/>
              <a:srcRect l="0" t="10449" r="0" b="86513"/>
              <a:stretch/>
            </p:blipFill>
            <p:spPr>
              <a:xfrm>
                <a:off x="0" y="458640"/>
                <a:ext cx="914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" name="" descr=""/>
              <p:cNvPicPr/>
              <p:nvPr/>
            </p:nvPicPr>
            <p:blipFill>
              <a:blip r:embed="rId2"/>
              <a:srcRect l="37" t="82121" r="-33" b="10782"/>
              <a:stretch/>
            </p:blipFill>
            <p:spPr>
              <a:xfrm rot="10800000">
                <a:off x="0" y="450360"/>
                <a:ext cx="9144000" cy="15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5" name=""/>
            <p:cNvSpPr/>
            <p:nvPr/>
          </p:nvSpPr>
          <p:spPr>
            <a:xfrm>
              <a:off x="11160" y="0"/>
              <a:ext cx="9144000" cy="58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0" y="6667560"/>
            <a:ext cx="9144000" cy="217440"/>
            <a:chOff x="0" y="6667560"/>
            <a:chExt cx="9144000" cy="217440"/>
          </a:xfrm>
        </p:grpSpPr>
        <p:pic>
          <p:nvPicPr>
            <p:cNvPr id="47" name="" descr=""/>
            <p:cNvPicPr/>
            <p:nvPr/>
          </p:nvPicPr>
          <p:blipFill>
            <a:blip r:embed="rId3"/>
            <a:srcRect l="0" t="10449" r="0" b="86513"/>
            <a:stretch/>
          </p:blipFill>
          <p:spPr>
            <a:xfrm rot="10800000">
              <a:off x="0" y="6667560"/>
              <a:ext cx="914400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4"/>
            <a:srcRect l="37" t="82121" r="-33" b="10782"/>
            <a:stretch/>
          </p:blipFill>
          <p:spPr>
            <a:xfrm>
              <a:off x="0" y="6732720"/>
              <a:ext cx="9144000" cy="152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0" y="609480"/>
            <a:ext cx="495288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76920" y="11430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近期，台湾学生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“反服贸运动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成为焦点。许多台湾人聚集在总统府外，反对两岸服务贸易协议，要求政府就服贸协议重新进行谈判，或者撤销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-12600" y="0"/>
            <a:ext cx="9155160" cy="667800"/>
            <a:chOff x="-12600" y="0"/>
            <a:chExt cx="9155160" cy="667800"/>
          </a:xfrm>
        </p:grpSpPr>
        <p:grpSp>
          <p:nvGrpSpPr>
            <p:cNvPr id="188" name=""/>
            <p:cNvGrpSpPr/>
            <p:nvPr/>
          </p:nvGrpSpPr>
          <p:grpSpPr>
            <a:xfrm>
              <a:off x="-12600" y="450720"/>
              <a:ext cx="9144000" cy="217080"/>
              <a:chOff x="-12600" y="450720"/>
              <a:chExt cx="9144000" cy="217080"/>
            </a:xfrm>
          </p:grpSpPr>
          <p:pic>
            <p:nvPicPr>
              <p:cNvPr id="189" name="" descr=""/>
              <p:cNvPicPr/>
              <p:nvPr/>
            </p:nvPicPr>
            <p:blipFill>
              <a:blip r:embed="rId1"/>
              <a:srcRect l="0" t="10449" r="0" b="86513"/>
              <a:stretch/>
            </p:blipFill>
            <p:spPr>
              <a:xfrm>
                <a:off x="-12600" y="458640"/>
                <a:ext cx="914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" name="" descr=""/>
              <p:cNvPicPr/>
              <p:nvPr/>
            </p:nvPicPr>
            <p:blipFill>
              <a:blip r:embed="rId2"/>
              <a:srcRect l="37" t="82121" r="-33" b="10782"/>
              <a:stretch/>
            </p:blipFill>
            <p:spPr>
              <a:xfrm rot="10800000">
                <a:off x="-12600" y="450360"/>
                <a:ext cx="9144000" cy="15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1" name=""/>
            <p:cNvSpPr/>
            <p:nvPr/>
          </p:nvSpPr>
          <p:spPr>
            <a:xfrm>
              <a:off x="-1440" y="0"/>
              <a:ext cx="9144000" cy="58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0" y="6667560"/>
            <a:ext cx="9144000" cy="217440"/>
            <a:chOff x="0" y="6667560"/>
            <a:chExt cx="9144000" cy="21744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rcRect l="0" t="10449" r="0" b="86513"/>
            <a:stretch/>
          </p:blipFill>
          <p:spPr>
            <a:xfrm rot="10800000">
              <a:off x="0" y="6667560"/>
              <a:ext cx="914400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rcRect l="37" t="82121" r="-33" b="10782"/>
            <a:stretch/>
          </p:blipFill>
          <p:spPr>
            <a:xfrm>
              <a:off x="0" y="6732720"/>
              <a:ext cx="9144000" cy="15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"/>
          <p:cNvSpPr/>
          <p:nvPr/>
        </p:nvSpPr>
        <p:spPr>
          <a:xfrm>
            <a:off x="2254320" y="5821560"/>
            <a:ext cx="405756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01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年两岸人员往来近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800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万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人次再创新高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8000" y="460224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迷你简超粗圆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979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年以后，台湾同胞来祖国大陆探亲的人数明显增多，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987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年一年就有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万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名台胞来大陆探亲。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99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年以后，每年来祖国大陆探亲的台胞都超过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百万人次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琥珀"/>
              </a:rPr>
              <a:t>何以解愁：海峡两岸的交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4876920" y="990720"/>
            <a:ext cx="3276360" cy="2565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5919480" y="37051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台湾同胞返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1000" y="604800"/>
            <a:ext cx="19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人员往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685800" y="1295280"/>
            <a:ext cx="2971800" cy="25639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251360" y="38577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大陆同胞到台湾旅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-12600" y="0"/>
            <a:ext cx="9155160" cy="667800"/>
            <a:chOff x="-12600" y="0"/>
            <a:chExt cx="9155160" cy="667800"/>
          </a:xfrm>
        </p:grpSpPr>
        <p:grpSp>
          <p:nvGrpSpPr>
            <p:cNvPr id="204" name=""/>
            <p:cNvGrpSpPr/>
            <p:nvPr/>
          </p:nvGrpSpPr>
          <p:grpSpPr>
            <a:xfrm>
              <a:off x="-12600" y="450720"/>
              <a:ext cx="9144000" cy="217080"/>
              <a:chOff x="-12600" y="450720"/>
              <a:chExt cx="9144000" cy="217080"/>
            </a:xfrm>
          </p:grpSpPr>
          <p:pic>
            <p:nvPicPr>
              <p:cNvPr id="205" name="" descr=""/>
              <p:cNvPicPr/>
              <p:nvPr/>
            </p:nvPicPr>
            <p:blipFill>
              <a:blip r:embed="rId1"/>
              <a:srcRect l="0" t="10449" r="0" b="86513"/>
              <a:stretch/>
            </p:blipFill>
            <p:spPr>
              <a:xfrm>
                <a:off x="-12600" y="458640"/>
                <a:ext cx="914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" name="" descr=""/>
              <p:cNvPicPr/>
              <p:nvPr/>
            </p:nvPicPr>
            <p:blipFill>
              <a:blip r:embed="rId2"/>
              <a:srcRect l="37" t="82121" r="-33" b="10782"/>
              <a:stretch/>
            </p:blipFill>
            <p:spPr>
              <a:xfrm rot="10800000">
                <a:off x="-12600" y="450360"/>
                <a:ext cx="9144000" cy="15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7" name=""/>
            <p:cNvSpPr/>
            <p:nvPr/>
          </p:nvSpPr>
          <p:spPr>
            <a:xfrm>
              <a:off x="-1440" y="0"/>
              <a:ext cx="9144000" cy="58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0" y="6667560"/>
            <a:ext cx="9144000" cy="217440"/>
            <a:chOff x="0" y="6667560"/>
            <a:chExt cx="9144000" cy="217440"/>
          </a:xfrm>
        </p:grpSpPr>
        <p:pic>
          <p:nvPicPr>
            <p:cNvPr id="209" name="" descr=""/>
            <p:cNvPicPr/>
            <p:nvPr/>
          </p:nvPicPr>
          <p:blipFill>
            <a:blip r:embed="rId3"/>
            <a:srcRect l="0" t="10449" r="0" b="86513"/>
            <a:stretch/>
          </p:blipFill>
          <p:spPr>
            <a:xfrm rot="10800000">
              <a:off x="0" y="6667560"/>
              <a:ext cx="914400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4"/>
            <a:srcRect l="37" t="82121" r="-33" b="10782"/>
            <a:stretch/>
          </p:blipFill>
          <p:spPr>
            <a:xfrm>
              <a:off x="0" y="6732720"/>
              <a:ext cx="9144000" cy="15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"/>
          <p:cNvSpPr/>
          <p:nvPr/>
        </p:nvSpPr>
        <p:spPr>
          <a:xfrm>
            <a:off x="684360" y="659520"/>
            <a:ext cx="777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008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年两岸大三通实现：从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半小时到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分钟</a:t>
            </a:r>
            <a:r>
              <a:rPr b="1" lang="zh-CN" sz="2800" spc="-1" strike="noStrike">
                <a:solidFill>
                  <a:srgbClr val="660033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9640" y="5667480"/>
            <a:ext cx="79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隶书"/>
              </a:rPr>
              <a:t>从北京、上海、天津、深圳、台北、高雄等多个空港、海港同时启动两岸三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762120" y="1268280"/>
            <a:ext cx="7704000" cy="4065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52280" y="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琥珀"/>
              </a:rPr>
              <a:t>何以解愁：海峡两岸的交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-12600" y="0"/>
            <a:ext cx="9155160" cy="667800"/>
            <a:chOff x="-12600" y="0"/>
            <a:chExt cx="9155160" cy="667800"/>
          </a:xfrm>
        </p:grpSpPr>
        <p:grpSp>
          <p:nvGrpSpPr>
            <p:cNvPr id="216" name=""/>
            <p:cNvGrpSpPr/>
            <p:nvPr/>
          </p:nvGrpSpPr>
          <p:grpSpPr>
            <a:xfrm>
              <a:off x="-12600" y="450720"/>
              <a:ext cx="9144000" cy="217080"/>
              <a:chOff x="-12600" y="450720"/>
              <a:chExt cx="9144000" cy="217080"/>
            </a:xfrm>
          </p:grpSpPr>
          <p:pic>
            <p:nvPicPr>
              <p:cNvPr id="217" name="" descr=""/>
              <p:cNvPicPr/>
              <p:nvPr/>
            </p:nvPicPr>
            <p:blipFill>
              <a:blip r:embed="rId1"/>
              <a:srcRect l="0" t="10449" r="0" b="86513"/>
              <a:stretch/>
            </p:blipFill>
            <p:spPr>
              <a:xfrm>
                <a:off x="-12600" y="458640"/>
                <a:ext cx="914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2"/>
              <a:srcRect l="37" t="82121" r="-33" b="10782"/>
              <a:stretch/>
            </p:blipFill>
            <p:spPr>
              <a:xfrm rot="10800000">
                <a:off x="-12600" y="450360"/>
                <a:ext cx="9144000" cy="15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9" name=""/>
            <p:cNvSpPr/>
            <p:nvPr/>
          </p:nvSpPr>
          <p:spPr>
            <a:xfrm>
              <a:off x="-1440" y="0"/>
              <a:ext cx="9144000" cy="58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52280" y="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琥珀"/>
              </a:rPr>
              <a:t>何以解愁：海峡两岸的交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0" y="6667560"/>
            <a:ext cx="9144000" cy="217440"/>
            <a:chOff x="0" y="6667560"/>
            <a:chExt cx="9144000" cy="217440"/>
          </a:xfrm>
        </p:grpSpPr>
        <p:pic>
          <p:nvPicPr>
            <p:cNvPr id="222" name="" descr=""/>
            <p:cNvPicPr/>
            <p:nvPr/>
          </p:nvPicPr>
          <p:blipFill>
            <a:blip r:embed="rId3"/>
            <a:srcRect l="0" t="10449" r="0" b="86513"/>
            <a:stretch/>
          </p:blipFill>
          <p:spPr>
            <a:xfrm rot="10800000">
              <a:off x="0" y="6667560"/>
              <a:ext cx="914400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4"/>
            <a:srcRect l="37" t="82121" r="-33" b="10782"/>
            <a:stretch/>
          </p:blipFill>
          <p:spPr>
            <a:xfrm>
              <a:off x="0" y="6732720"/>
              <a:ext cx="9144000" cy="152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>
            <a:off x="2286000" y="685800"/>
            <a:ext cx="4419720" cy="42926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371600" y="54864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00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年，大陆赠台大熊猫团团圆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0" y="0"/>
            <a:ext cx="9155160" cy="667800"/>
            <a:chOff x="0" y="0"/>
            <a:chExt cx="9155160" cy="667800"/>
          </a:xfrm>
        </p:grpSpPr>
        <p:grpSp>
          <p:nvGrpSpPr>
            <p:cNvPr id="227" name=""/>
            <p:cNvGrpSpPr/>
            <p:nvPr/>
          </p:nvGrpSpPr>
          <p:grpSpPr>
            <a:xfrm>
              <a:off x="0" y="450720"/>
              <a:ext cx="9144000" cy="217080"/>
              <a:chOff x="0" y="450720"/>
              <a:chExt cx="9144000" cy="217080"/>
            </a:xfrm>
          </p:grpSpPr>
          <p:pic>
            <p:nvPicPr>
              <p:cNvPr id="228" name="" descr=""/>
              <p:cNvPicPr/>
              <p:nvPr/>
            </p:nvPicPr>
            <p:blipFill>
              <a:blip r:embed="rId1"/>
              <a:srcRect l="0" t="10449" r="0" b="86513"/>
              <a:stretch/>
            </p:blipFill>
            <p:spPr>
              <a:xfrm>
                <a:off x="0" y="458640"/>
                <a:ext cx="914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" name="" descr=""/>
              <p:cNvPicPr/>
              <p:nvPr/>
            </p:nvPicPr>
            <p:blipFill>
              <a:blip r:embed="rId2"/>
              <a:srcRect l="37" t="82121" r="-33" b="10782"/>
              <a:stretch/>
            </p:blipFill>
            <p:spPr>
              <a:xfrm rot="10800000">
                <a:off x="0" y="450360"/>
                <a:ext cx="9144000" cy="15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0" name=""/>
            <p:cNvSpPr/>
            <p:nvPr/>
          </p:nvSpPr>
          <p:spPr>
            <a:xfrm>
              <a:off x="11160" y="0"/>
              <a:ext cx="9144000" cy="58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2600" y="6667560"/>
            <a:ext cx="9144000" cy="217440"/>
            <a:chOff x="12600" y="6667560"/>
            <a:chExt cx="9144000" cy="217440"/>
          </a:xfrm>
        </p:grpSpPr>
        <p:pic>
          <p:nvPicPr>
            <p:cNvPr id="232" name="" descr=""/>
            <p:cNvPicPr/>
            <p:nvPr/>
          </p:nvPicPr>
          <p:blipFill>
            <a:blip r:embed="rId3"/>
            <a:srcRect l="0" t="10449" r="0" b="86513"/>
            <a:stretch/>
          </p:blipFill>
          <p:spPr>
            <a:xfrm rot="10800000">
              <a:off x="12600" y="6667560"/>
              <a:ext cx="914400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4"/>
            <a:srcRect l="37" t="82121" r="-33" b="10782"/>
            <a:stretch/>
          </p:blipFill>
          <p:spPr>
            <a:xfrm>
              <a:off x="12600" y="6732720"/>
              <a:ext cx="9144000" cy="15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"/>
          <p:cNvSpPr/>
          <p:nvPr/>
        </p:nvSpPr>
        <p:spPr>
          <a:xfrm>
            <a:off x="898560" y="2154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360360" y="2997360"/>
            <a:ext cx="7667640" cy="1852560"/>
          </a:xfrm>
          <a:prstGeom prst="rect">
            <a:avLst/>
          </a:prstGeom>
          <a:ln w="47520">
            <a:solidFill>
              <a:srgbClr val="009999"/>
            </a:solidFill>
            <a:miter/>
          </a:ln>
        </p:spPr>
      </p:pic>
      <p:sp>
        <p:nvSpPr>
          <p:cNvPr id="236" name=""/>
          <p:cNvSpPr txBox="1"/>
          <p:nvPr/>
        </p:nvSpPr>
        <p:spPr>
          <a:xfrm rot="5400000">
            <a:off x="-528840" y="1615680"/>
            <a:ext cx="1944720" cy="528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</a:rPr>
              <a:t>和平之旅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37" name=""/>
          <p:cNvSpPr txBox="1"/>
          <p:nvPr/>
        </p:nvSpPr>
        <p:spPr>
          <a:xfrm rot="5400000">
            <a:off x="7522920" y="3860640"/>
            <a:ext cx="2089080" cy="50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</a:rPr>
              <a:t>搭桥之旅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238" name="" descr="李敖神州文化之旅"/>
          <p:cNvPicPr/>
          <p:nvPr/>
        </p:nvPicPr>
        <p:blipFill>
          <a:blip r:embed="rId6"/>
          <a:stretch/>
        </p:blipFill>
        <p:spPr>
          <a:xfrm>
            <a:off x="395280" y="5013360"/>
            <a:ext cx="7705800" cy="1569960"/>
          </a:xfrm>
          <a:prstGeom prst="rect">
            <a:avLst/>
          </a:prstGeom>
          <a:ln w="47520">
            <a:solidFill>
              <a:srgbClr val="009999"/>
            </a:solidFill>
            <a:miter/>
          </a:ln>
        </p:spPr>
      </p:pic>
      <p:pic>
        <p:nvPicPr>
          <p:cNvPr id="239" name="" descr=""/>
          <p:cNvPicPr/>
          <p:nvPr/>
        </p:nvPicPr>
        <p:blipFill>
          <a:blip r:embed="rId7"/>
          <a:stretch/>
        </p:blipFill>
        <p:spPr>
          <a:xfrm>
            <a:off x="865080" y="1103400"/>
            <a:ext cx="8028000" cy="16048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52280" y="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琥珀"/>
              </a:rPr>
              <a:t>何以解愁：海峡两岸的交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0" y="0"/>
            <a:ext cx="9155160" cy="667800"/>
            <a:chOff x="0" y="0"/>
            <a:chExt cx="9155160" cy="667800"/>
          </a:xfrm>
        </p:grpSpPr>
        <p:grpSp>
          <p:nvGrpSpPr>
            <p:cNvPr id="242" name=""/>
            <p:cNvGrpSpPr/>
            <p:nvPr/>
          </p:nvGrpSpPr>
          <p:grpSpPr>
            <a:xfrm>
              <a:off x="0" y="450720"/>
              <a:ext cx="9144000" cy="217080"/>
              <a:chOff x="0" y="450720"/>
              <a:chExt cx="9144000" cy="21708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rcRect l="0" t="10449" r="0" b="86513"/>
              <a:stretch/>
            </p:blipFill>
            <p:spPr>
              <a:xfrm>
                <a:off x="0" y="458640"/>
                <a:ext cx="914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" descr=""/>
              <p:cNvPicPr/>
              <p:nvPr/>
            </p:nvPicPr>
            <p:blipFill>
              <a:blip r:embed="rId2"/>
              <a:srcRect l="37" t="82121" r="-33" b="10782"/>
              <a:stretch/>
            </p:blipFill>
            <p:spPr>
              <a:xfrm rot="10800000">
                <a:off x="0" y="450360"/>
                <a:ext cx="9144000" cy="15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5" name=""/>
            <p:cNvSpPr/>
            <p:nvPr/>
          </p:nvSpPr>
          <p:spPr>
            <a:xfrm>
              <a:off x="11160" y="0"/>
              <a:ext cx="9144000" cy="58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0" y="6667560"/>
            <a:ext cx="9144000" cy="217440"/>
            <a:chOff x="0" y="6667560"/>
            <a:chExt cx="9144000" cy="217440"/>
          </a:xfrm>
        </p:grpSpPr>
        <p:pic>
          <p:nvPicPr>
            <p:cNvPr id="247" name="" descr=""/>
            <p:cNvPicPr/>
            <p:nvPr/>
          </p:nvPicPr>
          <p:blipFill>
            <a:blip r:embed="rId3"/>
            <a:srcRect l="0" t="10449" r="0" b="86513"/>
            <a:stretch/>
          </p:blipFill>
          <p:spPr>
            <a:xfrm rot="10800000">
              <a:off x="0" y="6667560"/>
              <a:ext cx="914400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4"/>
            <a:srcRect l="37" t="82121" r="-33" b="10782"/>
            <a:stretch/>
          </p:blipFill>
          <p:spPr>
            <a:xfrm>
              <a:off x="0" y="6732720"/>
              <a:ext cx="9144000" cy="15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"/>
          <p:cNvSpPr/>
          <p:nvPr/>
        </p:nvSpPr>
        <p:spPr>
          <a:xfrm>
            <a:off x="152280" y="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琥珀"/>
              </a:rPr>
              <a:t>不再添愁：期盼统一的实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0" y="914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隶书"/>
              </a:rPr>
              <a:t>两岸服务贸易协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676520"/>
            <a:ext cx="7391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两岸服务贸易协议，是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ECF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两岸经济合作框架协议）后的跟进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ECF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已经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01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月生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该协议下，大陆将对台湾开放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8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服务领域，或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8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项目，台湾则是开放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4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项目，其中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7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项目，包括汽车租赁、中医药批发和餐馆业已经面对来自大陆的竞争。服务贸易协议给予台湾更多有利条件进入大陆市场，其条件好于世贸（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TO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成员享有的条件，台湾向大陆开放的项目则没有超过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TO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标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0" y="0"/>
            <a:ext cx="9155160" cy="667800"/>
            <a:chOff x="0" y="0"/>
            <a:chExt cx="9155160" cy="667800"/>
          </a:xfrm>
        </p:grpSpPr>
        <p:grpSp>
          <p:nvGrpSpPr>
            <p:cNvPr id="253" name=""/>
            <p:cNvGrpSpPr/>
            <p:nvPr/>
          </p:nvGrpSpPr>
          <p:grpSpPr>
            <a:xfrm>
              <a:off x="0" y="450720"/>
              <a:ext cx="9144000" cy="217080"/>
              <a:chOff x="0" y="450720"/>
              <a:chExt cx="9144000" cy="217080"/>
            </a:xfrm>
          </p:grpSpPr>
          <p:pic>
            <p:nvPicPr>
              <p:cNvPr id="254" name="" descr=""/>
              <p:cNvPicPr/>
              <p:nvPr/>
            </p:nvPicPr>
            <p:blipFill>
              <a:blip r:embed="rId1"/>
              <a:srcRect l="0" t="10449" r="0" b="86513"/>
              <a:stretch/>
            </p:blipFill>
            <p:spPr>
              <a:xfrm>
                <a:off x="0" y="458640"/>
                <a:ext cx="914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" descr=""/>
              <p:cNvPicPr/>
              <p:nvPr/>
            </p:nvPicPr>
            <p:blipFill>
              <a:blip r:embed="rId2"/>
              <a:srcRect l="37" t="82121" r="-33" b="10782"/>
              <a:stretch/>
            </p:blipFill>
            <p:spPr>
              <a:xfrm rot="10800000">
                <a:off x="0" y="450360"/>
                <a:ext cx="9144000" cy="15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6" name=""/>
            <p:cNvSpPr/>
            <p:nvPr/>
          </p:nvSpPr>
          <p:spPr>
            <a:xfrm>
              <a:off x="11160" y="0"/>
              <a:ext cx="9144000" cy="58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52280" y="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琥珀"/>
              </a:rPr>
              <a:t>不再添愁：期盼统一的实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0" y="6667560"/>
            <a:ext cx="9144000" cy="217440"/>
            <a:chOff x="0" y="6667560"/>
            <a:chExt cx="9144000" cy="217440"/>
          </a:xfrm>
        </p:grpSpPr>
        <p:pic>
          <p:nvPicPr>
            <p:cNvPr id="259" name="" descr=""/>
            <p:cNvPicPr/>
            <p:nvPr/>
          </p:nvPicPr>
          <p:blipFill>
            <a:blip r:embed="rId3"/>
            <a:srcRect l="0" t="10449" r="0" b="86513"/>
            <a:stretch/>
          </p:blipFill>
          <p:spPr>
            <a:xfrm rot="10800000">
              <a:off x="0" y="6667560"/>
              <a:ext cx="914400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4"/>
            <a:srcRect l="37" t="82121" r="-33" b="10782"/>
            <a:stretch/>
          </p:blipFill>
          <p:spPr>
            <a:xfrm>
              <a:off x="0" y="6732720"/>
              <a:ext cx="9144000" cy="15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"/>
          <p:cNvSpPr/>
          <p:nvPr/>
        </p:nvSpPr>
        <p:spPr>
          <a:xfrm>
            <a:off x="609480" y="1676520"/>
            <a:ext cx="7848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隶书"/>
              </a:rPr>
              <a:t>你认为两岸能否实现统一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隶书"/>
              </a:rPr>
              <a:t>如果能，你的理由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隶书"/>
              </a:rPr>
              <a:t>如果不能，你认为存在哪些阻碍因素？并且请你为两岸早日实现统一献出你的策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33520" y="990720"/>
            <a:ext cx="20192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合作探究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555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 rot="21300600">
            <a:off x="1690200" y="2757600"/>
            <a:ext cx="655164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1" strike="noStrike">
                <a:ln w="19080">
                  <a:solidFill>
                    <a:srgbClr val="ffff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第１３课　海峡两岸的交往</a:t>
            </a:r>
            <a:endParaRPr b="1" i="1" lang="en-US" sz="9600" spc="1" strike="noStrike">
              <a:ln w="19080">
                <a:solidFill>
                  <a:srgbClr val="ffff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258920" y="189000"/>
            <a:ext cx="653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第四单元　民族团结和祖国统一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0"/>
            <a:ext cx="9155160" cy="667800"/>
            <a:chOff x="0" y="0"/>
            <a:chExt cx="9155160" cy="667800"/>
          </a:xfrm>
        </p:grpSpPr>
        <p:grpSp>
          <p:nvGrpSpPr>
            <p:cNvPr id="55" name=""/>
            <p:cNvGrpSpPr/>
            <p:nvPr/>
          </p:nvGrpSpPr>
          <p:grpSpPr>
            <a:xfrm>
              <a:off x="0" y="450720"/>
              <a:ext cx="9144000" cy="217080"/>
              <a:chOff x="0" y="450720"/>
              <a:chExt cx="9144000" cy="217080"/>
            </a:xfrm>
          </p:grpSpPr>
          <p:pic>
            <p:nvPicPr>
              <p:cNvPr id="56" name="" descr=""/>
              <p:cNvPicPr/>
              <p:nvPr/>
            </p:nvPicPr>
            <p:blipFill>
              <a:blip r:embed="rId1"/>
              <a:srcRect l="0" t="10449" r="0" b="86513"/>
              <a:stretch/>
            </p:blipFill>
            <p:spPr>
              <a:xfrm>
                <a:off x="0" y="458640"/>
                <a:ext cx="914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" descr=""/>
              <p:cNvPicPr/>
              <p:nvPr/>
            </p:nvPicPr>
            <p:blipFill>
              <a:blip r:embed="rId2"/>
              <a:srcRect l="37" t="82121" r="-33" b="10782"/>
              <a:stretch/>
            </p:blipFill>
            <p:spPr>
              <a:xfrm rot="10800000">
                <a:off x="0" y="450360"/>
                <a:ext cx="9144000" cy="15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8" name=""/>
            <p:cNvSpPr/>
            <p:nvPr/>
          </p:nvSpPr>
          <p:spPr>
            <a:xfrm>
              <a:off x="11160" y="0"/>
              <a:ext cx="9144000" cy="58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08000" y="1900080"/>
            <a:ext cx="1544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三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11280" y="1900080"/>
            <a:ext cx="1000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13080" y="1935000"/>
            <a:ext cx="909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38920" y="1900080"/>
            <a:ext cx="909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2727360"/>
            <a:ext cx="1544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夷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95640" y="2727360"/>
            <a:ext cx="1544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95640" y="2727360"/>
            <a:ext cx="1544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琉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22920" y="2727360"/>
            <a:ext cx="1544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台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920" y="3876840"/>
            <a:ext cx="2406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16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4710240"/>
            <a:ext cx="1905120" cy="132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迷你简毡笔黑"/>
              </a:rPr>
              <a:t>郑成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迷你简毡笔黑"/>
              </a:rPr>
              <a:t>收复台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29080" y="3894120"/>
            <a:ext cx="2180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16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08000" y="4653000"/>
            <a:ext cx="2725920" cy="132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清设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台湾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88000" y="4941720"/>
            <a:ext cx="1908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日占台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64600" y="3948120"/>
            <a:ext cx="1222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19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030640" y="3573360"/>
            <a:ext cx="1966680" cy="1323000"/>
            <a:chOff x="5030640" y="3573360"/>
            <a:chExt cx="1966680" cy="1323000"/>
          </a:xfrm>
        </p:grpSpPr>
        <p:sp>
          <p:nvSpPr>
            <p:cNvPr id="74" name=""/>
            <p:cNvSpPr/>
            <p:nvPr/>
          </p:nvSpPr>
          <p:spPr>
            <a:xfrm>
              <a:off x="5030640" y="3573360"/>
              <a:ext cx="1966680" cy="1323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迷你简毡笔黑"/>
                  <a:ea typeface="迷你简毡笔黑"/>
                </a:rPr>
                <a:t>189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迷你简毡笔黑"/>
                  <a:ea typeface="迷你简毡笔黑"/>
                </a:rPr>
                <a:t>194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64760" y="4149720"/>
              <a:ext cx="0" cy="287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912000" y="4937040"/>
            <a:ext cx="1908000" cy="132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国共内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分离至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619280" y="2079720"/>
            <a:ext cx="731880" cy="5792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7018200" y="2079720"/>
            <a:ext cx="731880" cy="5792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6588000" y="3933720"/>
            <a:ext cx="731880" cy="579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4284720" y="3933720"/>
            <a:ext cx="731880" cy="579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1763640" y="4005360"/>
            <a:ext cx="731880" cy="579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5146560" y="2076480"/>
            <a:ext cx="731880" cy="579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3346560" y="2079720"/>
            <a:ext cx="731880" cy="579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1276200" cy="232092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0" y="6642000"/>
            <a:ext cx="9144000" cy="217440"/>
            <a:chOff x="0" y="6642000"/>
            <a:chExt cx="9144000" cy="217440"/>
          </a:xfrm>
        </p:grpSpPr>
        <p:pic>
          <p:nvPicPr>
            <p:cNvPr id="86" name="" descr=""/>
            <p:cNvPicPr/>
            <p:nvPr/>
          </p:nvPicPr>
          <p:blipFill>
            <a:blip r:embed="rId11"/>
            <a:srcRect l="0" t="10449" r="0" b="86513"/>
            <a:stretch/>
          </p:blipFill>
          <p:spPr>
            <a:xfrm rot="10800000">
              <a:off x="0" y="6642000"/>
              <a:ext cx="914400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12"/>
            <a:srcRect l="37" t="82121" r="-33" b="10782"/>
            <a:stretch/>
          </p:blipFill>
          <p:spPr>
            <a:xfrm>
              <a:off x="0" y="6707160"/>
              <a:ext cx="9144000" cy="15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/>
          <p:nvPr/>
        </p:nvSpPr>
        <p:spPr>
          <a:xfrm>
            <a:off x="152280" y="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琥珀"/>
              </a:rPr>
              <a:t>乡愁何来：台湾问题的由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9144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台湾自古以来就是中国的领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6667560"/>
            <a:ext cx="9144000" cy="217440"/>
            <a:chOff x="0" y="6667560"/>
            <a:chExt cx="9144000" cy="217440"/>
          </a:xfrm>
        </p:grpSpPr>
        <p:pic>
          <p:nvPicPr>
            <p:cNvPr id="91" name="" descr=""/>
            <p:cNvPicPr/>
            <p:nvPr/>
          </p:nvPicPr>
          <p:blipFill>
            <a:blip r:embed="rId1"/>
            <a:srcRect l="0" t="10449" r="0" b="86513"/>
            <a:stretch/>
          </p:blipFill>
          <p:spPr>
            <a:xfrm rot="10800000">
              <a:off x="0" y="6667560"/>
              <a:ext cx="914400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rcRect l="37" t="82121" r="-33" b="10782"/>
            <a:stretch/>
          </p:blipFill>
          <p:spPr>
            <a:xfrm>
              <a:off x="0" y="6732720"/>
              <a:ext cx="9144000" cy="15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"/>
          <p:cNvGrpSpPr/>
          <p:nvPr/>
        </p:nvGrpSpPr>
        <p:grpSpPr>
          <a:xfrm>
            <a:off x="-12600" y="0"/>
            <a:ext cx="9155160" cy="667800"/>
            <a:chOff x="-12600" y="0"/>
            <a:chExt cx="9155160" cy="667800"/>
          </a:xfrm>
        </p:grpSpPr>
        <p:grpSp>
          <p:nvGrpSpPr>
            <p:cNvPr id="94" name=""/>
            <p:cNvGrpSpPr/>
            <p:nvPr/>
          </p:nvGrpSpPr>
          <p:grpSpPr>
            <a:xfrm>
              <a:off x="-12600" y="450720"/>
              <a:ext cx="9144000" cy="217080"/>
              <a:chOff x="-12600" y="450720"/>
              <a:chExt cx="9144000" cy="217080"/>
            </a:xfrm>
          </p:grpSpPr>
          <p:pic>
            <p:nvPicPr>
              <p:cNvPr id="95" name="" descr=""/>
              <p:cNvPicPr/>
              <p:nvPr/>
            </p:nvPicPr>
            <p:blipFill>
              <a:blip r:embed="rId3"/>
              <a:srcRect l="0" t="10449" r="0" b="86513"/>
              <a:stretch/>
            </p:blipFill>
            <p:spPr>
              <a:xfrm>
                <a:off x="-12600" y="458640"/>
                <a:ext cx="914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" descr=""/>
              <p:cNvPicPr/>
              <p:nvPr/>
            </p:nvPicPr>
            <p:blipFill>
              <a:blip r:embed="rId4"/>
              <a:srcRect l="37" t="82121" r="-33" b="10782"/>
              <a:stretch/>
            </p:blipFill>
            <p:spPr>
              <a:xfrm rot="10800000">
                <a:off x="-12600" y="450360"/>
                <a:ext cx="9144000" cy="15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7" name=""/>
            <p:cNvSpPr/>
            <p:nvPr/>
          </p:nvSpPr>
          <p:spPr>
            <a:xfrm>
              <a:off x="-1440" y="0"/>
              <a:ext cx="9144000" cy="58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52280" y="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琥珀"/>
              </a:rPr>
              <a:t>乡愁何来：台湾问题的由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304920" y="838080"/>
            <a:ext cx="3200400" cy="26672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04920" y="40384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迷你简超粗圆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950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日，美国总统杜鲁门命令美国第七舰队侵入了台湾海峡，美国第十三航空队进驻了台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4572000" y="838080"/>
            <a:ext cx="3541680" cy="23781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72000" y="48157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迷你简超粗圆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954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月，美国又与台湾当局签订了所谓《共同防御条约》，将中国的台湾省置于美国的“保护”之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-12600" y="0"/>
            <a:ext cx="9155160" cy="667800"/>
            <a:chOff x="-12600" y="0"/>
            <a:chExt cx="9155160" cy="667800"/>
          </a:xfrm>
        </p:grpSpPr>
        <p:grpSp>
          <p:nvGrpSpPr>
            <p:cNvPr id="104" name=""/>
            <p:cNvGrpSpPr/>
            <p:nvPr/>
          </p:nvGrpSpPr>
          <p:grpSpPr>
            <a:xfrm>
              <a:off x="-12600" y="450720"/>
              <a:ext cx="9144000" cy="217080"/>
              <a:chOff x="-12600" y="450720"/>
              <a:chExt cx="9144000" cy="217080"/>
            </a:xfrm>
          </p:grpSpPr>
          <p:pic>
            <p:nvPicPr>
              <p:cNvPr id="105" name="" descr=""/>
              <p:cNvPicPr/>
              <p:nvPr/>
            </p:nvPicPr>
            <p:blipFill>
              <a:blip r:embed="rId1"/>
              <a:srcRect l="0" t="10449" r="0" b="86513"/>
              <a:stretch/>
            </p:blipFill>
            <p:spPr>
              <a:xfrm>
                <a:off x="-12600" y="458640"/>
                <a:ext cx="914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" descr=""/>
              <p:cNvPicPr/>
              <p:nvPr/>
            </p:nvPicPr>
            <p:blipFill>
              <a:blip r:embed="rId2"/>
              <a:srcRect l="37" t="82121" r="-33" b="10782"/>
              <a:stretch/>
            </p:blipFill>
            <p:spPr>
              <a:xfrm rot="10800000">
                <a:off x="-12600" y="450360"/>
                <a:ext cx="9144000" cy="15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7" name=""/>
            <p:cNvSpPr/>
            <p:nvPr/>
          </p:nvSpPr>
          <p:spPr>
            <a:xfrm>
              <a:off x="-1440" y="0"/>
              <a:ext cx="9144000" cy="58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0" y="6667560"/>
            <a:ext cx="9144000" cy="217440"/>
            <a:chOff x="0" y="6667560"/>
            <a:chExt cx="9144000" cy="217440"/>
          </a:xfrm>
        </p:grpSpPr>
        <p:pic>
          <p:nvPicPr>
            <p:cNvPr id="109" name="" descr=""/>
            <p:cNvPicPr/>
            <p:nvPr/>
          </p:nvPicPr>
          <p:blipFill>
            <a:blip r:embed="rId3"/>
            <a:srcRect l="0" t="10449" r="0" b="86513"/>
            <a:stretch/>
          </p:blipFill>
          <p:spPr>
            <a:xfrm rot="10800000">
              <a:off x="0" y="6667560"/>
              <a:ext cx="914400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4"/>
            <a:srcRect l="37" t="82121" r="-33" b="10782"/>
            <a:stretch/>
          </p:blipFill>
          <p:spPr>
            <a:xfrm>
              <a:off x="0" y="6732720"/>
              <a:ext cx="9144000" cy="15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"/>
          <p:cNvSpPr/>
          <p:nvPr/>
        </p:nvSpPr>
        <p:spPr>
          <a:xfrm>
            <a:off x="4357800" y="1371600"/>
            <a:ext cx="45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迷你简超粗圆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确立了要争取用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隶书"/>
              </a:rPr>
              <a:t>和平方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解放台湾的思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5" action="ppaction://hlinksldjump"/>
          </p:cNvPr>
          <p:cNvSpPr/>
          <p:nvPr/>
        </p:nvSpPr>
        <p:spPr>
          <a:xfrm>
            <a:off x="1526400" y="593640"/>
            <a:ext cx="271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660033"/>
                </a:solidFill>
                <a:latin typeface="隶书"/>
                <a:ea typeface="隶书"/>
              </a:rPr>
              <a:t>．新中国成立后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94080" y="5810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解放台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9720" y="1433520"/>
            <a:ext cx="359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660033"/>
                </a:solidFill>
                <a:latin typeface="隶书"/>
                <a:ea typeface="隶书"/>
              </a:rPr>
              <a:t>．</a:t>
            </a:r>
            <a:r>
              <a:rPr b="1" lang="zh-CN" sz="3200" spc="-1" strike="noStrike">
                <a:solidFill>
                  <a:srgbClr val="660033"/>
                </a:solidFill>
                <a:latin typeface="隶书"/>
                <a:ea typeface="隶书"/>
              </a:rPr>
              <a:t>20</a:t>
            </a:r>
            <a:r>
              <a:rPr b="1" lang="zh-CN" sz="3200" spc="-1" strike="noStrike">
                <a:solidFill>
                  <a:srgbClr val="660033"/>
                </a:solidFill>
                <a:latin typeface="隶书"/>
                <a:ea typeface="隶书"/>
              </a:rPr>
              <a:t>世纪</a:t>
            </a:r>
            <a:r>
              <a:rPr b="1" lang="zh-CN" sz="3200" spc="-1" strike="noStrike">
                <a:solidFill>
                  <a:srgbClr val="660033"/>
                </a:solidFill>
                <a:latin typeface="隶书"/>
                <a:ea typeface="隶书"/>
              </a:rPr>
              <a:t>50</a:t>
            </a:r>
            <a:r>
              <a:rPr b="1" lang="zh-CN" sz="3200" spc="-1" strike="noStrike">
                <a:solidFill>
                  <a:srgbClr val="660033"/>
                </a:solidFill>
                <a:latin typeface="隶书"/>
                <a:ea typeface="隶书"/>
              </a:rPr>
              <a:t>年代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6400" y="3102120"/>
            <a:ext cx="271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660033"/>
                </a:solidFill>
                <a:latin typeface="隶书"/>
                <a:ea typeface="隶书"/>
              </a:rPr>
              <a:t>．改革开放以后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54680" y="3063960"/>
            <a:ext cx="41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形成了“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隶书"/>
              </a:rPr>
              <a:t>和平统一，一国两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”的对台基本方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23400" y="4968000"/>
            <a:ext cx="266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660033"/>
                </a:solidFill>
                <a:latin typeface="隶书"/>
                <a:ea typeface="隶书"/>
              </a:rPr>
              <a:t>．</a:t>
            </a:r>
            <a:r>
              <a:rPr b="1" lang="zh-CN" sz="3200" spc="-1" strike="noStrike">
                <a:solidFill>
                  <a:srgbClr val="660033"/>
                </a:solidFill>
                <a:latin typeface="隶书"/>
                <a:ea typeface="隶书"/>
              </a:rPr>
              <a:t>1995</a:t>
            </a:r>
            <a:r>
              <a:rPr b="1" lang="zh-CN" sz="3200" spc="-1" strike="noStrike">
                <a:solidFill>
                  <a:srgbClr val="660033"/>
                </a:solidFill>
                <a:latin typeface="隶书"/>
                <a:ea typeface="隶书"/>
              </a:rPr>
              <a:t>年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24200" y="4892760"/>
            <a:ext cx="389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江泽民发展两岸关系的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隶书"/>
              </a:rPr>
              <a:t>八项主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4320" y="70200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毛泽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5600" y="265608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邓小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4920" y="455148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江泽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88360" y="907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超粗圆"/>
                <a:ea typeface="迷你简超粗圆"/>
              </a:rPr>
              <a:t>胡锦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914400"/>
            <a:ext cx="142920" cy="1219320"/>
          </a:xfrm>
          <a:custGeom>
            <a:avLst/>
            <a:gdLst>
              <a:gd name="textAreaLeft" fmla="*/ 91440 w 142920"/>
              <a:gd name="textAreaRight" fmla="*/ 143280 w 142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723080" y="4861080"/>
            <a:ext cx="485640" cy="3988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迷你简超粗圆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792920" y="5470560"/>
            <a:ext cx="485640" cy="3988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迷你简超粗圆"/>
              </a:rPr>
              <a:t>意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琥珀"/>
              </a:rPr>
              <a:t>何以解愁：大陆对台政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-12600" y="0"/>
            <a:ext cx="9155160" cy="667800"/>
            <a:chOff x="-12600" y="0"/>
            <a:chExt cx="9155160" cy="667800"/>
          </a:xfrm>
        </p:grpSpPr>
        <p:grpSp>
          <p:nvGrpSpPr>
            <p:cNvPr id="128" name=""/>
            <p:cNvGrpSpPr/>
            <p:nvPr/>
          </p:nvGrpSpPr>
          <p:grpSpPr>
            <a:xfrm>
              <a:off x="-12600" y="450720"/>
              <a:ext cx="9144000" cy="217080"/>
              <a:chOff x="-12600" y="450720"/>
              <a:chExt cx="9144000" cy="217080"/>
            </a:xfrm>
          </p:grpSpPr>
          <p:pic>
            <p:nvPicPr>
              <p:cNvPr id="129" name="" descr=""/>
              <p:cNvPicPr/>
              <p:nvPr/>
            </p:nvPicPr>
            <p:blipFill>
              <a:blip r:embed="rId1"/>
              <a:srcRect l="0" t="10449" r="0" b="86513"/>
              <a:stretch/>
            </p:blipFill>
            <p:spPr>
              <a:xfrm>
                <a:off x="-12600" y="458640"/>
                <a:ext cx="914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" descr=""/>
              <p:cNvPicPr/>
              <p:nvPr/>
            </p:nvPicPr>
            <p:blipFill>
              <a:blip r:embed="rId2"/>
              <a:srcRect l="37" t="82121" r="-33" b="10782"/>
              <a:stretch/>
            </p:blipFill>
            <p:spPr>
              <a:xfrm rot="10800000">
                <a:off x="-12600" y="450360"/>
                <a:ext cx="9144000" cy="15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1" name=""/>
            <p:cNvSpPr/>
            <p:nvPr/>
          </p:nvSpPr>
          <p:spPr>
            <a:xfrm>
              <a:off x="-1440" y="0"/>
              <a:ext cx="9144000" cy="58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0" y="6667560"/>
            <a:ext cx="9144000" cy="217440"/>
            <a:chOff x="0" y="6667560"/>
            <a:chExt cx="9144000" cy="217440"/>
          </a:xfrm>
        </p:grpSpPr>
        <p:pic>
          <p:nvPicPr>
            <p:cNvPr id="133" name="" descr=""/>
            <p:cNvPicPr/>
            <p:nvPr/>
          </p:nvPicPr>
          <p:blipFill>
            <a:blip r:embed="rId3"/>
            <a:srcRect l="0" t="10449" r="0" b="86513"/>
            <a:stretch/>
          </p:blipFill>
          <p:spPr>
            <a:xfrm rot="10800000">
              <a:off x="0" y="6667560"/>
              <a:ext cx="914400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4"/>
            <a:srcRect l="37" t="82121" r="-33" b="10782"/>
            <a:stretch/>
          </p:blipFill>
          <p:spPr>
            <a:xfrm>
              <a:off x="0" y="6732720"/>
              <a:ext cx="9144000" cy="15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"/>
          <p:cNvSpPr/>
          <p:nvPr/>
        </p:nvSpPr>
        <p:spPr>
          <a:xfrm>
            <a:off x="152280" y="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琥珀"/>
              </a:rPr>
              <a:t>何以解愁：海峡两岸的交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83080" y="765000"/>
            <a:ext cx="63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台湾当局调整“三不”政策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660033"/>
                </a:solidFill>
                <a:latin typeface="隶书"/>
                <a:ea typeface="隶书"/>
              </a:rPr>
              <a:t>1987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年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1948680"/>
            <a:ext cx="7315200" cy="5205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迷你简超粗圆"/>
              </a:rPr>
              <a:t>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迷你简超粗圆"/>
              </a:rPr>
              <a:t>1979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迷你简超粗圆"/>
              </a:rPr>
              <a:t>年元旦全国人大常委会发表《告台湾同胞书》以后，台湾当局提出“三不”政策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迷你简超粗圆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迷你简超粗圆"/>
              </a:rPr>
              <a:t>即：不接触、不谈判、不妥协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迷你简超粗圆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迷你简超粗圆"/>
              </a:rPr>
              <a:t>。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迷你简超粗圆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11800" y="3500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意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05120" y="35812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隶书"/>
              </a:rPr>
              <a:t>①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隶书"/>
              </a:rPr>
              <a:t>海峡两岸同胞近三十八年的隔绝状态被打破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隶书"/>
              </a:rPr>
              <a:t>②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隶书"/>
              </a:rPr>
              <a:t>两岸关系发生了历史性的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0" y="0"/>
            <a:ext cx="9155160" cy="667800"/>
            <a:chOff x="0" y="0"/>
            <a:chExt cx="9155160" cy="667800"/>
          </a:xfrm>
        </p:grpSpPr>
        <p:grpSp>
          <p:nvGrpSpPr>
            <p:cNvPr id="141" name=""/>
            <p:cNvGrpSpPr/>
            <p:nvPr/>
          </p:nvGrpSpPr>
          <p:grpSpPr>
            <a:xfrm>
              <a:off x="0" y="450720"/>
              <a:ext cx="9144000" cy="217080"/>
              <a:chOff x="0" y="450720"/>
              <a:chExt cx="9144000" cy="217080"/>
            </a:xfrm>
          </p:grpSpPr>
          <p:pic>
            <p:nvPicPr>
              <p:cNvPr id="142" name="" descr=""/>
              <p:cNvPicPr/>
              <p:nvPr/>
            </p:nvPicPr>
            <p:blipFill>
              <a:blip r:embed="rId1"/>
              <a:srcRect l="0" t="10449" r="0" b="86513"/>
              <a:stretch/>
            </p:blipFill>
            <p:spPr>
              <a:xfrm>
                <a:off x="0" y="458640"/>
                <a:ext cx="914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" descr=""/>
              <p:cNvPicPr/>
              <p:nvPr/>
            </p:nvPicPr>
            <p:blipFill>
              <a:blip r:embed="rId2"/>
              <a:srcRect l="37" t="82121" r="-33" b="10782"/>
              <a:stretch/>
            </p:blipFill>
            <p:spPr>
              <a:xfrm rot="10800000">
                <a:off x="0" y="450360"/>
                <a:ext cx="9144000" cy="15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4" name=""/>
            <p:cNvSpPr/>
            <p:nvPr/>
          </p:nvSpPr>
          <p:spPr>
            <a:xfrm>
              <a:off x="11160" y="0"/>
              <a:ext cx="9144000" cy="58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2600" y="6667560"/>
            <a:ext cx="9144000" cy="217440"/>
            <a:chOff x="12600" y="6667560"/>
            <a:chExt cx="9144000" cy="21744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rcRect l="0" t="10449" r="0" b="86513"/>
            <a:stretch/>
          </p:blipFill>
          <p:spPr>
            <a:xfrm rot="10800000">
              <a:off x="12600" y="6667560"/>
              <a:ext cx="914400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4"/>
            <a:srcRect l="37" t="82121" r="-33" b="10782"/>
            <a:stretch/>
          </p:blipFill>
          <p:spPr>
            <a:xfrm>
              <a:off x="12600" y="6732720"/>
              <a:ext cx="9144000" cy="152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2438280" y="2514600"/>
            <a:ext cx="2881440" cy="2881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119400" y="54853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海峡两岸关系协会徽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25120" y="465120"/>
            <a:ext cx="358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海基会和海协会的成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1461960"/>
            <a:ext cx="7391160" cy="5814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两岸授权两个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民间团体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开始进行经济性、事务性商谈和政治对话。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琥珀"/>
              </a:rPr>
              <a:t>何以解愁：海峡两岸的交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0" y="0"/>
            <a:ext cx="9155160" cy="667800"/>
            <a:chOff x="0" y="0"/>
            <a:chExt cx="9155160" cy="667800"/>
          </a:xfrm>
        </p:grpSpPr>
        <p:grpSp>
          <p:nvGrpSpPr>
            <p:cNvPr id="154" name=""/>
            <p:cNvGrpSpPr/>
            <p:nvPr/>
          </p:nvGrpSpPr>
          <p:grpSpPr>
            <a:xfrm>
              <a:off x="0" y="450720"/>
              <a:ext cx="9144000" cy="217080"/>
              <a:chOff x="0" y="450720"/>
              <a:chExt cx="9144000" cy="217080"/>
            </a:xfrm>
          </p:grpSpPr>
          <p:pic>
            <p:nvPicPr>
              <p:cNvPr id="155" name="" descr=""/>
              <p:cNvPicPr/>
              <p:nvPr/>
            </p:nvPicPr>
            <p:blipFill>
              <a:blip r:embed="rId1"/>
              <a:srcRect l="0" t="10449" r="0" b="86513"/>
              <a:stretch/>
            </p:blipFill>
            <p:spPr>
              <a:xfrm>
                <a:off x="0" y="458640"/>
                <a:ext cx="914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" descr=""/>
              <p:cNvPicPr/>
              <p:nvPr/>
            </p:nvPicPr>
            <p:blipFill>
              <a:blip r:embed="rId2"/>
              <a:srcRect l="37" t="82121" r="-33" b="10782"/>
              <a:stretch/>
            </p:blipFill>
            <p:spPr>
              <a:xfrm rot="10800000">
                <a:off x="0" y="450360"/>
                <a:ext cx="9144000" cy="15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7" name=""/>
            <p:cNvSpPr/>
            <p:nvPr/>
          </p:nvSpPr>
          <p:spPr>
            <a:xfrm>
              <a:off x="11160" y="0"/>
              <a:ext cx="9144000" cy="58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2600" y="6667560"/>
            <a:ext cx="9144000" cy="217440"/>
            <a:chOff x="12600" y="6667560"/>
            <a:chExt cx="9144000" cy="217440"/>
          </a:xfrm>
        </p:grpSpPr>
        <p:pic>
          <p:nvPicPr>
            <p:cNvPr id="159" name="" descr=""/>
            <p:cNvPicPr/>
            <p:nvPr/>
          </p:nvPicPr>
          <p:blipFill>
            <a:blip r:embed="rId3"/>
            <a:srcRect l="0" t="10449" r="0" b="86513"/>
            <a:stretch/>
          </p:blipFill>
          <p:spPr>
            <a:xfrm rot="10800000">
              <a:off x="12600" y="6667560"/>
              <a:ext cx="914400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4"/>
            <a:srcRect l="37" t="82121" r="-33" b="10782"/>
            <a:stretch/>
          </p:blipFill>
          <p:spPr>
            <a:xfrm>
              <a:off x="12600" y="6732720"/>
              <a:ext cx="9144000" cy="15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/>
          <p:nvPr/>
        </p:nvSpPr>
        <p:spPr>
          <a:xfrm>
            <a:off x="1176120" y="1647720"/>
            <a:ext cx="11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内容</a:t>
            </a: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09680" y="321552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双方的共识是“海峡两岸均</a:t>
            </a:r>
            <a:r>
              <a:rPr b="1" lang="zh-CN" sz="3600" spc="-1" strike="noStrike">
                <a:solidFill>
                  <a:srgbClr val="800000"/>
                </a:solidFill>
                <a:latin typeface="隶书"/>
                <a:ea typeface="隶书"/>
              </a:rPr>
              <a:t>坚持一个中国原则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努力谋求国家的统一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720" y="681120"/>
            <a:ext cx="19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九二共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琥珀"/>
              </a:rPr>
              <a:t>何以解愁：海峡两岸的交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0" y="0"/>
            <a:ext cx="9155160" cy="667800"/>
            <a:chOff x="0" y="0"/>
            <a:chExt cx="9155160" cy="667800"/>
          </a:xfrm>
        </p:grpSpPr>
        <p:grpSp>
          <p:nvGrpSpPr>
            <p:cNvPr id="166" name=""/>
            <p:cNvGrpSpPr/>
            <p:nvPr/>
          </p:nvGrpSpPr>
          <p:grpSpPr>
            <a:xfrm>
              <a:off x="0" y="450720"/>
              <a:ext cx="9144000" cy="217080"/>
              <a:chOff x="0" y="450720"/>
              <a:chExt cx="9144000" cy="217080"/>
            </a:xfrm>
          </p:grpSpPr>
          <p:pic>
            <p:nvPicPr>
              <p:cNvPr id="167" name="" descr=""/>
              <p:cNvPicPr/>
              <p:nvPr/>
            </p:nvPicPr>
            <p:blipFill>
              <a:blip r:embed="rId1"/>
              <a:srcRect l="0" t="10449" r="0" b="86513"/>
              <a:stretch/>
            </p:blipFill>
            <p:spPr>
              <a:xfrm>
                <a:off x="0" y="458640"/>
                <a:ext cx="914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" descr=""/>
              <p:cNvPicPr/>
              <p:nvPr/>
            </p:nvPicPr>
            <p:blipFill>
              <a:blip r:embed="rId2"/>
              <a:srcRect l="37" t="82121" r="-33" b="10782"/>
              <a:stretch/>
            </p:blipFill>
            <p:spPr>
              <a:xfrm rot="10800000">
                <a:off x="0" y="450360"/>
                <a:ext cx="9144000" cy="15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9" name=""/>
            <p:cNvSpPr/>
            <p:nvPr/>
          </p:nvSpPr>
          <p:spPr>
            <a:xfrm>
              <a:off x="11160" y="0"/>
              <a:ext cx="9144000" cy="58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2600" y="6667560"/>
            <a:ext cx="9144000" cy="217440"/>
            <a:chOff x="12600" y="6667560"/>
            <a:chExt cx="9144000" cy="217440"/>
          </a:xfrm>
        </p:grpSpPr>
        <p:pic>
          <p:nvPicPr>
            <p:cNvPr id="171" name="" descr=""/>
            <p:cNvPicPr/>
            <p:nvPr/>
          </p:nvPicPr>
          <p:blipFill>
            <a:blip r:embed="rId3"/>
            <a:srcRect l="0" t="10449" r="0" b="86513"/>
            <a:stretch/>
          </p:blipFill>
          <p:spPr>
            <a:xfrm rot="10800000">
              <a:off x="12600" y="6667560"/>
              <a:ext cx="914400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4"/>
            <a:srcRect l="37" t="82121" r="-33" b="10782"/>
            <a:stretch/>
          </p:blipFill>
          <p:spPr>
            <a:xfrm>
              <a:off x="12600" y="6732720"/>
              <a:ext cx="9144000" cy="15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3" name=""/>
          <p:cNvGrpSpPr/>
          <p:nvPr/>
        </p:nvGrpSpPr>
        <p:grpSpPr>
          <a:xfrm>
            <a:off x="395280" y="2514600"/>
            <a:ext cx="1726920" cy="1053360"/>
            <a:chOff x="395280" y="2514600"/>
            <a:chExt cx="1726920" cy="1053360"/>
          </a:xfrm>
        </p:grpSpPr>
        <p:sp>
          <p:nvSpPr>
            <p:cNvPr id="174" name=""/>
            <p:cNvSpPr/>
            <p:nvPr/>
          </p:nvSpPr>
          <p:spPr>
            <a:xfrm>
              <a:off x="395280" y="2514600"/>
              <a:ext cx="1655640" cy="1041480"/>
            </a:xfrm>
            <a:prstGeom prst="borderCallout2">
              <a:avLst>
                <a:gd name="adj1" fmla="val 18750"/>
                <a:gd name="adj2" fmla="val -8333"/>
                <a:gd name="adj3" fmla="val 10976"/>
                <a:gd name="adj4" fmla="val 117546"/>
                <a:gd name="adj5" fmla="val 110824"/>
                <a:gd name="adj6" fmla="val 13068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37840" y="2635200"/>
              <a:ext cx="158436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汪道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海协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7186680" y="2057400"/>
            <a:ext cx="1728720" cy="1008000"/>
            <a:chOff x="7186680" y="2057400"/>
            <a:chExt cx="1728720" cy="1008000"/>
          </a:xfrm>
        </p:grpSpPr>
        <p:sp>
          <p:nvSpPr>
            <p:cNvPr id="177" name=""/>
            <p:cNvSpPr/>
            <p:nvPr/>
          </p:nvSpPr>
          <p:spPr>
            <a:xfrm>
              <a:off x="7186680" y="2057400"/>
              <a:ext cx="1650960" cy="1008000"/>
            </a:xfrm>
            <a:prstGeom prst="borderCallout2">
              <a:avLst>
                <a:gd name="adj1" fmla="val 18750"/>
                <a:gd name="adj2" fmla="val -8333"/>
                <a:gd name="adj3" fmla="val 11337"/>
                <a:gd name="adj4" fmla="val -27597"/>
                <a:gd name="adj5" fmla="val 149134"/>
                <a:gd name="adj6" fmla="val -51152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331040" y="2130480"/>
              <a:ext cx="158436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辜振甫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海基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110040" y="762120"/>
            <a:ext cx="18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时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4360" y="3989520"/>
            <a:ext cx="159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9080" y="5208480"/>
            <a:ext cx="18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1000" y="604800"/>
            <a:ext cx="19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汪辜会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2280" y="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琥珀"/>
              </a:rPr>
              <a:t>何以解愁：海峡两岸的交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2590920" y="1600200"/>
            <a:ext cx="3809880" cy="3400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062680" y="762120"/>
            <a:ext cx="14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993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528804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海峡两岸关系的发展迈出了历史性的重要一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C SYSTEM</cp:lastModifiedBy>
  <dcterms:modified xsi:type="dcterms:W3CDTF">2014-04-14T11:31:11Z</dcterms:modified>
  <cp:revision>7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