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78E-7C02-4F06-98A4-5E744848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80E-FF55-47D9-867B-EAF863CD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373-E729-41FD-B4AF-9CEC9B46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EE8-B873-4B00-8608-C387DE8F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0FFA-9AD0-4B29-BFE4-5220C98E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4DB8-6AD0-476B-B619-57407AF2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3F0-B7C5-4C3A-9686-DD1966DB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510-C5B4-4FFF-B8EA-525D0770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AE9-C53B-4AB0-B343-5B19A5EA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CB13-226D-4FCE-B1E7-6773B05A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B4E1-2954-43B4-AE2C-6CFA7A0A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98FB-3DD3-485F-AF57-9F42B47B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5B39-BFCF-4BEA-B1B0-19854E5D3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1484280"/>
            <a:ext cx="6697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</a:t>
            </a:r>
            <a:r>
              <a:rPr b="1" lang="zh-CN" sz="8800" spc="-1" strike="noStrike">
                <a:solidFill>
                  <a:srgbClr val="ff0000"/>
                </a:solidFill>
                <a:latin typeface="华文隶书"/>
                <a:ea typeface="华文隶书"/>
              </a:rPr>
              <a:t>第十四课        钢  铁  长  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333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中国空军的发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09800" y="1905120"/>
            <a:ext cx="5324400" cy="3047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1081080"/>
            <a:ext cx="9144000" cy="5776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0" y="1127160"/>
            <a:ext cx="9144000" cy="5730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4000" y="234936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导弹部队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1700280"/>
            <a:ext cx="432000" cy="3024000"/>
          </a:xfrm>
          <a:custGeom>
            <a:avLst/>
            <a:gdLst>
              <a:gd name="textAreaLeft" fmla="*/ 276120 w 432000"/>
              <a:gd name="textAreaRight" fmla="*/ 432360 w 43200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1557360"/>
            <a:ext cx="6248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95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年开始组建导弹战略部队（二炮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年代以后，装备了中程导弹、远程导弹、洲际导弹和导弹核武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兵和和舰船1146-2.jpg (5602 bytes)"/>
          <p:cNvPicPr/>
          <p:nvPr/>
        </p:nvPicPr>
        <p:blipFill>
          <a:blip r:embed="rId2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9480" y="53341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Arial"/>
                <a:ea typeface="幼圆"/>
              </a:rPr>
              <a:t>美军向广岛投下原子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32000" y="170028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强大的国防力量是保障国家繁荣；维护社会稳定；保护人民生命财产安全的基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404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小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981000"/>
            <a:ext cx="302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国 防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2060640"/>
            <a:ext cx="71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一个国家为了保卫自己的领土主权，防备外来侵略，而拥有的和军事有关的一切力量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2492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军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1773360"/>
            <a:ext cx="73080" cy="2879640"/>
          </a:xfrm>
          <a:custGeom>
            <a:avLst/>
            <a:gdLst>
              <a:gd name="textAreaLeft" fmla="*/ 46800 w 73080"/>
              <a:gd name="textAreaRight" fmla="*/ 73440 w 7308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1844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武器装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3573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战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2492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1989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2492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88000" y="1989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2492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36000" y="256536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32720" y="198900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4005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33577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二维平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59280" y="400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328464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三维立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278136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三维立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1341360"/>
            <a:ext cx="358920" cy="4248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110520 h 4248360"/>
              <a:gd name="textAreaBottom" fmla="*/ 4137840 h 42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8000" y="1268280"/>
            <a:ext cx="51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海军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2924280"/>
            <a:ext cx="604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陆军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927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472428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空军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48360" y="1052640"/>
            <a:ext cx="21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弱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48360" y="4797360"/>
            <a:ext cx="21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弱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80360" y="2924280"/>
            <a:ext cx="21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强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2060640"/>
            <a:ext cx="792360" cy="936720"/>
          </a:xfrm>
          <a:prstGeom prst="upArrow">
            <a:avLst>
              <a:gd name="adj1" fmla="val 50000"/>
              <a:gd name="adj2" fmla="val 2955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95640" y="3716280"/>
            <a:ext cx="720720" cy="1008000"/>
          </a:xfrm>
          <a:prstGeom prst="downArrow">
            <a:avLst>
              <a:gd name="adj1" fmla="val 50000"/>
              <a:gd name="adj2" fmla="val 349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98900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民海军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90792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58920" y="83664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支海军：华东军区海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42320" y="2205000"/>
            <a:ext cx="15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新建海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360" y="1557360"/>
            <a:ext cx="295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北海舰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东海舰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南海舰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1628640"/>
            <a:ext cx="144360" cy="201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1700280"/>
            <a:ext cx="144360" cy="1942920"/>
          </a:xfrm>
          <a:custGeom>
            <a:avLst/>
            <a:gdLst>
              <a:gd name="textAreaLeft" fmla="*/ 0 w 144360"/>
              <a:gd name="textAreaRight" fmla="*/ 52200 w 14436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17720" y="2276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新中国成立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2000" y="3716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代装备了我国自造的核潜艇。                                              海军多兵种：舰艇部队、潜艇部队、海军航空兵、海军陆战队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959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476360" y="5661000"/>
            <a:ext cx="59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92360" y="5373720"/>
            <a:ext cx="6551640" cy="69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鸦片战争前的中国海军军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48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中国海军的发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26028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海军的未来发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270828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人民空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1844640"/>
            <a:ext cx="7238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陆军基础上建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代以后装备了自制的歼击机、轰炸机、强击机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改革开放后现代化装备加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03280" y="1989000"/>
            <a:ext cx="289080" cy="2684520"/>
          </a:xfrm>
          <a:custGeom>
            <a:avLst/>
            <a:gdLst>
              <a:gd name="textAreaLeft" fmla="*/ 184680 w 289080"/>
              <a:gd name="textAreaRight" fmla="*/ 289080 w 289080"/>
              <a:gd name="textAreaTop" fmla="*/ 69840 h 2684520"/>
              <a:gd name="textAreaBottom" fmla="*/ 2614680 h 268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11-18T20:59:43Z</dcterms:created>
  <dc:creator>wangyu</dc:creator>
  <dc:description/>
  <dc:language>en-US</dc:language>
  <cp:lastModifiedBy>微软用户</cp:lastModifiedBy>
  <dcterms:modified xsi:type="dcterms:W3CDTF">2014-04-08T03:07:11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