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84C-C404-4EBA-9539-CFA03A1E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4BC-EAAB-489A-94DB-84BDE50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085-F326-442E-B5FE-27A48D98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EA2-D663-42BB-9005-9B2A8B47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8AD-3459-42D3-A0D9-20FA06D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F7-2CB2-4B9E-BDD6-2EA353E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8C7-0517-4E83-8CC0-D08D8969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F62-91C1-40C3-A9AC-A584894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F2F-65AF-4B11-9737-D5D95D1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89F-721D-4EE5-85E4-41F5956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E5B-A637-4E27-BD79-191D3D7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FF3-4046-4E14-8AB8-938B249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FC84-13E9-49D9-839F-C7070B6F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484280"/>
            <a:ext cx="66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十四课        钢  铁  长  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333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中国空军的发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09800" y="1905120"/>
            <a:ext cx="5324400" cy="3047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2349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导弹部队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700280"/>
            <a:ext cx="432000" cy="3024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55736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开始组建导弹战略部队（二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代以后，装备了中程导弹、远程导弹、洲际导弹和导弹核武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兵和和舰船1146-2.jpg (5602 bytes)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5334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美军向广岛投下原子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32000" y="170028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强大的国防力量是保障国家繁荣；维护社会稳定；保护人民生命财产安全的基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40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98100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 防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206064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一个国家为了保卫自己的领土主权，防备外来侵略，而拥有的和军事有关的一切力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492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军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773360"/>
            <a:ext cx="73080" cy="2879640"/>
          </a:xfrm>
          <a:custGeom>
            <a:avLst/>
            <a:gdLst>
              <a:gd name="textAreaLeft" fmla="*/ 46800 w 73080"/>
              <a:gd name="textAreaRight" fmla="*/ 73440 w 730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84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武器装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35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战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1989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2565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989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357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二维平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00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3284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三维立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2781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三维立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1341360"/>
            <a:ext cx="358920" cy="4248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126828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924280"/>
            <a:ext cx="60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陆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47242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空军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105264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弱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4797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弱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2924280"/>
            <a:ext cx="21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强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2060640"/>
            <a:ext cx="792360" cy="936720"/>
          </a:xfrm>
          <a:prstGeom prst="upArrow">
            <a:avLst>
              <a:gd name="adj1" fmla="val 50000"/>
              <a:gd name="adj2" fmla="val 29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71628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989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海军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90792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83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支海军：华东军区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42320" y="220500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建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1557360"/>
            <a:ext cx="295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海舰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1628640"/>
            <a:ext cx="144360" cy="201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700280"/>
            <a:ext cx="144360" cy="194292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1772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新中国成立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716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代装备了我国自造的核潜艇。                                              海军多兵种：舰艇部队、潜艇部队、海军航空兵、海军陆战队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59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476360" y="5661000"/>
            <a:ext cx="59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5373720"/>
            <a:ext cx="6551640" cy="69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鸦片战争前的中国海军军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中国海军的发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26028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海军的未来发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708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民空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844640"/>
            <a:ext cx="7238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陆军基础上建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代以后装备了自制的歼击机、轰炸机、强击机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革开放后现代化装备加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989000"/>
            <a:ext cx="289080" cy="26845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9840 h 2684520"/>
              <a:gd name="textAreaBottom" fmla="*/ 2614680 h 268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11-18T20:59:43Z</dcterms:created>
  <dc:creator>wangyu</dc:creator>
  <dc:description/>
  <dc:language>en-US</dc:language>
  <cp:lastModifiedBy>微软用户</cp:lastModifiedBy>
  <dcterms:modified xsi:type="dcterms:W3CDTF">2014-04-08T03:07:1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