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gif" ContentType="image/gif"/>
  <Override PartName="/ppt/media/image4.jpeg" ContentType="image/jpeg"/>
  <Override PartName="/ppt/media/image23.gif" ContentType="image/gif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type.wav" ContentType="audio/x-wav"/>
  <Override PartName="/ppt/media/image17.png" ContentType="image/png"/>
  <Override PartName="/ppt/media/image21.png" ContentType="image/png"/>
  <Override PartName="/ppt/media/image16.gif" ContentType="image/gif"/>
  <Override PartName="/ppt/media/image14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EB5E-4815-4991-AD9C-3A556C431D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F9D7-15CC-4BE2-AF59-CB7A9A661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5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月，刚刚做完阑尾炎手术，凑巧躲过暗杀的周恩来又参加了万隆会议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幼圆"/>
                <a:ea typeface="幼圆"/>
              </a:rPr>
              <a:t>什么叫</a:t>
            </a:r>
            <a:r>
              <a:rPr b="1" lang="zh-CN" sz="1200" spc="-1" strike="noStrike">
                <a:solidFill>
                  <a:srgbClr val="0000cc"/>
                </a:solidFill>
                <a:latin typeface="Arial"/>
                <a:ea typeface="幼圆"/>
              </a:rPr>
              <a:t>“</a:t>
            </a:r>
            <a:r>
              <a:rPr b="1" lang="zh-CN" sz="1200" spc="-1" strike="noStrike">
                <a:solidFill>
                  <a:srgbClr val="0000cc"/>
                </a:solidFill>
                <a:latin typeface="幼圆"/>
                <a:ea typeface="幼圆"/>
              </a:rPr>
              <a:t>求同存异</a:t>
            </a:r>
            <a:r>
              <a:rPr b="1" lang="zh-CN" sz="1200" spc="-1" strike="noStrike">
                <a:solidFill>
                  <a:srgbClr val="0000cc"/>
                </a:solidFill>
                <a:latin typeface="Arial"/>
                <a:ea typeface="幼圆"/>
              </a:rPr>
              <a:t>”</a:t>
            </a:r>
            <a:r>
              <a:rPr b="1" lang="zh-CN" sz="1200" spc="-1" strike="noStrike">
                <a:solidFill>
                  <a:srgbClr val="0000cc"/>
                </a:solidFill>
                <a:latin typeface="幼圆"/>
                <a:ea typeface="幼圆"/>
              </a:rPr>
              <a:t>？请结合万隆会议的主题谈谈你的理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366-C70A-41ED-8782-A570E90A2F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634B-C425-4D3E-8565-90B422C60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7686-8463-459F-AA2E-9AA1D314C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27C0-A770-4C91-8D26-49A6E13D00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4B43-C34C-4DD5-9D15-03A9308BF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B34-45C3-4715-AC48-54A93655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DB4-6C4F-4CAF-B876-30416A4B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C41-E5EC-4332-962D-C25BEB47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22D-DB33-4084-BF04-49D90D15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BB4-FE7F-4884-9276-EF9A238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F05-4CEA-4C84-AF42-32F35C40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B3D-4919-4F74-8530-46DD00CC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7C5-128E-4414-8E7A-B8BE479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446-8786-4B32-B75C-FAC92DDE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CEC-0C65-44F0-8AFE-1AE50416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BED-2CF2-4C8B-A70F-AE322D7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D74-D5B8-4D29-BA53-7A53A25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B22-482F-4F68-BBEE-725E01F215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~2Z){X{A(IUMI0$Z2$J(`H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500120" y="142920"/>
            <a:ext cx="607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万隆会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643200" y="165888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955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500280" y="3571920"/>
            <a:ext cx="36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亚非国际会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3714840" y="44290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保卫和平、争取民族独立和发展民族经济等共同关心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71280" y="1500120"/>
            <a:ext cx="350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地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参与国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讨论主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00280" y="2658960"/>
            <a:ext cx="51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印度尼西亚的万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2857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巴基斯坦发言人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认为：亚非人民当前的任务不是反对殖民主义、争取独立，而是同美国联合起来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对共产主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9288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伊拉克发言人</a:t>
            </a:r>
            <a:r>
              <a:rPr b="1" lang="zh-CN" sz="2400" spc="-1" strike="noStrike">
                <a:solidFill>
                  <a:srgbClr val="c0504d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认为：当今世界上存在着三股扰乱和平和谐的国际性势力，而第三股就是共产主义，共产党已经创造了一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形式的殖民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我们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号召非共产党国家认真对待共产主义危险的严重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428616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黑体"/>
                <a:ea typeface="黑体"/>
              </a:rPr>
              <a:t>泰国发言人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为：中国成立傣族自治区使我们泰国受到颠覆活动的威胁。中国“没有宗教自由”，“利用国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万华侨的双重国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搞颠覆活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060720" y="214200"/>
            <a:ext cx="266364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历史再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428840" y="1995480"/>
            <a:ext cx="7000920" cy="1922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Calibri"/>
              </a:rPr>
              <a:t>帝国主义国家利用各国间的矛盾和分歧进行挑拨的阴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36360" y="201600"/>
            <a:ext cx="1547640" cy="1282680"/>
            <a:chOff x="36360" y="201600"/>
            <a:chExt cx="1547640" cy="1282680"/>
          </a:xfrm>
        </p:grpSpPr>
        <p:pic>
          <p:nvPicPr>
            <p:cNvPr id="138" name="Picture 8" descr="book9"/>
            <p:cNvPicPr/>
            <p:nvPr/>
          </p:nvPicPr>
          <p:blipFill>
            <a:blip r:embed="rId1"/>
            <a:stretch/>
          </p:blipFill>
          <p:spPr>
            <a:xfrm>
              <a:off x="36360" y="201600"/>
              <a:ext cx="15476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9"/>
            <p:cNvSpPr/>
            <p:nvPr/>
          </p:nvSpPr>
          <p:spPr>
            <a:xfrm>
              <a:off x="289080" y="568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共同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Object 2"/>
          <p:cNvGraphicFramePr/>
          <p:nvPr/>
        </p:nvGraphicFramePr>
        <p:xfrm>
          <a:off x="7539120" y="4191120"/>
          <a:ext cx="1319040" cy="168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9120" y="4191120"/>
                    <a:ext cx="13190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11"/>
          <p:cNvSpPr/>
          <p:nvPr/>
        </p:nvSpPr>
        <p:spPr>
          <a:xfrm>
            <a:off x="118728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彩云"/>
              </a:rPr>
              <a:t>下面让我们来看一下总理是怎么说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57200" y="191628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中国代表团是来求团结而不是吵架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是来求同而不是立异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的会议应该求同存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周恩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WordArt 14" descr=""/>
          <p:cNvPicPr/>
          <p:nvPr/>
        </p:nvPicPr>
        <p:blipFill>
          <a:blip r:embed="rId4"/>
          <a:stretch/>
        </p:blipFill>
        <p:spPr>
          <a:xfrm>
            <a:off x="858960" y="3565440"/>
            <a:ext cx="605952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1280" y="3230640"/>
            <a:ext cx="928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00120" y="1571760"/>
            <a:ext cx="7572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经历相同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曾经受到帝国主义的侵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500120" y="2428920"/>
            <a:ext cx="7286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面临问题相同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卫和平，争取民族独立，发展民族经济等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42920" y="6040440"/>
            <a:ext cx="85716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585800" y="5006880"/>
            <a:ext cx="357192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社会制度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571760" y="6149880"/>
            <a:ext cx="355752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建设道路不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stars"/>
          <p:cNvPicPr/>
          <p:nvPr/>
        </p:nvPicPr>
        <p:blipFill>
          <a:blip r:embed="rId1"/>
          <a:stretch/>
        </p:blipFill>
        <p:spPr>
          <a:xfrm>
            <a:off x="785880" y="3878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2"/>
          <p:cNvSpPr/>
          <p:nvPr/>
        </p:nvSpPr>
        <p:spPr>
          <a:xfrm>
            <a:off x="71280" y="1944720"/>
            <a:ext cx="928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142920" y="4826160"/>
            <a:ext cx="8650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0" y="714240"/>
            <a:ext cx="8469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矩形 19" descr=""/>
          <p:cNvPicPr/>
          <p:nvPr/>
        </p:nvPicPr>
        <p:blipFill>
          <a:blip r:embed="rId2"/>
          <a:stretch/>
        </p:blipFill>
        <p:spPr>
          <a:xfrm>
            <a:off x="596880" y="-291960"/>
            <a:ext cx="7504200" cy="166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500120" y="3714840"/>
            <a:ext cx="7215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愿望相同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亚非国家团结一致，共同反对殖民主义，谋求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13"/>
          <p:cNvSpPr/>
          <p:nvPr/>
        </p:nvSpPr>
        <p:spPr>
          <a:xfrm>
            <a:off x="1000080" y="1500120"/>
            <a:ext cx="428760" cy="27147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714760"/>
              <a:gd name="textAreaBottom" fmla="*/ 270360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5400" y="10800"/>
                  <a:pt x="0" y="10800"/>
                </a:cubicBezTo>
                <a:cubicBezTo>
                  <a:pt x="54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左大括号 14"/>
          <p:cNvSpPr/>
          <p:nvPr/>
        </p:nvSpPr>
        <p:spPr>
          <a:xfrm>
            <a:off x="1000080" y="5143680"/>
            <a:ext cx="500040" cy="15714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571400"/>
              <a:gd name="textAreaBottom" fmla="*/ 15584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122560" y="714240"/>
            <a:ext cx="509256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万隆精神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pic>
        <p:nvPicPr>
          <p:cNvPr id="160" name="Picture 3" descr="stars"/>
          <p:cNvPicPr/>
          <p:nvPr/>
        </p:nvPicPr>
        <p:blipFill>
          <a:blip r:embed="rId1"/>
          <a:stretch/>
        </p:blipFill>
        <p:spPr>
          <a:xfrm>
            <a:off x="5940360" y="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4"/>
          <p:cNvSpPr txBox="1"/>
          <p:nvPr/>
        </p:nvSpPr>
        <p:spPr>
          <a:xfrm>
            <a:off x="1044720" y="2786040"/>
            <a:ext cx="717048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亚非人民团结一致，保卫世界和平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增进各国人民间友谊的精神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称为“万隆精神”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国总理的发言应受到最大的重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尼赫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747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个演说是对抨击中国的人一个很好的答复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吴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4859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恩来并不打算改变任何一个坚持反共立场的领导人的态度，但他改变了会议的航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美国记者的评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8"/>
          <p:cNvSpPr txBox="1"/>
          <p:nvPr/>
        </p:nvSpPr>
        <p:spPr>
          <a:xfrm>
            <a:off x="468360" y="115920"/>
            <a:ext cx="302400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思维延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39840" y="1643040"/>
            <a:ext cx="880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人说，弱国无外交，你认为国家有、无外交的重要因素是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展望未来，你认为怎样才能在今后的发展中不断提高我国的国际地位，在国际交往中有更好的发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357200" y="1933560"/>
            <a:ext cx="540000" cy="1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1285920" y="3786120"/>
            <a:ext cx="695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三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09680" y="2714760"/>
            <a:ext cx="61920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二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1309680" y="4786200"/>
            <a:ext cx="619200" cy="5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四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300320" y="5757840"/>
            <a:ext cx="699840" cy="528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黑体"/>
              </a:rPr>
              <a:t>五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857680" y="1643040"/>
            <a:ext cx="3466800" cy="64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一条外交新政策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643120" y="2714760"/>
            <a:ext cx="450072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两个国家表敌友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2895480" y="3714840"/>
            <a:ext cx="3533760" cy="704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三国总理齐声明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2967120" y="4738680"/>
            <a:ext cx="346212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四字方针万隆定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2895480" y="5757840"/>
            <a:ext cx="3429000" cy="600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五项原则促和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177" name="WordArt 44"/>
          <p:cNvSpPr txBox="1"/>
          <p:nvPr/>
        </p:nvSpPr>
        <p:spPr>
          <a:xfrm>
            <a:off x="457200" y="0"/>
            <a:ext cx="2114640" cy="15462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89808" dir="483908" blurRad="0" rotWithShape="0">
                    <a:srgbClr val="800080"/>
                  </a:outerShdw>
                </a:effectLst>
                <a:latin typeface="隶书"/>
              </a:rPr>
              <a:t>小结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89808" dir="483908" blurRad="0" rotWithShape="0">
                  <a:srgbClr val="800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80880" y="0"/>
            <a:ext cx="855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  <a:ea typeface="楷体_GB2312"/>
              </a:rPr>
              <a:t>联合国为周恩来降半旗</a:t>
            </a:r>
            <a:r>
              <a:rPr b="0" lang="zh-CN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0" y="533520"/>
            <a:ext cx="914400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周恩来逝世时，联合国总部门前的联合国旗降了半旗。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联合国成立以来，世界上有许多国家的元首先后去世，联合国还没有为谁下过半旗。一些国家的外交官向联合国总部发出质问：我们的国家元首去世，联合国的大旗升得那么高，中国的总理去世，为什么要为他下半旗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时的联合国秘书长瓦尔德海姆站出来，在联合国大厦门前的台阶上发表了一次极短的演讲，总共不过一分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国下半旗，这是我决定的，原因有二：一是，中国是一个文明古国，她的金银财宝多得不计其数，她使用的人民币多得我们数不过来。可是她的周总理没有一分钱存款！二是，中国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口占世界人口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是她的周总理没有一个孩子。你们任何国家的元首，如果能做到其中一条，在他逝世之日，总部将照样为他降半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503280" y="73512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们中国一向反对美国，为什么还要使用美国制造的商品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68360" y="152712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事实的确如此。诸位请看，这支派克笔就是美国制造的，但大家有所不知，这可是在抗美援朝战场上缴获的战利品啊！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3280" y="239544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到底有多少人民币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66560" y="281772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国人民银行货币资金嘛，有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角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。中国人民银行发行面额为十元、五元、二元、一元、五角、二角、一角、五分、二分、一分的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种主辅币人民币，合计为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角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39640" y="40464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西方人走路总是挺起胸堂，中国人走路总是弯腰驼背，这是为什么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68360" y="48387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是因为我们中国人正在走上坡路，而你们西方人正在走下坡路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539640" y="55594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记者问：我们美国人走的是公路，你们中国人为什么走的是马路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95280" y="62848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我们走的是马克思主义道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3"/>
          <p:cNvSpPr txBox="1"/>
          <p:nvPr/>
        </p:nvSpPr>
        <p:spPr>
          <a:xfrm>
            <a:off x="108000" y="23760"/>
            <a:ext cx="30956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周恩来外交智慧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南京条约的签订现场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50" name="Text Box 27"/>
          <p:cNvSpPr/>
          <p:nvPr/>
        </p:nvSpPr>
        <p:spPr>
          <a:xfrm>
            <a:off x="1714680" y="5929200"/>
            <a:ext cx="6286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南京条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签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3"/>
          <p:cNvGrpSpPr/>
          <p:nvPr/>
        </p:nvGrpSpPr>
        <p:grpSpPr>
          <a:xfrm>
            <a:off x="0" y="0"/>
            <a:ext cx="9144000" cy="6682320"/>
            <a:chOff x="0" y="0"/>
            <a:chExt cx="9144000" cy="6682320"/>
          </a:xfrm>
        </p:grpSpPr>
        <p:pic>
          <p:nvPicPr>
            <p:cNvPr id="52" name="Picture 21" descr="10556587_999794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857200"/>
            </a:xfrm>
            <a:prstGeom prst="rect">
              <a:avLst/>
            </a:prstGeom>
            <a:ln w="12600">
              <a:solidFill>
                <a:srgbClr val="ffcc00"/>
              </a:solidFill>
              <a:miter/>
            </a:ln>
          </p:spPr>
        </p:pic>
        <p:sp>
          <p:nvSpPr>
            <p:cNvPr id="53" name="Text Box 28"/>
            <p:cNvSpPr/>
            <p:nvPr/>
          </p:nvSpPr>
          <p:spPr>
            <a:xfrm>
              <a:off x="1571400" y="5857200"/>
              <a:ext cx="600084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辛丑条约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签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2" descr="a4_82_37_01200000012881120792371292422_s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55" name="Text Box 29"/>
          <p:cNvSpPr/>
          <p:nvPr/>
        </p:nvSpPr>
        <p:spPr>
          <a:xfrm>
            <a:off x="1857240" y="5929200"/>
            <a:ext cx="5715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马关条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签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4"/>
          <p:cNvSpPr txBox="1"/>
          <p:nvPr/>
        </p:nvSpPr>
        <p:spPr>
          <a:xfrm>
            <a:off x="3214800" y="714240"/>
            <a:ext cx="2394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不平等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" name="WordArt 25"/>
          <p:cNvSpPr txBox="1"/>
          <p:nvPr/>
        </p:nvSpPr>
        <p:spPr>
          <a:xfrm>
            <a:off x="500040" y="214200"/>
            <a:ext cx="2394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不独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8" name="WordArt 26"/>
          <p:cNvSpPr txBox="1"/>
          <p:nvPr/>
        </p:nvSpPr>
        <p:spPr>
          <a:xfrm>
            <a:off x="6072120" y="1071720"/>
            <a:ext cx="295452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无自主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21276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十世纪在美国人心目中最伟大的人物</a:t>
            </a: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富兰克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罗斯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弗拉基米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伊里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列宁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温斯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丘吉尔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毛泽东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圣雄甘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约瑟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斯大林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迷你简毡笔黑"/>
                <a:ea typeface="迷你简毡笔黑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迷你简毡笔黑"/>
                <a:ea typeface="迷你简毡笔黑"/>
              </a:rPr>
              <a:t>周恩来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德怀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艾森豪威尔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戴高乐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伍德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毡笔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威尔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12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457200" y="106668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和平共处五项原则的首次提出是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周恩来接见印度代表团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周恩来访问印度、缅甸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日内瓦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195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年万隆会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RW_001"/>
          <p:cNvPicPr/>
          <p:nvPr/>
        </p:nvPicPr>
        <p:blipFill>
          <a:blip r:embed="rId2"/>
          <a:stretch/>
        </p:blipFill>
        <p:spPr>
          <a:xfrm>
            <a:off x="457200" y="2133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12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152280" y="365040"/>
            <a:ext cx="8991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万隆会议上，中国代表团提出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同存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针，这里的同包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１）相同的遭受殖民侵略的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２）维护民族独立，发展民族经济的     共同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３）相同的社会制度和意识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４）保卫和平的共同的愿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RW_001"/>
          <p:cNvPicPr/>
          <p:nvPr/>
        </p:nvPicPr>
        <p:blipFill>
          <a:blip r:embed="rId2"/>
          <a:stretch/>
        </p:blipFill>
        <p:spPr>
          <a:xfrm>
            <a:off x="762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RW_001"/>
          <p:cNvPicPr/>
          <p:nvPr/>
        </p:nvPicPr>
        <p:blipFill>
          <a:blip r:embed="rId3"/>
          <a:stretch/>
        </p:blipFill>
        <p:spPr>
          <a:xfrm>
            <a:off x="7621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RW_001"/>
          <p:cNvPicPr/>
          <p:nvPr/>
        </p:nvPicPr>
        <p:blipFill>
          <a:blip r:embed="rId4"/>
          <a:stretch/>
        </p:blipFill>
        <p:spPr>
          <a:xfrm>
            <a:off x="762120" y="5334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-3240" y="-324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4648320" y="4267080"/>
            <a:ext cx="2011320" cy="143640"/>
            <a:chOff x="4648320" y="4267080"/>
            <a:chExt cx="2011320" cy="143640"/>
          </a:xfrm>
        </p:grpSpPr>
        <p:sp>
          <p:nvSpPr>
            <p:cNvPr id="62" name="Rectangle 5"/>
            <p:cNvSpPr/>
            <p:nvPr/>
          </p:nvSpPr>
          <p:spPr>
            <a:xfrm flipV="1" rot="5400000">
              <a:off x="5652720" y="3403800"/>
              <a:ext cx="52200" cy="19609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 flipV="1" rot="5400000">
              <a:off x="5626800" y="3288240"/>
              <a:ext cx="54000" cy="20113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7" descr="pic_70254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4800600" y="0"/>
            <a:ext cx="4343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本政府为代表中华人民共和国全国人民的唯一政府。凡愿遵守平等、互利及互相尊重领土主权等项原则的任何外国政府，本政府均愿与之建立外交关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7143840" y="2643120"/>
            <a:ext cx="2262240" cy="213120"/>
            <a:chOff x="7143840" y="2643120"/>
            <a:chExt cx="2262240" cy="213120"/>
          </a:xfrm>
        </p:grpSpPr>
        <p:sp>
          <p:nvSpPr>
            <p:cNvPr id="67" name="Rectangle 10"/>
            <p:cNvSpPr/>
            <p:nvPr/>
          </p:nvSpPr>
          <p:spPr>
            <a:xfrm flipV="1" rot="5400000">
              <a:off x="8264520" y="1714320"/>
              <a:ext cx="77400" cy="2205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1"/>
            <p:cNvSpPr/>
            <p:nvPr/>
          </p:nvSpPr>
          <p:spPr>
            <a:xfrm flipV="1" rot="5400000">
              <a:off x="8235000" y="1551960"/>
              <a:ext cx="79920" cy="22622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2"/>
          <p:cNvGrpSpPr/>
          <p:nvPr/>
        </p:nvGrpSpPr>
        <p:grpSpPr>
          <a:xfrm>
            <a:off x="4952880" y="3351960"/>
            <a:ext cx="5834160" cy="219600"/>
            <a:chOff x="4952880" y="3351960"/>
            <a:chExt cx="5834160" cy="219600"/>
          </a:xfrm>
        </p:grpSpPr>
        <p:sp>
          <p:nvSpPr>
            <p:cNvPr id="70" name="Rectangle 13"/>
            <p:cNvSpPr/>
            <p:nvPr/>
          </p:nvSpPr>
          <p:spPr>
            <a:xfrm flipV="1" rot="5400000">
              <a:off x="7903080" y="687960"/>
              <a:ext cx="79200" cy="5688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4"/>
            <p:cNvSpPr/>
            <p:nvPr/>
          </p:nvSpPr>
          <p:spPr>
            <a:xfrm flipV="1" rot="5400000">
              <a:off x="7828920" y="475200"/>
              <a:ext cx="81720" cy="58341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5"/>
          <p:cNvGrpSpPr/>
          <p:nvPr/>
        </p:nvGrpSpPr>
        <p:grpSpPr>
          <a:xfrm>
            <a:off x="4952880" y="4000680"/>
            <a:ext cx="5691240" cy="213120"/>
            <a:chOff x="4952880" y="4000680"/>
            <a:chExt cx="5691240" cy="213120"/>
          </a:xfrm>
        </p:grpSpPr>
        <p:sp>
          <p:nvSpPr>
            <p:cNvPr id="73" name="Rectangle 16"/>
            <p:cNvSpPr/>
            <p:nvPr/>
          </p:nvSpPr>
          <p:spPr>
            <a:xfrm flipV="1" rot="5400000">
              <a:off x="7830720" y="1400400"/>
              <a:ext cx="77400" cy="5548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 flipV="1" rot="5400000">
              <a:off x="7758360" y="1194840"/>
              <a:ext cx="79920" cy="56912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8"/>
          <p:cNvSpPr/>
          <p:nvPr/>
        </p:nvSpPr>
        <p:spPr>
          <a:xfrm>
            <a:off x="0" y="0"/>
            <a:ext cx="5410080" cy="1739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新中国的外交政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9"/>
          <p:cNvSpPr txBox="1"/>
          <p:nvPr/>
        </p:nvSpPr>
        <p:spPr>
          <a:xfrm rot="21327600">
            <a:off x="303120" y="705960"/>
            <a:ext cx="488952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+mn-ea"/>
              </a:rPr>
              <a:t>独立 自主 和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+mn-ea"/>
              <a:ea typeface="+mn-e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8"/>
          <p:cNvGrpSpPr/>
          <p:nvPr/>
        </p:nvGrpSpPr>
        <p:grpSpPr>
          <a:xfrm>
            <a:off x="285840" y="-18360"/>
            <a:ext cx="8857440" cy="6530760"/>
            <a:chOff x="285840" y="-18360"/>
            <a:chExt cx="8857440" cy="6530760"/>
          </a:xfrm>
        </p:grpSpPr>
        <p:pic>
          <p:nvPicPr>
            <p:cNvPr id="78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803880"/>
              <a:ext cx="8432280" cy="49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16"/>
            <p:cNvGrpSpPr/>
            <p:nvPr/>
          </p:nvGrpSpPr>
          <p:grpSpPr>
            <a:xfrm>
              <a:off x="1522440" y="6031800"/>
              <a:ext cx="4019400" cy="453240"/>
              <a:chOff x="1522440" y="6031800"/>
              <a:chExt cx="4019400" cy="453240"/>
            </a:xfrm>
          </p:grpSpPr>
          <p:sp>
            <p:nvSpPr>
              <p:cNvPr id="80" name="Text Box 5"/>
              <p:cNvSpPr/>
              <p:nvPr/>
            </p:nvSpPr>
            <p:spPr>
              <a:xfrm>
                <a:off x="2338920" y="6031800"/>
                <a:ext cx="32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社会主义阵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6"/>
              <p:cNvSpPr/>
              <p:nvPr/>
            </p:nvSpPr>
            <p:spPr>
              <a:xfrm>
                <a:off x="1522440" y="6071040"/>
                <a:ext cx="564840" cy="414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7"/>
            <p:cNvGrpSpPr/>
            <p:nvPr/>
          </p:nvGrpSpPr>
          <p:grpSpPr>
            <a:xfrm>
              <a:off x="4801680" y="6078960"/>
              <a:ext cx="4341600" cy="433440"/>
              <a:chOff x="4801680" y="6078960"/>
              <a:chExt cx="4341600" cy="433440"/>
            </a:xfrm>
          </p:grpSpPr>
          <p:sp>
            <p:nvSpPr>
              <p:cNvPr id="83" name="Text Box 8"/>
              <p:cNvSpPr/>
              <p:nvPr/>
            </p:nvSpPr>
            <p:spPr>
              <a:xfrm>
                <a:off x="5619960" y="6078960"/>
                <a:ext cx="352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  <a:ea typeface="黑体"/>
                  </a:rPr>
                  <a:t>资本主义阵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9"/>
              <p:cNvSpPr/>
              <p:nvPr/>
            </p:nvSpPr>
            <p:spPr>
              <a:xfrm>
                <a:off x="4801680" y="6142320"/>
                <a:ext cx="564840" cy="37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11"/>
            <p:cNvSpPr/>
            <p:nvPr/>
          </p:nvSpPr>
          <p:spPr>
            <a:xfrm>
              <a:off x="2913120" y="2325240"/>
              <a:ext cx="11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Calibri"/>
                </a:rPr>
                <a:t>苏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2996640" y="286128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</a:rPr>
                <a:t>中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6800400" y="271728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美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2420280" y="-18360"/>
              <a:ext cx="410688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华文行楷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华文行楷"/>
                </a:rPr>
                <a:t>二战后国际形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09480" y="1828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50年代周边形势3"/>
          <p:cNvPicPr/>
          <p:nvPr/>
        </p:nvPicPr>
        <p:blipFill>
          <a:blip r:embed="rId1"/>
          <a:stretch/>
        </p:blipFill>
        <p:spPr>
          <a:xfrm>
            <a:off x="0" y="189000"/>
            <a:ext cx="8459640" cy="617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美国旗"/>
          <p:cNvPicPr/>
          <p:nvPr/>
        </p:nvPicPr>
        <p:blipFill>
          <a:blip r:embed="rId2"/>
          <a:stretch/>
        </p:blipFill>
        <p:spPr>
          <a:xfrm>
            <a:off x="6588000" y="1413000"/>
            <a:ext cx="820800" cy="54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美国旗"/>
          <p:cNvPicPr/>
          <p:nvPr/>
        </p:nvPicPr>
        <p:blipFill>
          <a:blip r:embed="rId3"/>
          <a:stretch/>
        </p:blipFill>
        <p:spPr>
          <a:xfrm>
            <a:off x="5651640" y="2852640"/>
            <a:ext cx="453960" cy="30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美国旗"/>
          <p:cNvPicPr/>
          <p:nvPr/>
        </p:nvPicPr>
        <p:blipFill>
          <a:blip r:embed="rId4"/>
          <a:stretch/>
        </p:blipFill>
        <p:spPr>
          <a:xfrm>
            <a:off x="5796000" y="3573360"/>
            <a:ext cx="453960" cy="3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美国旗"/>
          <p:cNvPicPr/>
          <p:nvPr/>
        </p:nvPicPr>
        <p:blipFill>
          <a:blip r:embed="rId5"/>
          <a:stretch/>
        </p:blipFill>
        <p:spPr>
          <a:xfrm>
            <a:off x="5940360" y="1557360"/>
            <a:ext cx="453960" cy="29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美国旗"/>
          <p:cNvPicPr/>
          <p:nvPr/>
        </p:nvPicPr>
        <p:blipFill>
          <a:blip r:embed="rId6"/>
          <a:stretch/>
        </p:blipFill>
        <p:spPr>
          <a:xfrm>
            <a:off x="2963880" y="3052800"/>
            <a:ext cx="453960" cy="29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美国旗"/>
          <p:cNvPicPr/>
          <p:nvPr/>
        </p:nvPicPr>
        <p:blipFill>
          <a:blip r:embed="rId7"/>
          <a:stretch/>
        </p:blipFill>
        <p:spPr>
          <a:xfrm>
            <a:off x="6084720" y="4149720"/>
            <a:ext cx="82080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美国旗"/>
          <p:cNvPicPr/>
          <p:nvPr/>
        </p:nvPicPr>
        <p:blipFill>
          <a:blip r:embed="rId8"/>
          <a:stretch/>
        </p:blipFill>
        <p:spPr>
          <a:xfrm>
            <a:off x="4572000" y="4076640"/>
            <a:ext cx="453960" cy="3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美国旗"/>
          <p:cNvPicPr/>
          <p:nvPr/>
        </p:nvPicPr>
        <p:blipFill>
          <a:blip r:embed="rId9"/>
          <a:stretch/>
        </p:blipFill>
        <p:spPr>
          <a:xfrm>
            <a:off x="3851280" y="4005360"/>
            <a:ext cx="453960" cy="29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美国旗"/>
          <p:cNvPicPr/>
          <p:nvPr/>
        </p:nvPicPr>
        <p:blipFill>
          <a:blip r:embed="rId10"/>
          <a:stretch/>
        </p:blipFill>
        <p:spPr>
          <a:xfrm>
            <a:off x="1285920" y="2535120"/>
            <a:ext cx="820800" cy="542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7866360" y="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建国初期美国对华军事包围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建国第一年同中国建交的国家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6153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42920" y="642960"/>
            <a:ext cx="8869320" cy="61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联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加利亚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罗马尼亚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匈牙利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朝鲜民主主义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捷克斯洛伐克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波兰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蒙古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意志民主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尔巴尼亚社会主义人民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越南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印度共和国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瑞典王国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丹麦王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缅甸联邦社会主义共和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瑞士联盟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芬兰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503000" y="-71280"/>
            <a:ext cx="61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幼圆"/>
                <a:ea typeface="幼圆"/>
              </a:rPr>
              <a:t>新中国成立初同中国建立外交关系的</a:t>
            </a:r>
            <a:r>
              <a:rPr b="1" lang="en-US" sz="3600" spc="-1" strike="noStrike">
                <a:solidFill>
                  <a:srgbClr val="0000cc"/>
                </a:solidFill>
                <a:latin typeface="幼圆"/>
                <a:ea typeface="幼圆"/>
              </a:rPr>
              <a:t>17</a:t>
            </a:r>
            <a:r>
              <a:rPr b="1" lang="zh-CN" sz="3600" spc="-1" strike="noStrike">
                <a:solidFill>
                  <a:srgbClr val="0000cc"/>
                </a:solidFill>
                <a:latin typeface="幼圆"/>
                <a:ea typeface="幼圆"/>
              </a:rPr>
              <a:t>个国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-214200" y="1285920"/>
            <a:ext cx="85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428840" y="18446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黑体"/>
                <a:ea typeface="黑体"/>
              </a:rPr>
              <a:t>1953</a:t>
            </a:r>
            <a:r>
              <a:rPr b="1" lang="zh-CN" sz="3200" spc="-1" strike="noStrike">
                <a:solidFill>
                  <a:srgbClr val="953735"/>
                </a:solidFill>
                <a:latin typeface="黑体"/>
                <a:ea typeface="黑体"/>
              </a:rPr>
              <a:t>年首次提出，</a:t>
            </a:r>
            <a:r>
              <a:rPr b="1" lang="en-US" sz="3200" spc="-1" strike="noStrike">
                <a:solidFill>
                  <a:srgbClr val="953735"/>
                </a:solidFill>
                <a:latin typeface="黑体"/>
                <a:ea typeface="黑体"/>
              </a:rPr>
              <a:t>1954</a:t>
            </a:r>
            <a:r>
              <a:rPr b="1" lang="zh-CN" sz="3200" spc="-1" strike="noStrike">
                <a:solidFill>
                  <a:srgbClr val="953735"/>
                </a:solidFill>
                <a:latin typeface="黑体"/>
                <a:ea typeface="黑体"/>
              </a:rPr>
              <a:t>年正式提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500120" y="2571840"/>
            <a:ext cx="7358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互相尊重领土主权、互不侵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互不干涉内政、平等互惠、和平共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500120" y="41432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3735"/>
                </a:solidFill>
                <a:latin typeface="黑体"/>
                <a:ea typeface="黑体"/>
              </a:rPr>
              <a:t>成为处理国与国之间关系的基本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示 10" descr=""/>
          <p:cNvPicPr/>
          <p:nvPr/>
        </p:nvPicPr>
        <p:blipFill>
          <a:blip r:embed="rId1"/>
          <a:stretch/>
        </p:blipFill>
        <p:spPr>
          <a:xfrm>
            <a:off x="103320" y="103320"/>
            <a:ext cx="8559720" cy="18842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142920" y="18543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b8"/>
                </a:solidFill>
                <a:latin typeface="黑体"/>
                <a:ea typeface="黑体"/>
              </a:rPr>
              <a:t>时间</a:t>
            </a:r>
            <a:r>
              <a:rPr b="1" lang="en-US" sz="3600" spc="-1" strike="noStrike">
                <a:solidFill>
                  <a:srgbClr val="003db8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42920" y="41403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b8"/>
                </a:solidFill>
                <a:latin typeface="黑体"/>
                <a:ea typeface="黑体"/>
              </a:rPr>
              <a:t>意义</a:t>
            </a:r>
            <a:r>
              <a:rPr b="1" lang="en-US" sz="3600" spc="-1" strike="noStrike">
                <a:solidFill>
                  <a:srgbClr val="003db8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71280" y="278604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db8"/>
                </a:solidFill>
                <a:latin typeface="黑体"/>
                <a:ea typeface="黑体"/>
              </a:rPr>
              <a:t>内容</a:t>
            </a:r>
            <a:r>
              <a:rPr b="1" lang="en-US" sz="3600" spc="-1" strike="noStrike">
                <a:solidFill>
                  <a:srgbClr val="003db8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10" descr=""/>
          <p:cNvPicPr/>
          <p:nvPr/>
        </p:nvPicPr>
        <p:blipFill>
          <a:blip r:embed="rId2"/>
          <a:stretch/>
        </p:blipFill>
        <p:spPr>
          <a:xfrm>
            <a:off x="274680" y="5059440"/>
            <a:ext cx="852156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中国同印度就西藏问题签字"/>
          <p:cNvPicPr/>
          <p:nvPr/>
        </p:nvPicPr>
        <p:blipFill>
          <a:blip r:embed="rId1"/>
          <a:stretch/>
        </p:blipFill>
        <p:spPr>
          <a:xfrm>
            <a:off x="642960" y="2708280"/>
            <a:ext cx="7358040" cy="3592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95280" y="907920"/>
            <a:ext cx="813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我国政府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印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西藏地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关系问题进行谈判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周恩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次提出和平共处五项原则作为处理两国关系的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79680" y="6303960"/>
            <a:ext cx="5421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中国同印度就西藏问题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846440" y="-20520"/>
            <a:ext cx="5451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ea"/>
              </a:rPr>
              <a:t>和平共处五项原则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008680" y="1428840"/>
            <a:ext cx="1635120" cy="5713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14400" y="554688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周恩来访问印度、缅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08640" y="1125360"/>
            <a:ext cx="431928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周恩来访问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印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缅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印、中缅发表联合声明，正式确定和平共处五项原则作为指导中印、中缅两国关系的基本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778040" y="0"/>
            <a:ext cx="54514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ea"/>
              </a:rPr>
              <a:t>和平共处五项原则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819000"/>
            <a:ext cx="4313160" cy="29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Object 3" descr=""/>
          <p:cNvPicPr/>
          <p:nvPr/>
        </p:nvPicPr>
        <p:blipFill>
          <a:blip r:embed="rId2"/>
          <a:stretch/>
        </p:blipFill>
        <p:spPr>
          <a:xfrm>
            <a:off x="0" y="3851280"/>
            <a:ext cx="4317840" cy="30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0" y="5911920"/>
            <a:ext cx="434340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周恩来总理会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缅甸总理吴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2808360"/>
            <a:ext cx="434664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周恩来总理与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总理尼赫鲁会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5857920" y="3286080"/>
            <a:ext cx="1643040" cy="5256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2:22:50Z</dcterms:created>
  <dc:creator>YlmF</dc:creator>
  <dc:description/>
  <dc:language>en-US</dc:language>
  <cp:lastModifiedBy>Administrator</cp:lastModifiedBy>
  <dcterms:modified xsi:type="dcterms:W3CDTF">2014-05-13T04:56:58Z</dcterms:modified>
  <cp:revision>165</cp:revision>
  <dc:subject/>
  <dc:title>幻灯片 1</dc:title>
</cp:coreProperties>
</file>