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11280" y="401184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2840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5996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0864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1128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5996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0864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42560" y="549000"/>
            <a:ext cx="810108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840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1280" y="401184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840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5996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0864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128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5996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0864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42560" y="549000"/>
            <a:ext cx="810108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2840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6524640"/>
            <a:ext cx="8604360" cy="333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7308000" y="6597720"/>
            <a:ext cx="1621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Gulim"/>
              </a:rPr>
              <a:t>© 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山西省实验中学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Gulim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268280"/>
            <a:ext cx="799128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39640" y="6524640"/>
            <a:ext cx="8604360" cy="333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7308000" y="6597720"/>
            <a:ext cx="1621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山西省实验中学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Gulim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68360" y="1268280"/>
            <a:ext cx="799128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1640" y="2492280"/>
            <a:ext cx="655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6524640"/>
            <a:ext cx="8604360" cy="333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804720" y="6524640"/>
            <a:ext cx="212580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山西省实验中学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Gulim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68280"/>
            <a:ext cx="799128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3c05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88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480" y="2496960"/>
          <a:ext cx="869760" cy="4951440"/>
        </p:xfrm>
        <a:graphic>
          <a:graphicData uri="http://schemas.openxmlformats.org/drawingml/2006/table">
            <a:tbl>
              <a:tblPr/>
              <a:tblGrid>
                <a:gridCol w="869760"/>
              </a:tblGrid>
              <a:tr h="44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9b9b9b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0300" spc="-1" strike="noStrike">
                          <a:solidFill>
                            <a:srgbClr val="9b9b9b"/>
                          </a:solidFill>
                          <a:latin typeface="宋体"/>
                          <a:ea typeface="宋体"/>
                        </a:rPr>
                        <a:t> </a:t>
                      </a:r>
                      <a:r>
                        <a:rPr b="1" lang="zh-CN" sz="1000" spc="-1" strike="noStrike">
                          <a:solidFill>
                            <a:srgbClr val="9b9b9b"/>
                          </a:solidFill>
                          <a:latin typeface="宋体"/>
                          <a:ea typeface="宋体"/>
                        </a:rPr>
                        <a:t>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b9b9b"/>
                          </a:solidFill>
                          <a:latin typeface="宋体"/>
                          <a:ea typeface="宋体"/>
                        </a:rPr>
                        <a:t>2012NBA</a:t>
                      </a:r>
                      <a:r>
                        <a:rPr b="1" lang="zh-CN" sz="1000" spc="-1" strike="noStrike">
                          <a:solidFill>
                            <a:srgbClr val="9b9b9b"/>
                          </a:solidFill>
                          <a:latin typeface="宋体"/>
                          <a:ea typeface="宋体"/>
                        </a:rPr>
                        <a:t>中国赛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840360" cy="4508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24000" y="580536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2012NBA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中国赛海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3573360"/>
            <a:ext cx="81374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美国承认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  <a:ea typeface="楷体_GB2312"/>
              </a:rPr>
              <a:t>“中华人民共和国是中国的唯一合法政府”，“只有一个中国，台湾是中国的一部分”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197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美建交公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341360"/>
            <a:ext cx="8064360" cy="20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美方表示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  <a:ea typeface="楷体_GB2312"/>
              </a:rPr>
              <a:t>：“在台湾海峡两边的所有中国人都认为只有一个中国，台湾是中国的一部分。美国对这一立场不提出异议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197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美联合公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549360"/>
            <a:ext cx="7705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黑体"/>
              </a:rPr>
              <a:t>解读外交辞令</a:t>
            </a:r>
            <a:r>
              <a:rPr b="0" lang="zh-CN" sz="5400" spc="-1" strike="noStrike">
                <a:solidFill>
                  <a:srgbClr val="ff0000"/>
                </a:solidFill>
                <a:latin typeface="Verdana"/>
                <a:ea typeface="黑体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55640" y="1484280"/>
          <a:ext cx="8137080" cy="4320720"/>
        </p:xfrm>
        <a:graphic>
          <a:graphicData uri="http://schemas.openxmlformats.org/drawingml/2006/table">
            <a:tbl>
              <a:tblPr/>
              <a:tblGrid>
                <a:gridCol w="1627560"/>
                <a:gridCol w="6509520"/>
              </a:tblGrid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时 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中美建交过程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—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重大事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71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71.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72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79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258920" y="5281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大标宋简体"/>
              </a:rPr>
              <a:t>中美关系正常化的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2492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Garamond"/>
                <a:ea typeface="宋体"/>
              </a:rPr>
              <a:t>乒乓外交</a:t>
            </a:r>
            <a:r>
              <a:rPr b="1" lang="en-US" sz="3600" spc="-1" strike="noStrike">
                <a:solidFill>
                  <a:srgbClr val="0000ff"/>
                </a:solidFill>
                <a:latin typeface="Garamond"/>
                <a:ea typeface="宋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32846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Garamond"/>
                <a:ea typeface="宋体"/>
              </a:rPr>
              <a:t>基辛格秘密访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14972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Garamond"/>
                <a:ea typeface="宋体"/>
              </a:rPr>
              <a:t>美国总统尼克松访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0846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Garamond"/>
                <a:ea typeface="宋体"/>
              </a:rPr>
              <a:t>中美正式建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59280" y="619560"/>
            <a:ext cx="57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经典细隶书简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今与我新建交国家数目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413000"/>
          <a:ext cx="8496360" cy="49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8496360" cy="49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258920" y="1916280"/>
            <a:ext cx="180036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黑体"/>
              </a:rPr>
              <a:t>新建交国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Verdana"/>
                <a:ea typeface="楷体_GB2312"/>
              </a:rPr>
              <a:t>单位</a:t>
            </a:r>
            <a:r>
              <a:rPr b="1" lang="en-US" sz="1800" spc="-1" strike="noStrike">
                <a:solidFill>
                  <a:srgbClr val="0033cc"/>
                </a:solidFill>
                <a:latin typeface="Verdana"/>
                <a:ea typeface="楷体_GB2312"/>
              </a:rPr>
              <a:t>:</a:t>
            </a:r>
            <a:r>
              <a:rPr b="1" lang="zh-CN" sz="1800" spc="-1" strike="noStrike">
                <a:solidFill>
                  <a:srgbClr val="0033cc"/>
                </a:solidFill>
                <a:latin typeface="Verdana"/>
                <a:ea typeface="楷体_GB2312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16000" y="620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  <a:ea typeface="宋体"/>
              </a:rPr>
              <a:t>1972</a:t>
            </a: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宋体"/>
              </a:rPr>
              <a:t>年，日本首相田中角荣访华，中日建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4898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47640" y="260280"/>
            <a:ext cx="560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中国恢复在联合国合法席位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286160" cy="5157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716360" y="981000"/>
            <a:ext cx="4427640" cy="5157720"/>
          </a:xfrm>
          <a:prstGeom prst="cloudCallout">
            <a:avLst>
              <a:gd name="adj1" fmla="val -47240"/>
              <a:gd name="adj2" fmla="val 6095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外交部副部长乔冠华潇洒而豪放的大笑，被西方媒体描述为：“震碎了议会大厦的玻璃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620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  <a:ea typeface="宋体"/>
              </a:rPr>
              <a:t>1971</a:t>
            </a: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宋体"/>
              </a:rPr>
              <a:t>年中国恢复联合国合法席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268280"/>
          <a:ext cx="8496000" cy="4681440"/>
        </p:xfrm>
        <a:graphic>
          <a:graphicData uri="http://schemas.openxmlformats.org/drawingml/2006/table">
            <a:tbl>
              <a:tblPr/>
              <a:tblGrid>
                <a:gridCol w="1303920"/>
                <a:gridCol w="7192080"/>
              </a:tblGrid>
              <a:tr h="117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 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新时期外交成就大事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宋体"/>
                        </a:rPr>
                        <a:t>200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规模最大、规格最高的多边外交活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宋体"/>
                        </a:rPr>
                        <a:t>200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第一个以中国城市命名的国际组织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宋体"/>
                        </a:rPr>
                        <a:t>200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世界上最重要的国际性贸易组织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549360"/>
            <a:ext cx="792180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新时期的外交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楷体_GB2312"/>
              </a:rPr>
              <a:t>（改革开放以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50000" y="270828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  <a:ea typeface="宋体"/>
              </a:rPr>
              <a:t>AP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37893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Garamond"/>
                <a:ea typeface="宋体"/>
              </a:rPr>
              <a:t>上海合作组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5084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  <a:ea typeface="宋体"/>
              </a:rPr>
              <a:t>W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38200" y="0"/>
            <a:ext cx="7705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世界贸易组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9280" y="765000"/>
            <a:ext cx="8424720" cy="57610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方正大标宋简体"/>
                <a:ea typeface="方正大标宋简体"/>
              </a:rPr>
              <a:t>□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年来，在融入世界经济的进程中，中国国内生产总值从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万亿元人民币增至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2010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年近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万亿元人民币，增长了两倍多；出口增长了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4.9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倍，进口增长了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4.7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倍，世界排名由第六位跃升到了第二位。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方正大标宋简体"/>
                <a:ea typeface="方正大标宋简体"/>
              </a:rPr>
              <a:t>□</a:t>
            </a:r>
            <a:r>
              <a:rPr b="1" lang="en-US" sz="2800" spc="-1" strike="noStrike">
                <a:solidFill>
                  <a:srgbClr val="0000ff"/>
                </a:solidFill>
                <a:latin typeface="方正大标宋简体"/>
                <a:ea typeface="方正大标宋简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方正大标宋简体"/>
                <a:ea typeface="方正大标宋简体"/>
              </a:rPr>
              <a:t>年来，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中国成为全球经济复苏和发展的重要引擎。中国年均进口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7500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亿美元的商品，相当于为贸易伙伴创造了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1400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多万个就业岗位；中国物美价廉的商品也为国外消费者带来了巨大实惠，美国消费者过去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年节省开支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6000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多亿美元，欧盟每个家庭每年可节省开支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欧元。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2110320"/>
            <a:ext cx="7201080" cy="2531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中国需要世界，世界也需要中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那么我们需要一个什么样的世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2492280"/>
            <a:ext cx="8459640" cy="3672000"/>
          </a:xfrm>
          <a:prstGeom prst="rect">
            <a:avLst/>
          </a:prstGeom>
          <a:solidFill>
            <a:srgbClr val="ccffff">
              <a:alpha val="70000"/>
            </a:srgbClr>
          </a:solidFill>
          <a:ln w="9360">
            <a:solidFill>
              <a:srgbClr val="855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大标宋简体"/>
                <a:ea typeface="方正大标宋简体"/>
              </a:rPr>
              <a:t>和谐世界、和谐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请你列举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国积极承担大国责任的表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xin_12050317105745315171"/>
          <p:cNvPicPr/>
          <p:nvPr/>
        </p:nvPicPr>
        <p:blipFill>
          <a:blip r:embed="rId2"/>
          <a:stretch/>
        </p:blipFill>
        <p:spPr>
          <a:xfrm>
            <a:off x="4716360" y="62064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20006" t="0" r="20006" b="41823"/>
          <a:stretch/>
        </p:blipFill>
        <p:spPr>
          <a:xfrm>
            <a:off x="2627280" y="549360"/>
            <a:ext cx="1873440" cy="1439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rcRect l="15999" t="9964" r="15999" b="10344"/>
          <a:stretch/>
        </p:blipFill>
        <p:spPr>
          <a:xfrm>
            <a:off x="6516720" y="692280"/>
            <a:ext cx="1512720" cy="1236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rcRect l="12497" t="53505" r="14631" b="4694"/>
          <a:stretch/>
        </p:blipFill>
        <p:spPr>
          <a:xfrm>
            <a:off x="684360" y="476280"/>
            <a:ext cx="187164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721400" y="0"/>
            <a:ext cx="4422600" cy="3645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2133360"/>
            <a:ext cx="73436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黑体"/>
              </a:rPr>
              <a:t>第</a:t>
            </a:r>
            <a:r>
              <a:rPr b="0" lang="en-US" sz="8000" spc="-1" strike="noStrike">
                <a:solidFill>
                  <a:srgbClr val="0000ff"/>
                </a:solidFill>
                <a:latin typeface="黑体"/>
              </a:rPr>
              <a:t>16</a:t>
            </a:r>
            <a:r>
              <a:rPr b="0" lang="zh-CN" sz="8000" spc="-1" strike="noStrike">
                <a:solidFill>
                  <a:srgbClr val="0000ff"/>
                </a:solidFill>
                <a:latin typeface="黑体"/>
              </a:rPr>
              <a:t>课</a:t>
            </a:r>
            <a:br>
              <a:rPr sz="8000"/>
            </a:br>
            <a:r>
              <a:rPr b="0" lang="zh-CN" sz="8000" spc="-1" strike="noStrike">
                <a:solidFill>
                  <a:srgbClr val="0000ff"/>
                </a:solidFill>
                <a:latin typeface="黑体"/>
              </a:rPr>
              <a:t>外交事业的发展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95640" y="5589720"/>
            <a:ext cx="5148360" cy="126828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与美国缔结防御条约的国家和地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589720"/>
            <a:ext cx="4067280" cy="12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与中国建交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52360" y="260280"/>
            <a:ext cx="9144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年代中国的外交形势（困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707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师生互动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阅读中美关系正常化材料，回答问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材料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7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代美国还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深陷在越战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之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西欧日本的崛起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削弱了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二战后美国的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经济霸主地位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；在这一阶段的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美苏争霸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中，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美国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已经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力不从心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了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世界当代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材料二： 在新中国建立后的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中苏关系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历史上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9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是最黑暗的一年，用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剑拔弩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形容当时的情形一点儿也不过分。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---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往事不忍成历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材料三：即使没有苏联的威胁，我们也有必要在世界上两个最强大，人口最多的国家之间架起新的友谊桥梁。原因之一是，这种友好关系将会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给双方带来明显的经济和文化利益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—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美国总统尼克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）通过阅读材料并结合课本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页第二段正文和小字部分，请学生小组进行合作，分析中美关系改善的原因？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从美国方面考虑：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从中国方面考虑：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中美双方共同的要求：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）从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0---70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年代中美、中苏关系的演变过程中，你认为制定外交政策的最终出发点是什么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947880"/>
            <a:ext cx="8243640" cy="4468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558972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毛泽东在天安门城楼上会见斯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8028000" cy="34815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11280" y="4797360"/>
            <a:ext cx="79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1971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月，周恩来总理在北京会见格雷厄姆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斯廷霍文率领的美国乒乓球队代表团，打开了中美交往的大门。这就是著名的</a:t>
            </a:r>
            <a:r>
              <a:rPr b="1" lang="zh-CN" sz="2800" spc="-1" strike="noStrike">
                <a:solidFill>
                  <a:srgbClr val="0000ff"/>
                </a:solidFill>
                <a:latin typeface="Garamond"/>
                <a:ea typeface="宋体"/>
              </a:rPr>
              <a:t>“乒乓外交”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Garamond"/>
                <a:ea typeface="宋体"/>
              </a:rPr>
              <a:t>被誉为“小球影响大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549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197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月“乒乓外交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24360" y="476280"/>
            <a:ext cx="81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197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年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月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宋体"/>
              </a:rPr>
              <a:t>基辛格秘密访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8280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4797360"/>
            <a:ext cx="734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我走到扶梯最后一节，迈步向他走去时，特意伸出手去。我们双手一接触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时代结束了，另一个时代开始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克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88360" cy="360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549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197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年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月尼克松访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8:58:30Z</dcterms:created>
  <dc:creator>余正</dc:creator>
  <dc:description/>
  <dc:language>en-US</dc:language>
  <cp:lastModifiedBy>User</cp:lastModifiedBy>
  <dcterms:modified xsi:type="dcterms:W3CDTF">2013-07-15T02:29:11Z</dcterms:modified>
  <cp:revision>486</cp:revision>
  <dc:subject>新变化</dc:subject>
  <dc:title>第三课  战后资本主义的新变化</dc:title>
</cp:coreProperties>
</file>